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30F-0087-4EFC-A063-4A15DE4B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F87-8698-4EE7-94D9-1C429C56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3CF-08E6-47F3-83A1-4E9C5B88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832-ED8A-46CB-9908-326815AB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9C9-8243-4640-BE52-8F25879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0E6-3086-4E6F-9352-CDC1BDA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2B3-3E6C-474F-B410-BE4BD3C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D0F-3580-4159-BFF7-4D6243C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82B-BD94-4CE7-9B08-86BC50F2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772-4202-4BD1-92B6-883C502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817-9CB5-4999-A580-751B11E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93E-6976-41EA-BB88-00191B0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7E5-2967-44BF-9618-615B3048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29160" y="639936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in-Meng Ho, Texas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84D087-832B-4DBD-9964-E5E45D904D3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90760" y="6446880"/>
            <a:ext cx="93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8120" y="1673280"/>
            <a:ext cx="8832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Descrip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14880"/>
            <a:ext cx="6400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Instruments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00 TI Blv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las, Texas 752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14) 480-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mengho@t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71928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PEG2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Doc 34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640" y="1749600"/>
            <a:ext cx="81612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source rate = 5.12 Mb/s (V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by scenes, GOPs (group of pictures), and I/B/P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overhead (per MSDU) = 4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frame arrival time (to LLC) = 33.33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length distributions (in bi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58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27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160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3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829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162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495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28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60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97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30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162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495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32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0840" y="5927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256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922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591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56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89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26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58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91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24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2572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593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64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782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6120" y="594036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15 Frames = 0.5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560" y="5915160"/>
            <a:ext cx="782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84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324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544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80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213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546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879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212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548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81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14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546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883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216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548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81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82040" y="5927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42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308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640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9736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310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42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3084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644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77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310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43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18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979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440" y="594036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15 Frames = 0.5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1856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026560" y="571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040600" y="6031080"/>
                <a:ext cx="2113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49160" y="4408560"/>
                <a:ext cx="4367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9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3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199120" y="4381560"/>
                <a:ext cx="34718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7480" y="4362480"/>
            <a:ext cx="43610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4362480"/>
            <a:ext cx="355428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1352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Data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Emails, Web Requests/Objects,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File/Image Transfer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6280" y="2629080"/>
            <a:ext cx="8550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by (hierarchical) renewal processes per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als to LLC in bursts (which may be decomposed into fr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overhead included (absorbed) i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jitter evaluated with respect to bursts, but no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 (needed later) given on slide 5 under various channel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23960" y="5513400"/>
            <a:ext cx="567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1124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781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9323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977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57440" y="4979880"/>
                <a:ext cx="5317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49480" y="5535720"/>
                <a:ext cx="1125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56240" y="560700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540480" y="5113440"/>
                <a:ext cx="2113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008160" y="4979880"/>
                <a:ext cx="532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33920" y="4979880"/>
                <a:ext cx="5317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18040" y="4979880"/>
                <a:ext cx="532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35200" y="5535720"/>
                <a:ext cx="1125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994280" y="5535720"/>
                <a:ext cx="1125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43344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mail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7960" y="13636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going Emai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928800" y="3430440"/>
                <a:ext cx="40957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623960" y="247968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91124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89260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8952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21172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110280" y="2263680"/>
                <a:ext cx="1373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735520" y="3006720"/>
                <a:ext cx="1982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860400" y="2959200"/>
            <a:ext cx="4186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6320" y="2959200"/>
            <a:ext cx="2638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66800" y="190332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22600" y="190332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718080" y="18939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930920" y="190332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117880" y="246852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147840" y="246852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330800" y="2457360"/>
                <a:ext cx="66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353200" y="257328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740560" y="2079720"/>
                <a:ext cx="21096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699160" y="3398760"/>
                <a:ext cx="2592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28800" y="3049560"/>
                <a:ext cx="291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98320" y="3962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ing Emai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42840" y="5972040"/>
                <a:ext cx="443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 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623960" y="50641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91124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260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98952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21172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110280" y="4851360"/>
                <a:ext cx="1373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811840" y="5591160"/>
                <a:ext cx="1717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846000" y="5529240"/>
            <a:ext cx="457704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42000" y="5529240"/>
            <a:ext cx="257652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66800" y="448776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22600" y="448776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718080" y="44211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930920" y="448776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117880" y="505296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47840" y="505296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30800" y="5041800"/>
                <a:ext cx="66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53200" y="51577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740560" y="459252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756400" y="5954760"/>
                <a:ext cx="2536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322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923760" y="5619600"/>
                <a:ext cx="35308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43344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File/Image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7960" y="13921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Transf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42840" y="3344760"/>
                <a:ext cx="4381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490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623960" y="249408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1124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89260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8952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21172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081840" y="2278080"/>
                <a:ext cx="1373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735520" y="2978280"/>
                <a:ext cx="19274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666800" y="191772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622600" y="191772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718080" y="1908000"/>
                <a:ext cx="8175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0920" y="191772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117880" y="248292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47840" y="248292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330800" y="247176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53200" y="258768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740560" y="2093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08520" y="3313080"/>
                <a:ext cx="2575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54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928800" y="2978280"/>
                <a:ext cx="314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1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98680" y="3919680"/>
            <a:ext cx="25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 Transf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19080" y="5943600"/>
                <a:ext cx="428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3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623960" y="50785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1124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89260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8952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21172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081840" y="484812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3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30960" y="5497560"/>
                <a:ext cx="2136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863640" y="5502240"/>
            <a:ext cx="436068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62560" y="5502240"/>
            <a:ext cx="292896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666800" y="4430880"/>
                <a:ext cx="798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622600" y="4430880"/>
                <a:ext cx="8190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718080" y="44211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930920" y="4430880"/>
                <a:ext cx="817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117880" y="506736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7840" y="506736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330800" y="505620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353200" y="51721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740560" y="467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425920" y="5925960"/>
                <a:ext cx="28242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63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23760" y="5548320"/>
                <a:ext cx="3130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30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860400" y="2932200"/>
            <a:ext cx="447516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6320" y="2932200"/>
            <a:ext cx="263844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39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Web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9760" y="117792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Requests (L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47880" y="2620800"/>
                <a:ext cx="33940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947880" y="2944800"/>
                <a:ext cx="434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623960" y="217980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91124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9260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9895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117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39000" y="1960560"/>
                <a:ext cx="1371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673600" y="2570040"/>
                <a:ext cx="2195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863640" y="2571840"/>
            <a:ext cx="443052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24640" y="2557440"/>
            <a:ext cx="266832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666800" y="160344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622600" y="160344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718080" y="159372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930920" y="160344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117880" y="2168640"/>
                <a:ext cx="645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147840" y="2168640"/>
                <a:ext cx="665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330800" y="215748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598320" y="34322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Objects (L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7880" y="4932360"/>
                <a:ext cx="339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00000" y="5792760"/>
                <a:ext cx="3695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Weibull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666720" y="4448160"/>
            <a:ext cx="67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9540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73520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44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85200" y="421956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53040" y="4848120"/>
                <a:ext cx="2500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863640" y="4925880"/>
            <a:ext cx="40132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09560" y="3871800"/>
                <a:ext cx="800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407960" y="3990960"/>
                <a:ext cx="9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49560" y="3990960"/>
                <a:ext cx="100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91296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4680" y="4427640"/>
                <a:ext cx="819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54484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633760" y="4427640"/>
                <a:ext cx="876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494080" y="454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511440" y="4508640"/>
                <a:ext cx="647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 flipV="1">
            <a:off x="41958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97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68808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15440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956120" y="4427640"/>
                <a:ext cx="819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86280" y="3976560"/>
                <a:ext cx="20988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877000" y="4427640"/>
                <a:ext cx="87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3552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743880" y="4508640"/>
                <a:ext cx="666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944880" y="3871800"/>
                <a:ext cx="819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653000" y="3990960"/>
                <a:ext cx="933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284880" y="3990960"/>
                <a:ext cx="10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353200" y="2273400"/>
                <a:ext cx="2095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740560" y="170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21512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36596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919080" y="520056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923760" y="5499000"/>
                <a:ext cx="2590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914400" y="6084720"/>
                <a:ext cx="37530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70720" y="2927520"/>
                <a:ext cx="2593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087880" y="4911840"/>
            <a:ext cx="32050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110200" y="5504040"/>
                <a:ext cx="3243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129280" y="5829480"/>
                <a:ext cx="309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5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39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936960" y="551808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149800" y="6102360"/>
                <a:ext cx="1793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660920" y="5773680"/>
            <a:ext cx="144360" cy="360360"/>
          </a:xfrm>
          <a:custGeom>
            <a:avLst/>
            <a:gdLst>
              <a:gd name="textAreaLeft" fmla="*/ 19080 w 144360"/>
              <a:gd name="textAreaRight" fmla="*/ 125280 w 1443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39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Web Traffic Models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928800" y="4917960"/>
                <a:ext cx="34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890640" y="5778360"/>
                <a:ext cx="3543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Gamma: 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335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860400" y="4911840"/>
            <a:ext cx="375444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90640" y="5186520"/>
                <a:ext cx="3681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909720" y="5484960"/>
                <a:ext cx="339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Gamma: 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6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928800" y="6070680"/>
                <a:ext cx="358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957920" y="4848120"/>
                <a:ext cx="2519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4900680" y="4911840"/>
            <a:ext cx="33922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952880" y="5504040"/>
                <a:ext cx="3243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4948200" y="5829480"/>
                <a:ext cx="3335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084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959360" y="6102360"/>
                <a:ext cx="2063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149960" y="613728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599040" y="11779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Requests (H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938160" y="2620800"/>
                <a:ext cx="375624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8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933480" y="2944800"/>
                <a:ext cx="4457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623960" y="217980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91124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89260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895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2117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39000" y="1960560"/>
                <a:ext cx="1371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602320" y="2570040"/>
                <a:ext cx="23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863640" y="2571840"/>
            <a:ext cx="456084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7400" y="2557440"/>
            <a:ext cx="272556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66800" y="160344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622600" y="160344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718080" y="159372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0920" y="160344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117880" y="2168640"/>
                <a:ext cx="645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147840" y="2168640"/>
                <a:ext cx="665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330800" y="215748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597240" y="343224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Objects (H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6720" y="4448160"/>
            <a:ext cx="67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540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3520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44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7585200" y="421956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09560" y="3871800"/>
                <a:ext cx="800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407960" y="3990960"/>
                <a:ext cx="9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049560" y="3990960"/>
                <a:ext cx="100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91296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714680" y="4427640"/>
                <a:ext cx="819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4484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633760" y="4427640"/>
                <a:ext cx="876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494080" y="454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511440" y="4508640"/>
                <a:ext cx="647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 flipV="1">
            <a:off x="41958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97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668808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15440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956120" y="4427640"/>
                <a:ext cx="819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786280" y="3976560"/>
                <a:ext cx="20988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877000" y="4427640"/>
                <a:ext cx="87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73552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743880" y="4508640"/>
                <a:ext cx="666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944880" y="3871800"/>
                <a:ext cx="819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53000" y="3990960"/>
                <a:ext cx="933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284880" y="3990960"/>
                <a:ext cx="10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53200" y="2273400"/>
                <a:ext cx="2095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40560" y="170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721512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36596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599080" y="2927520"/>
                <a:ext cx="270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5800" y="833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Delay and Delay Variation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1560" y="2195640"/>
            <a:ext cx="78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rst of data arrivals (as illustrated by arrow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RVs    and     in the previous s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a “message”, such as a user request, an web ob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 embedded web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711600" y="2631960"/>
                <a:ext cx="2271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417920" y="2624040"/>
                <a:ext cx="40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777600" y="3824280"/>
            <a:ext cx="79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is “meaningful” to the user only after th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st of data arrivals has been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9040" y="4718160"/>
            <a:ext cx="78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delay variation should be evaluated 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, instead of “frames” into which messages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19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7480" y="1766880"/>
            <a:ext cx="82137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s as a starting common simulation scenario for evaluation of 802.11e QoS MAC propos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more details of the simulation scenario outlined as Model 3 in doc 196r2 for 11 Mbps home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s other simulation scenarios that are applicable to other PHY rates and operation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7480" y="1752480"/>
            <a:ext cx="82137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y of traffic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of traffic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Requests, Web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Transfers, Image Transf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9120" y="36590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14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1360" y="385920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1680" y="363060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846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84600" y="381168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846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8920" y="2287440"/>
            <a:ext cx="0" cy="145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2360" y="2868480"/>
            <a:ext cx="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9960" y="4421160"/>
            <a:ext cx="2202120" cy="14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79680" y="2077920"/>
            <a:ext cx="209556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45000">
            <a:off x="2450160" y="49035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2920" y="2430360"/>
            <a:ext cx="0" cy="124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2720" y="2271600"/>
            <a:ext cx="0" cy="146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0400" y="2388240"/>
            <a:ext cx="362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Reques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9160" y="2374560"/>
            <a:ext cx="3628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Objec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50920" y="4527720"/>
            <a:ext cx="0" cy="122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51080" y="45846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9320" y="456408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Reques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7160" y="4541040"/>
            <a:ext cx="3628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bjec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2392200"/>
            <a:ext cx="0" cy="1414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2720" y="237024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0400" y="243072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97880" y="2450880"/>
            <a:ext cx="3628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1960" y="412596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5880" y="3897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55640" y="435456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4640" y="412596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_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imulation Scenario for 802.11B (11 Mbps Home Environm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8880" y="4411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1200" y="4830480"/>
            <a:ext cx="3628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15880" y="183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2400" y="2135160"/>
            <a:ext cx="16866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0040" y="2135160"/>
            <a:ext cx="20430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-DCF mapp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560" y="5319720"/>
            <a:ext cx="34358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(dotted) links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le most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477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tal Traffic Sourc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11240" y="3083040"/>
            <a:ext cx="35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individual ra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44520" y="3514680"/>
                <a:ext cx="486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0920" y="346248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trols rate proportions among data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43080" y="3905280"/>
                <a:ext cx="253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62600" y="382428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trols aggregate data traffic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57480" y="4653000"/>
                <a:ext cx="361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λ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779040" y="2651040"/>
            <a:ext cx="722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Traffic (Webs + Em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File/Image Transf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12680" y="416736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aggregate r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00" y="1106640"/>
            <a:ext cx="210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tal Traf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12680" y="147492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Average aggregate r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8160" y="1973160"/>
                <a:ext cx="6862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PEG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PEG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49200" y="5192640"/>
                <a:ext cx="4434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852880" y="5238720"/>
            <a:ext cx="184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80000" y="5288040"/>
                <a:ext cx="2462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44520" y="6137280"/>
                <a:ext cx="4461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  <m:r>
                      <m:t xml:space="preserve"> </m:t>
                    </m:r>
                    <m:r>
                      <m:t xml:space="preserve">@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794200" y="60912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PEG2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0472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ome Heavy-Tailed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80" y="17496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normal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71440" y="2262240"/>
                <a:ext cx="4173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7680" y="2967120"/>
                <a:ext cx="6762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52600" y="1820880"/>
                <a:ext cx="329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436360" y="1749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" y="42116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to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39760" y="4867200"/>
                <a:ext cx="291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b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1320" y="5313240"/>
                <a:ext cx="1008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αb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73360" y="4275000"/>
                <a:ext cx="1065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656440" y="4211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50472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re Heavy-Tailed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8960" y="1749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bull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171440" y="2262240"/>
                <a:ext cx="3657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s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47600" y="3157560"/>
                <a:ext cx="396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62000" y="1820880"/>
                <a:ext cx="3391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150520" y="1749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2116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ma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35080" y="47070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z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12760" y="5532480"/>
                <a:ext cx="2019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92240" y="4273560"/>
                <a:ext cx="3313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12360" y="4211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708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oice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440" y="1728720"/>
            <a:ext cx="7295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e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ate (in each direction) = 64 kb/s (C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acket arrival time (to LLC) = 2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and WEP overhead (per MSDU) = 4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frame (MSDU) length = 20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23960" y="51307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1124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93544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98952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156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39000" y="4854600"/>
                <a:ext cx="1371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35040" y="46353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08160" y="5129280"/>
                <a:ext cx="665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153040" y="52243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40400" y="4730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89160" y="5129280"/>
                <a:ext cx="665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14880" y="5129280"/>
                <a:ext cx="664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27200" y="46353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46353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22760" y="46353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822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ideo Conferencing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Doc 34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800" y="2171880"/>
            <a:ext cx="7352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ate (in each direction) = 98.4 kb/s (C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arrival rate (to LLC) = 20 packet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and WEP overhead (per MSDU) = 4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frame (MSDU) length = 663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3960" y="55753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1124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544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8952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5476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39000" y="5335560"/>
                <a:ext cx="1373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547640" y="50799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5100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195880" y="56689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83240" y="5175360"/>
                <a:ext cx="21096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58880" y="50799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10080" y="5079960"/>
                <a:ext cx="95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76760" y="5079960"/>
                <a:ext cx="95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8924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25772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4:40:44Z</dcterms:created>
  <dc:creator>jinmengho</dc:creator>
  <dc:description/>
  <dc:language>en-US</dc:language>
  <cp:lastModifiedBy>jinmengho</cp:lastModifiedBy>
  <cp:lastPrinted>2000-11-03T21:22:42Z</cp:lastPrinted>
  <dcterms:modified xsi:type="dcterms:W3CDTF">2000-11-04T01:28:47Z</dcterms:modified>
  <cp:revision>72</cp:revision>
  <dc:subject/>
  <dc:title>No Slide Title</dc:title>
</cp:coreProperties>
</file>