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C76-1851-4881-94A2-35CAFA5B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14E-466D-423A-A0EE-E09454A4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90B-1BBA-41AC-853D-F92283D3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33B-886A-4280-ACFC-C89842D2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82A-3000-4BAF-934E-E6DEEC8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5BA-C70C-48B2-9129-B7892924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091-0E5F-406A-B3F7-CA8168C3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7AC-36B4-4CD4-9A85-90FFFF95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73C-A521-43C7-A68C-78C74CA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EF2-EC1F-4AF1-8194-DBF558A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8F5-F308-482B-B286-8F64511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F1F-2EC4-4EE5-9973-EAE01B1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54AF71-7EFB-4933-9D81-E9D2E42B8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amework for Evaluating 5GHz P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E98-B694-4FB0-8CD1-E1D8027CCE7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Lessons from 2.4G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wireless channel is inherently shared with all devices in a physical location -- i.e. there is only one “wire” that must be shared by all communications in a given ho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eting protocols in the same band, with similar capabilities (e.g. .11, Bluetooth, HomeRF) create many problem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erence, and the perception/fear of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reased volumes and increased costs due to frag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ck of inter-operability, reducing the utility of de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 confusion that delays adoption of new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cost for multi-mode devices and supporting legacy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ing the above problems i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standards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we do better at 5GHz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9BE-241A-4142-873A-F8C175596A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Opportunity and Pe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ly two primary types of WLAN standard compete in the 5.15-5.35 GHz band:  802.11a and Hiperlan2 (MMAC is similar to the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.11a, Hiperlan2, MMAC, and 5GWLIAG are all working at creating a single worldwide standard by merging these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ternational regulatory recognition of 5GHz wireless networking, the industry must speak with one vo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there are discussions of standardizing new types of system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ith similar performance and capabil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is ban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.16 Fixed Wireless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.15 Personal Area Network (High Rate and Low R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RF MM? (most likely to operate at 2.4GH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930-3016-40F6-BEBF-3C909F5DB6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’s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ect the valuable resource of radio spectrum.  We can’t afford the luxury of competing standards -- Token ring and Ethernet PARs would never have been approved if they were intending to use the same wire at the same time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proposals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o not hav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stinct ident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ompat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existing standards in this band.  Currently, 802 standard proposals pose a great threat to themselv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 proactively.  Effort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-existence for competing, dissimilar MACs are costly, are unlikely to alleviate interference problems, and cannot achieve the other standardization bene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ng the industry or consumer well when it creates interfering standard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same spectru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would be used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same physical space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D8E-69F8-4DE6-9F2D-FDED56AF23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International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60 corporations (5GWLIAG) documented concern that they cannot develop a WLAN market that is not international and is characterized by conflicting systems and protoc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dustry and 802 are already struggling for coexistence among defined WLAN systems with differing MA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TSI and ERC already allocated 5.15-5.35 GHz for indoor-only WLAN and BRAN opposes the use of 5.15-5.35 GHz for FW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aying new applications and protocols into designated 5GHz bands jeopardizes international allocations for WL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equency spreading to accommodate WLAN users requires an adequate number of channels for spreading energ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15-5.35 GHz must be shared with primary satellite services.  Sharing studies assume indoor WLAN us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EAE-A872-4D69-B73A-DAA8C64708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to Reduce Interfer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greater use and incremental extension of already defined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relatively little difference between the capabilities of 802.15.3 proposals and 802.11e/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ly, the 802.11e/a enhancements to 802.11 can most likely serve many of the 802.16 applications quite we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a partitioning of the spectrum.  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 that new protocols for 802.16 use only licensed bands and the 5.725-5.825 GHz unlicensed b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802.15 to stay in the 2.4 GHz b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rve the 5.15-5.35 GHz band for 802.11 W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0C9-05F9-47E8-9257-BA9A872B81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um Partitioning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GHz spectrum partitioning proposals similar to that shown below are  gaining consensus in international regulatory bodies and industry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70280"/>
            <a:ext cx="8001000" cy="344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requency (MHz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150-535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oor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 mW EIRP maxim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470-572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where allocated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oor and outdoor nomadic access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725-582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door, Fixed Wireless Access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 to 4W EIRP, depending on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5812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4864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870280"/>
            <a:ext cx="0" cy="34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30A-5DF2-4883-92DF-416097CCE5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oo late to save the 5GHz band from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some other organizations may create interfering standards in this band, 802 can take a leadership role in preserving its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n opportunity to create an international standard by being consistent with allocations set out by ETSI/CEPT, and possibly ITU and other international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very least, 802 should not create interference problems with its own standard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F1B-F8D1-41CE-89CA-521E745ED3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22:01:30Z</dcterms:created>
  <dc:creator>user</dc:creator>
  <dc:description/>
  <dc:language>en-US</dc:language>
  <cp:lastModifiedBy>Harry Worstell</cp:lastModifiedBy>
  <cp:lastPrinted>1998-02-10T13:28:06Z</cp:lastPrinted>
  <dcterms:modified xsi:type="dcterms:W3CDTF">2000-11-08T19:07:52Z</dcterms:modified>
  <cp:revision>31</cp:revision>
  <dc:subject/>
  <dc:title>No Slide Title</dc:title>
</cp:coreProperties>
</file>