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A9EF-22D5-42A7-B68E-6F396586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86B3-3FB3-4A7A-A73F-DFA87DF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722-AFA7-464F-AAB4-9BD11E80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CF1-E840-46AD-B8A9-F214B3AC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3943-6157-493A-A4B8-8731AA23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739F-18E2-430D-956D-1E4BDFA8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1E1-B776-4E83-BC24-D1A622F0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42A0-C9DE-48F2-8561-66D53C98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6E7-5943-466E-8F30-E03D6490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020-41C5-424B-AB19-DDF8A2A2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C50-1633-44AF-AC94-ADA3506A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FB30-2E3A-42C9-ABD9-74475D0B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13687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vember 8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71680" y="6474960"/>
            <a:ext cx="26384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Sherman, AT&amp;T Labs -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205693D-FD61-415E-8E4D-3A5FF5F32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98240" y="396000"/>
            <a:ext cx="25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372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7960" y="6475320"/>
            <a:ext cx="32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 Framework Progress Update - Nov.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ulation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gress Update - Nov.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ho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tthew Sher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&amp;T Labs - Resea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0 Park Aven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lorham Park, NJ  079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73-236-67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jsherman@at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5715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November 6,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81D0-8F02-4B07-90D1-AECF795A135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sour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stream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priority and destination pe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MPEG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ream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Video Conferenc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s existing Multi-stream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3140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elf similar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2.11b on DCF only MA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AB22-6EE2-486B-A0E2-5CC04731280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6688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15000" y="198108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35053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510552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81280" y="24382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895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2743200"/>
            <a:ext cx="243828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580920" y="3962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505320" y="4191120"/>
            <a:ext cx="22860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55627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120" y="30481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966480" y="213372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5560" y="289548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3 - MP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4680" y="365760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60480" y="4419720"/>
            <a:ext cx="122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6480" y="5257800"/>
            <a:ext cx="129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6 -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936480" y="2819520"/>
            <a:ext cx="19242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Add Stream1 - Voic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Add Stream 2 - Voic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Add Stream 3 - M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Wait One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Add Stream 4 - MPEG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Add Stream 5 - Bul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 Wait 10 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 Add Voic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196r3?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AFA1-BE88-425B-9C96-96D2A6BB876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3324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Modified Model 3” </a:t>
            </a:r>
            <a:br>
              <a:rPr sz="4000"/>
            </a:b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(From 00/36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9120" y="3659040"/>
            <a:ext cx="914400" cy="91440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/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414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11360" y="385920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31680" y="3630600"/>
            <a:ext cx="176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 (Video Conferenc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84600" y="575460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84600" y="3811680"/>
            <a:ext cx="609480" cy="60948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414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84600" y="1811160"/>
            <a:ext cx="609480" cy="609840"/>
          </a:xfrm>
          <a:prstGeom prst="ellipse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88920" y="2287440"/>
            <a:ext cx="0" cy="1452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2360" y="2868480"/>
            <a:ext cx="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69960" y="4421160"/>
            <a:ext cx="2202120" cy="1460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579680" y="2077920"/>
            <a:ext cx="2095560" cy="6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1845000">
            <a:off x="2450160" y="49035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12920" y="2430360"/>
            <a:ext cx="0" cy="1243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12720" y="2271600"/>
            <a:ext cx="0" cy="1468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40400" y="2388240"/>
            <a:ext cx="36288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Reques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9160" y="2374560"/>
            <a:ext cx="3628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_Objects (L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50920" y="4527720"/>
            <a:ext cx="0" cy="1226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51080" y="4584600"/>
            <a:ext cx="0" cy="1193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9320" y="456408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Reques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07160" y="4541040"/>
            <a:ext cx="36288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 Objects (H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22560" y="2392200"/>
            <a:ext cx="0" cy="1414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22720" y="2370240"/>
            <a:ext cx="0" cy="1479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0400" y="2430720"/>
            <a:ext cx="362880" cy="13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97880" y="2450880"/>
            <a:ext cx="3628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 Transfers (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31960" y="4125960"/>
            <a:ext cx="19242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55880" y="3897360"/>
            <a:ext cx="155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going 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5640" y="4354560"/>
            <a:ext cx="21430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4640" y="4125960"/>
            <a:ext cx="159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ing_Emails (B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998880" y="44118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31200" y="4830480"/>
            <a:ext cx="3628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15880" y="183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12400" y="2135160"/>
            <a:ext cx="16866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riority level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40040" y="2135160"/>
            <a:ext cx="20430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-DCF mapping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P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PEG2 =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876560" y="5319720"/>
            <a:ext cx="34358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(dotted) links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le most of th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33E-011E-4034-856A-996CC23A355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28520" y="2209680"/>
            <a:ext cx="7086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scenarios to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ed EMACs to drop in scen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 over in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fts from original dir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35920" indent="-17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ario defin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 vs 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/ ETSI Sim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B03E-9779-49F1-A734-2E176ACD890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nts Since Septemb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ticipan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an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    # mtgs /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ith Aman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tralin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Chess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nghyun Cho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lips Researc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in-Meng H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ini Kanda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hn Kowals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tku Mor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g Park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eWav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ke Rudni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arp Multimedi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ylor Salm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hew Sherma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ew Showmak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n Singl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hero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.Srinivasa Somayazulu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haled Turk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erry Walra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ips Consum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Attendance: 12+10+9+5+7 =43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Ave. # participants:  8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A8C-5DEE-4B5A-B35A-18FFEC6D6A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Prior Docu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265r1: A Simulation Framework for Evaluation of 802.11 QoS MAC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TGe Metrics &amp; Criteria ad hoc group summary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documents of Intere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0r2: September 20 Simulation Ad Hoc Group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24: Simulation Framework Progress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8 Simulation Model for PCF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0319 Request for Guidance on Simula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documents of interest referenced in 00/265 and 00/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BD05-5882-47C1-9A4B-83832EAA1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ocuments of Inter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2r4: Ongoing Simulation, Metrics, and Criteria Ad Hoc Group Minutes.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49r1: Models for MPEG2 and Video Confere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63: Traffic Descripti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802.11E Performance Sim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73: 802.11 PCF Model Progress Update Nov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-00/0399: Baseline D-QoS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5AD-3DA2-4A80-8BF2-B94CAD4CCA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OPNET’s Wireless LAN October ‘00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/DCF M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 La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00/0373 for latest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 of date with current receive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 Overhead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il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compatible with October Baseline DCF                and Multi-source mode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F and 802.11a versions plann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EG Sour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ABF3-9A45-4C70-B92E-B1E194A50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work Software to Date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source node / MAC mode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eparate per stream address and priority lab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hanced MAC Statist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itter, global, per stream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w Packet Generator Sour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for Self Similar Packet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page 21 of 00/0196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Model 3 Scen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additional data stre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yet ope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EB13-1108-4991-A889-C6AB8871BE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240" y="6858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line DCF Models with Fixes (October mode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as part of current OPNET insta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F /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Matthew Sherman (mjsherman@att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under 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ct Greg Chesson (greg@atheros.co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ther software on OPNET 802.11 FTP sit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ress is:   http://www.opnet.com/80211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r" pos="77724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name:    80211        Password:  w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9D2-5102-4C2B-9A22-C919330F2C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of Status as of Sept.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ded to create simulation framework (May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s to Apples comparison of QoS MAC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line 802.11 model fo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ed simulation tools - OPNET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work in 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ed development of source models and baseline MAC (PCF/DCF) models (June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a &amp; Metrics document issued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-00/196r2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/ Metrics and Criteria ad hocs merge (Sept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to address turning Metrics &amp; Criteria into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D71-4603-4E3F-BF50-462F6B6665D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gress as off Nov ‘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first “Completed” Scenario (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some “gluing” of pieces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second scenario in works (Modified Model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everal data streams to Model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ms near 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eatly Enhanced statistics available in DCF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d per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, global, Per Stream, Jitter, per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enhancements in PCF MAC as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 burst y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ous MAC “tweak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size fix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A5B4-CF85-4669-8CCD-33826042778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01:50:24Z</dcterms:created>
  <dc:creator>mjsherman</dc:creator>
  <dc:description/>
  <dc:language>en-US</dc:language>
  <cp:lastModifiedBy>mjsherman</cp:lastModifiedBy>
  <cp:lastPrinted>1998-02-10T13:28:06Z</cp:lastPrinted>
  <dcterms:modified xsi:type="dcterms:W3CDTF">2000-11-09T15:44:40Z</dcterms:modified>
  <cp:revision>29</cp:revision>
  <dc:subject/>
  <dc:title>PowerPoint Presentation</dc:title>
</cp:coreProperties>
</file>