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0C36-21F7-422E-B4B8-C541B7C2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135E-92B2-4851-9274-ADEAD774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BE35-BED0-4C54-83E5-6D9C2ADAA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464D-128A-4355-BAEC-E77DD672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6AA-43E4-436F-AA80-5A018848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A8FA-8CAD-48FD-B69F-DE1CB526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BE1C-51F9-47A7-9262-7201452F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C623-0023-4894-9B9C-4FD02E6D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B57-9AAA-444A-8AE5-98C856F8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90BB-B093-4674-B2C3-10B6F3C4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4E15-6F1B-4A57-8216-8F69451E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AED4-C3C8-4D7B-8B8B-C3765BDE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11908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71680" y="6474960"/>
            <a:ext cx="2638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Sherman, AT&amp;T Labs -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FF43057-08FA-460A-A238-BF4A6FAA6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7960" y="6475320"/>
            <a:ext cx="32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 Framework Progress Update - Nov.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imulation Framewor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gress Update - Nov.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ho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thew Sher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&amp;T Labs -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0 Park Aven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rham Park, NJ  079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73-236-67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jsherman@at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57150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November 6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77D5-A90E-4A36-8F5B-9A4CC1A3CD4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ess as off Nov ‘00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sour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stream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l priority and destination per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MPEG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stream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d Video Conferenc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existing Multi-stream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w Packet Generator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lf similar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 overhead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b on DCF only MA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01FC-55F5-4B74-91BF-49B97FB23D7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66880" y="198108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198108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50532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350532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510552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510552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243828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2895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2743200"/>
            <a:ext cx="243828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0920" y="3962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505320" y="4191120"/>
            <a:ext cx="22860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5562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3120" y="3048120"/>
            <a:ext cx="129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2 - Voic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6480" y="2133720"/>
            <a:ext cx="129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1 - Voic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5560" y="289548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3 - MPx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4680" y="365760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4 - MPEG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60480" y="441972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5 - Bul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6480" y="5257800"/>
            <a:ext cx="129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6 - Voic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36480" y="2819520"/>
            <a:ext cx="19242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: Add Stream1 - Voic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: Wait One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: Add Stream 2 - Voic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: Wait One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: Add Stream 3 - M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: Wait One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: Add Stream 4 - MPEG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: Wait 10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: Add Stream 5 - Bul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: Wait 10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: Add Voic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Model 3” </a:t>
            </a: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(From 00/196r3?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1798-6784-4A3B-87A4-88DB47B850D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803240" y="360216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/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55880" y="5354640"/>
            <a:ext cx="609480" cy="60948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25840" y="3801960"/>
            <a:ext cx="2197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17640" y="3573360"/>
            <a:ext cx="203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 (Video Conferencing) 0_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99080" y="5354640"/>
            <a:ext cx="609480" cy="60948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99080" y="3754440"/>
            <a:ext cx="609480" cy="60948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5880" y="2154240"/>
            <a:ext cx="609480" cy="60948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99080" y="2154240"/>
            <a:ext cx="609480" cy="60948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03400" y="265896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02440" y="2811600"/>
            <a:ext cx="3628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 0_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03520" y="4363920"/>
            <a:ext cx="214308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593800" y="2420640"/>
            <a:ext cx="2095560" cy="6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541400">
            <a:off x="3477240" y="4754160"/>
            <a:ext cx="8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 0_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27400" y="276372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27200" y="2620800"/>
            <a:ext cx="0" cy="10479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4880" y="2716200"/>
            <a:ext cx="362880" cy="9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P_Data 1_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83640" y="2716200"/>
            <a:ext cx="362880" cy="9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P_Data 0_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65400" y="4487760"/>
            <a:ext cx="0" cy="866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65200" y="4516560"/>
            <a:ext cx="0" cy="876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73800" y="4563720"/>
            <a:ext cx="36288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P_Data 5_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21640" y="4468320"/>
            <a:ext cx="36288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P_Data 0_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37040" y="2773440"/>
            <a:ext cx="0" cy="981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37200" y="2744640"/>
            <a:ext cx="0" cy="10191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4880" y="2734560"/>
            <a:ext cx="3628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P_Data 2_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2360" y="2915640"/>
            <a:ext cx="36288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P_Data 3_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6440" y="4068720"/>
            <a:ext cx="192384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44320" y="384012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_3_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70120" y="4297320"/>
            <a:ext cx="2143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44320" y="4068720"/>
            <a:ext cx="77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_0_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3324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Modified Model 3” </a:t>
            </a: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(From 00/36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13360" y="4383000"/>
            <a:ext cx="0" cy="981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88520" y="4371840"/>
            <a:ext cx="36288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PEG2 4_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3120" y="2182680"/>
            <a:ext cx="81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 0_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86320" y="2509920"/>
            <a:ext cx="1707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ority leve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P_Data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_Data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P_Data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EG2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c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33A1-B941-49E9-AE06-AF9883BDDEF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28520" y="2209680"/>
            <a:ext cx="70866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cenarios to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EMACs to drop in scen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 over in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fts from original dir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5920" indent="-17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enario 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NET vs 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/ ETSI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4062-5895-4337-B4A2-1984415BBF7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ipants Since Septe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articipan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n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     # mtgs 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ith Aman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tralin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g Ches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her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nghyun Cho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lips Re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n-Meng H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rini Kandal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p Lab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hn Kowalsk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p Lab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tku Mor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g Park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Wa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ke Rudni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p Multimed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ylor Salm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thew Sherma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&amp;T Lab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tew Showmak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an Singl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her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.Srinivasa Somayazul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haled Turk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erry Walra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ips Consum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Attendance: 12+10+9+5+7 =4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Ave. # participants:  8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531-F9DD-43FB-AEA3-D93A6D7745E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Prior Doc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Docu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265r1: A Simulation Framework for Evaluation of 802.11 QoS MAC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196r2: TGe Metrics &amp; Criteria ad hoc group summary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documents of Inter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0320r2: September 20 Simulation Ad Hoc Group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0324: Simulation Framework Progres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0318 Simulation Model for PCF Sl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0319 Request for Guidance on Simula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documents of interest referenced in 00/265 and 00/1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F1F8-3449-46B4-9BE2-1BAAB2783B6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Documents of Inte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-00/0342r4: Ongoing Simulation, Metrics, and Criteria Ad Hoc Group Minutes.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-00/0349r1: Models for MPEG2 and Video Conferen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-00/0363: Traffic Descrip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802.11E Performance Sim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-00/0XXX: Status on 802.11 PCF model as of 11/6/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-00/0XXX: NS Simulations (Gre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-00/0XXX: Khaled’s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AEE7-B537-4A0E-86CC-45A28EC7DF5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work Software to 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line DCF Models with Fix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OPNET’s Wireless LAN October ‘00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F/DCF M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&amp;T L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00/0XXX for lates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 of date with current receive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 Overhead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ompatible with October Baseline DCF                and Multi-source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F and 802.11a versions plan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EG Sour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686D-9CD4-4B77-A6CB-2CB52B64EEB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work Software to Date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source node / MAC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separate per stream address and priority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d MAC 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tter, global, per stream, per bu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w Packet Generator 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 for Self Similar Packet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3 Scen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page 21 of 00/0196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Model 3 Scen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additional data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yet ope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FC8B-D64A-47CE-8968-66074076C81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line DCF Models with Fixes (October model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as part of current OPNET insta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F / DCF 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Matthew Sherman (mjsherman@att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under 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Greg Chesson (greg@atheros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ther software on OPNET 802.11 FTP site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is:   http://www.opnet.com/80211/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name:    80211        Password:  w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9D6D-D357-47E6-AA0E-0343070FF5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Status as of Sept. ‘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ded to create simulation framework (May ‘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s to Apples comparison of QoS MAC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line 802.11 model for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d simulation tools - OPNET (June ‘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work in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ed development of source models and baseline MAC (PCF/DCF) models (June ‘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eria &amp; Metrics document issued (Sept ‘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196r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/ Metrics and Criteria ad hocs merge (Sept ‘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to address turning Metrics &amp; Criteria into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488F-3D68-4D68-BD2E-73231E7BE8E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ess as off Nov ‘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first “Completed” Scenario (Model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some “gluing” of pieces to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second scenario in works (Modified Model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everal data streams to Model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ms near com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ly Enhanced statistics available in DCF 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per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, global, Per Stream, Jitter, per bu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enhancements in PCF MAC as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er burst y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us MAC “tweak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size fix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19C3-9EDD-4541-AFC3-726EDF8B73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01:50:24Z</dcterms:created>
  <dc:creator>mjsherman</dc:creator>
  <dc:description/>
  <dc:language>en-US</dc:language>
  <cp:lastModifiedBy>Harry Worstell</cp:lastModifiedBy>
  <cp:lastPrinted>1998-02-10T13:28:06Z</cp:lastPrinted>
  <dcterms:modified xsi:type="dcterms:W3CDTF">2000-11-08T21:54:48Z</dcterms:modified>
  <cp:revision>28</cp:revision>
  <dc:subject/>
  <dc:title>PowerPoint Presentation</dc:title>
</cp:coreProperties>
</file>