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3F5FA7-B64A-4F72-862C-B4DA92CAF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MAC entry till Successful delivery (but includes 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Sample mean - Average does not show peak d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investigate Gaps in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Beacon coll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data synchronization / post backoff when Medium 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Beacon coll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data synchronization / post backoff when Medium 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78E-E3BA-40B1-A302-10616C1C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58D-E221-4AB5-93E3-AE339AB4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927-9722-4DC9-914B-C36C0F5B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F36-1E72-4B18-AFEB-A3AE8EE1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6B4-98E3-4B46-A824-22A87B3B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5D0-7425-45B4-A1B8-7F060DF6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0B9-8407-42E5-B898-206BC0BB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F9D-BD68-4DCD-95B0-FB1AEAD1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8A6-0EF6-43FF-9412-F982317C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3AD-6F5B-42EF-89DF-C7F54C15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183-F9A0-4AAD-B0F2-02C2DBCE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987-5EEA-4A77-8746-3BCF6E2C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71680" y="6474960"/>
            <a:ext cx="2638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AT&amp;T Labs -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72931E-055A-4DBA-9DEA-456C75AF8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440" y="6475320"/>
            <a:ext cx="284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PCF Model Progress Update Nov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PCF Model Progress Update Nov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h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hew She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&amp;T Labs -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Park Aven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rham Park, NJ  07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3-236-67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jsherman@at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5715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November 8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94B-0853-4519-923E-E224A700B44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6240" y="6019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3680" y="6019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86360" cy="441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08636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A77-276B-47CF-8A6C-CAEA8958BB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values / bin in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of values (100) are processed at a time to generate displayed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tats are aggregate values across all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 is time from when packet queued in MAC until final Ack indicating successful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is traffic presented to MAC from upper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Access Delay is time from packet queued in MAC until first access of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put is traffic forwarded to upper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dropped self explan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FDB-2E68-4D44-B2A8-57032126C3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tats -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outperforming DCF from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acket drops on DCF, none on 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delays 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ffects of Bulk data kick in at 10 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number of packet 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s start getting really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put on PCF increases slightly when Bulk data st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put on DCF seems to slightly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trys / back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D17-EBE2-4E67-B08F-3FEEE6B7AA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opped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2833920" cy="4578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77400" y="182880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77400" y="223524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77400" y="26416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880" y="30481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8560" y="345456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0480" y="38606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7880" y="426708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Con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7880" y="46735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Con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8360" y="507996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48640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3440" y="6019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833920" cy="4578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8760" y="6019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E7C-D20E-4E44-A948-A962522D817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opped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ly see that DCF is dropping MPEG traffic almost from the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running out of buffer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Bulk data starts, DCF drops even more MPEG and bulk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ther data affected (in first 20 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conferencing is affected in longer simulations (&gt;30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to be function of overall rate (buffer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drops bulk data but nothing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drops lowest priority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ll QoS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EE0-D65E-4B50-A17D-C4E625CEAA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ransmission Attem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4840" y="6019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8760" y="6019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281400" cy="456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328140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535-B599-40B2-8C4C-C87799F318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ransmission Attem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antial retransmission activity for D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Data has no obvious effects on r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 already 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s consum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transmissions required in PC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 and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advantage ove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DFB-C16C-4012-B873-E2EC19D376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De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7400" y="182880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7400" y="223524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7400" y="26416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880" y="30481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8560" y="345456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0480" y="38606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7880" y="426708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Con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7880" y="46735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Con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8360" y="507996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48640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3440" y="6019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8760" y="6019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2833920" cy="457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833920" cy="457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8D4-EBBC-460C-8996-E218A73F5F2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De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packet delays very stable and well bounded on all streams but bulk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aintain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true for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dependence on poll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F shows substantially greater delay variation in all st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EG already degr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Conferencing and Audio hit hard by bulk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is not main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s sharing AP with Bulk data hit hard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66B-C46D-466C-8595-174AD550A2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Trace - Synchroniz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04840" y="1295280"/>
            <a:ext cx="69343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78352 -Hs     6 -Hd -2 -Ni     6 -Nx  -53.26 -Ny  24.91 -Nz 100.00 -Ne -1.000000 -Nl MAC -Nw --- -Na     0 -Md     5 -Ms    6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78464 -Hs     6 -Hd -2 -Ni     6 -Nx  -53.26 -Ny  24.91 -Nz 100.00 -Ne -1.000000 -Nl MAC -Nw --- -Na     0 -Md     5 -Ms    6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0 -Hd -2 -Ni     0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5 -Hd -2 -Ni     5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4 -Hd -2 -Ni     4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2 -Hd -2 -Ni     2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3 -Hd -2 -Ni     3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1 -Hd -2 -Ni     1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0000 -Hs     0 -Hd -2 -Ni     0 -Nx  -53.26 -Ny  24.91 -Nz 100.00 -Ne -1.000000 -Nl MAC -Nw --- -Na     0 -Md    -1 -Ms    0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0000 -Hs     1 -Hd -2 -Ni     1 -Nx  -53.26 -Ny  24.91 -Nz 100.00 -Ne -1.000000 -Nl MAC -Nw --- -Na   123 -Md     2 -Ms    1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0000 -Hs     2 -Hd -2 -Ni     2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0000 -Hs     3 -Hd -2 -Ni     3 -Nx  -53.26 -Ny  24.91 -Nz 100.00 -Ne -1.000000 -Nl MAC -Nw --- -Na   123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0087 -Hs     1 -Hd -2 -Ni     1 -Nx  -53.26 -Ny  24.91 -Nz 100.00 -Ne -1.000000 -Nl MAC -Nw --- -Na   123 -Md     2 -Ms    1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0087 -Hs     2 -Hd -2 -Ni     2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0087 -Hs     3 -Hd -2 -Ni     3 -Nx  -53.26 -Ny  24.91 -Nz 100.00 -Ne -1.000000 -Nl MAC -Nw --- -Na   123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087 -Hs     3 -Hd -2 -Ni     3 -Nx  -53.26 -Ny  24.91 -Nz 100.00 -Ne -1.000000 -Nl MAC -Nw --- -Na     0 -Md     2 -Ms    1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087 -Hs     1 -Hd -2 -Ni     1 -Nx  -53.26 -Ny  24.91 -Nz 100.00 -Ne -1.000000 -Nl MAC -Nw --- -Na     0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087 -Hs     0 -Hd -2 -Ni     0 -Nx  -53.26 -Ny  24.91 -Nz 100.00 -Ne -1.000000 -Nl MAC -Nw --- -Na     0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087 -Hs     4 -Hd -2 -Ni     4 -Nx  -53.26 -Ny  24.91 -Nz 100.00 -Ne -1.000000 -Nl MAC -Nw --- -Na     0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088 -Hs     5 -Hd -2 -Ni     5 -Nx  -53.26 -Ny  24.91 -Nz 100.00 -Ne -1.000000 -Nl MAC -Nw --- -Na     0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0504 -Hs     0 -Hd -2 -Ni     0 -Nx  -53.26 -Ny  24.91 -Nz 100.00 -Ne -1.000000 -Nl MAC -Nw --- -Na     0 -Md     1 -Ms    2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504 -Hs     2 -Hd -2 -Ni     2 -Nx  -53.26 -Ny  24.91 -Nz 100.00 -Ne -1.000000 -Nl MAC -Nw --- -Na     0 -Md    -1 -Ms    0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504 -Hs     6 -Hd -2 -Ni     6 -Nx  -53.26 -Ny  24.91 -Nz 100.00 -Ne -1.000000 -Nl MAC -Nw --- -Na     0 -Md    -1 -Ms    0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1074 -Hs     2 -Hd -2 -Ni     2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1161 -Hs     2 -Hd -2 -Ni     2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0 -Hd -2 -Ni     0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1 -Hd -2 -Ni     1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3 -Hd -2 -Ni     3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6 -Hd -2 -Ni     6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4 -Hd -2 -Ni     4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5 -Hd -2 -Ni     5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1172 -Hs     1 -Hd -2 -Ni     1 -Nx  -53.26 -Ny  24.91 -Nz 100.00 -Ne -1.000000 -Nl MAC -Nw --- -Na     0 -Md     2 -Ms    1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1284 -Hs     1 -Hd -2 -Ni     1 -Nx  -53.26 -Ny  24.91 -Nz 100.00 -Ne -1.000000 -Nl MAC -Nw --- -Na     0 -Md     2 -Ms    1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3 -Hd -2 -Ni     3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4 -Hd -2 -Ni     4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2 -Hd -2 -Ni     2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0 -Hd -2 -Ni     0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5 -Hd -2 -Ni     5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6 -Hd -2 -Ni     6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1CE-8D5D-4EB8-9FFB-4173FF68FE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/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2852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description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264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318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model developed by AT&amp;T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 still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ing off point for MAC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available under NDA from AT&amp;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come part of OPNET Standard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 contributed model with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NDA for contributed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595-43C3-4237-8462-DEC0A00FBE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Trace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letter is event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: packet Tx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: packet Tx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: packet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: packet dr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 indicates simulation time (rounded to micro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s is observing (reporting) station addr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a is Duration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d is packet dest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s is packet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type at end of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AB2-13B7-4C37-B2D7-19EC2B507B5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Trace - Synchroniz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packet collision is common in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to beacon all STA have completed post-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ame generated in sources at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voice calls have ident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ynchronized with Bea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s could be avoided by phasing sources to discourage simultaneous trig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network synchr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vices in real network become synchronized so that this becomes a common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093-5589-4162-8315-985A938593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Trace - Delayed Beac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676520"/>
            <a:ext cx="69343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18858 -Hs     0 -Hd -2 -Ni     0 -Nx  -53.26 -Ny  24.91 -Nz 100.00 -Ne -1.000000 -Nl MAC -Nw --- -Na   123 -Md     4 -Ms    0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19943 -Hs     0 -Hd -2 -Ni     0 -Nx  -53.26 -Ny  24.91 -Nz 100.00 -Ne -1.000000 -Nl MAC -Nw --- -Na   123 -Md     4 -Ms    0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19954 -Hs     4 -Hd -2 -Ni     4 -Nx  -53.26 -Ny  24.91 -Nz 100.00 -Ne -1.000000 -Nl MAC -Nw --- -Na     0 -Md     0 -Ms    4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0066 -Hs     4 -Hd -2 -Ni     4 -Nx  -53.26 -Ny  24.91 -Nz 100.00 -Ne -1.000000 -Nl MAC -Nw --- -Na     0 -Md     0 -Ms    4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0337 -Hs     5 -Hd -2 -Ni     5 -Nx  -53.26 -Ny  24.91 -Nz 100.00 -Ne -1.000000 -Nl MAC -Nw --- -Na   123 -Md     6 -Ms    5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1451 -Hs     5 -Hd -2 -Ni     5 -Nx  -53.26 -Ny  24.91 -Nz 100.00 -Ne -1.000000 -Nl MAC -Nw --- -Na   123 -Md     6 -Ms    5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1461 -Hs     6 -Hd -2 -Ni     6 -Nx  -53.26 -Ny  24.91 -Nz 100.00 -Ne -1.000000 -Nl MAC -Nw --- -Na     0 -Md     5 -Ms    6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1573 -Hs     6 -Hd -2 -Ni     6 -Nx  -53.26 -Ny  24.91 -Nz 100.00 -Ne -1.000000 -Nl MAC -Nw --- -Na     0 -Md     5 -Ms    6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1684 -Hs     3 -Hd -2 -Ni     3 -Nx  -53.26 -Ny  24.91 -Nz 100.00 -Ne -1.000000 -Nl MAC -Nw --- -Na   123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1771 -Hs     3 -Hd -2 -Ni     3 -Nx  -53.26 -Ny  24.91 -Nz 100.00 -Ne -1.000000 -Nl MAC -Nw --- -Na   123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1782 -Hs     0 -Hd -2 -Ni     0 -Nx  -53.26 -Ny  24.91 -Nz 100.00 -Ne -1.000000 -Nl MAC -Nw --- -Na     0 -Md     3 -Ms    0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1894 -Hs     0 -Hd -2 -Ni     0 -Nx  -53.26 -Ny  24.91 -Nz 100.00 -Ne -1.000000 -Nl MAC -Nw --- -Na     0 -Md     3 -Ms    0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1965 -Hs     1 -Hd -2 -Ni     1 -Nx  -53.26 -Ny  24.91 -Nz 100.00 -Ne -1.000000 -Nl MAC -Nw --- -Na   123 -Md     2 -Ms    1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2052 -Hs     1 -Hd -2 -Ni     1 -Nx  -53.26 -Ny  24.91 -Nz 100.00 -Ne -1.000000 -Nl MAC -Nw --- -Na   123 -Md     2 -Ms    1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2062 -Hs     2 -Hd -2 -Ni     2 -Nx  -53.26 -Ny  24.91 -Nz 100.00 -Ne -1.000000 -Nl MAC -Nw --- -Na     0 -Md     1 -Ms    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2174 -Hs     2 -Hd -2 -Ni     2 -Nx  -53.26 -Ny  24.91 -Nz 100.00 -Ne -1.000000 -Nl MAC -Nw --- -Na     0 -Md     1 -Ms    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2265 -Hs     4 -Hd -2 -Ni     4 -Nx  -53.26 -Ny  24.91 -Nz 100.00 -Ne -1.000000 -Nl MAC -Nw --- -Na   123 -Md     0 -Ms    4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3350 -Hs     4 -Hd -2 -Ni     4 -Nx  -53.26 -Ny  24.91 -Nz 100.00 -Ne -1.000000 -Nl MAC -Nw --- -Na   123 -Md     0 -Ms    4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3360 -Hs     0 -Hd -2 -Ni     0 -Nx  -53.26 -Ny  24.91 -Nz 100.00 -Ne -1.000000 -Nl MAC -Nw --- -Na     0 -Md     4 -Ms    0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3472 -Hs     0 -Hd -2 -Ni     0 -Nx  -53.26 -Ny  24.91 -Nz 100.00 -Ne -1.000000 -Nl MAC -Nw --- -Na     0 -Md     4 -Ms    0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3623 -Hs     0 -Hd -2 -Ni     0 -Nx  -53.26 -Ny  24.91 -Nz 100.00 -Ne -1.000000 -Nl MAC -Nw --- -Na     0 -Md    -1 -Ms    0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4127 -Hs     0 -Hd -2 -Ni     0 -Nx  -53.26 -Ny  24.91 -Nz 100.00 -Ne -1.000000 -Nl MAC -Nw --- -Na     0 -Md    -1 -Ms    0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CC4-AA8B-4D00-B369-81F0C9ABCA0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Trace - Delayed Beac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CF, Beacon is required to follow DCF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ack off and defer like any other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imulations backoff and deference can cause Beacon to be delayed beyond TBTT by severa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 delayed 9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ed roughly 3.6 milli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wrong, but interesting to ob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s utility of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F9E-0E0F-4BB2-9246-429E068446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s Since Sept ‘00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3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more_data bit in fram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us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lined frame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acket formats call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92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an_mac_p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92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an_control_p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all possible fields that might be needed for data / management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Control Frame fields since some irrele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 to beacon header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 by 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busy / SIFS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usy now ignored during S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833-8F8F-4017-A749-E2196D1A9C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s Since Sept ‘00 Meeting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frame timeout for PCF side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was not waiting long enough for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FS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still being set in NAV for som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Duration field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setting to 0 rather than 327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NAV reset at start of C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consider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to reset NAV for CF_END for all BSSs or only own 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 Compatible trace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to October models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D76-C08B-4863-A01F-DF14480211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s Since Sept ‘00 Meeting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rted Retry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frame type, duration filed, trace inf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support for multi-sourc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host Packet” and other receiver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BTT overrun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packet size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packet CW reset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 train before Beacon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other minor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poll flag fi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PCF active flag was set by mis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61E-497F-424A-9534-61F7FDF6ED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cenario Simul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most current “Model 3 Scenar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Video Conference packe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were too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bulk traffic stream 10 sec into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system beyond channe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s assigned to favor higher priori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es used as AID by poll sched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update scenario to final “Model 3” once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EG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ize Video Conference and data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CF4-7125-4044-8764-C52BF0AD9E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NET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295280"/>
          <a:ext cx="8153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153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CD3-FD37-4A31-9DE2-2458016533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2880" y="1600200"/>
            <a:ext cx="3724200" cy="3295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724200" cy="2152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3724200" cy="164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8CE-7D0B-4B87-998E-C822AFC29C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1219320"/>
          <a:ext cx="8534160" cy="4997160"/>
        </p:xfrm>
        <a:graphic>
          <a:graphicData uri="http://schemas.openxmlformats.org/drawingml/2006/table">
            <a:tbl>
              <a:tblPr/>
              <a:tblGrid>
                <a:gridCol w="711000"/>
                <a:gridCol w="706680"/>
                <a:gridCol w="868320"/>
                <a:gridCol w="914400"/>
                <a:gridCol w="1371600"/>
                <a:gridCol w="914400"/>
                <a:gridCol w="761760"/>
                <a:gridCol w="914400"/>
                <a:gridCol w="685800"/>
                <a:gridCol w="68580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State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 State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arrival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et Size (Byt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 (S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tination 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am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form (0.08333,0.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son (0.0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form (0.08333,0.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normal (0.01136, 0.000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son (0.0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246-A528-406B-9929-9E3283BFE8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Harry Worstell</cp:lastModifiedBy>
  <cp:lastPrinted>1998-02-10T13:28:06Z</cp:lastPrinted>
  <dcterms:modified xsi:type="dcterms:W3CDTF">2000-11-08T21:59:17Z</dcterms:modified>
  <cp:revision>36</cp:revision>
  <dc:subject/>
  <dc:title>PowerPoint Presentation</dc:title>
</cp:coreProperties>
</file>