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663-EA08-4373-9256-55821919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653-3D3E-4F01-AE20-00023B02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DF8-2DF8-47ED-9D7F-D32459D0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8AE-3E7C-4FBC-A720-78589B6D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690-63EB-4CE8-AA62-BB5A9DB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440-57E3-49CB-A018-C2528ADF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7E8-4ED1-4BE9-8BCB-A2DC553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C3B-D563-4D12-9947-0BC8105E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140-F090-44C4-B713-0CCAE22B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79E-2392-4B52-96A3-D8F0888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683-5237-4B47-A7FD-7CBE83A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865-D46D-42DD-99C9-0FC760B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C80C75-7CA9-4B25-8239-E1C09938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5v has been forwarded to Rev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d submitted to Sponsor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 issue left untou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motion to purchase 3 more proj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to work issue of fre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to eliminate paper at tutorials was made and tabled pending discussion at W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32A-4DED-41F3-9566-008D39742A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802 hosted interims-will be addressed at join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2k+1 CD available Wednesday to Voting members of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Warning for Hilton Hea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D projectors must be turned off with power button and allowed to coo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9DE-C57A-4126-80B9-579AD7323D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339r0</dc:description>
  <dc:language>en-US</dc:language>
  <cp:lastModifiedBy>Stuart J. Kerry</cp:lastModifiedBy>
  <cp:lastPrinted>2000-03-05T01:29:49Z</cp:lastPrinted>
  <dcterms:modified xsi:type="dcterms:W3CDTF">2000-11-06T15:38:27Z</dcterms:modified>
  <cp:revision>83</cp:revision>
  <dc:subject>IEEE 802.15 &lt;subject&gt;</dc:subject>
  <dc:title>Nov00 Report on Monday Excom Meeting</dc:title>
</cp:coreProperties>
</file>