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407-5851-4C9F-9A9F-CC560515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2F9-9B87-447B-96BA-FBA44F9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2AC-F5F5-47E2-AB5A-EE1C0B9D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72B-5B4F-4971-B7FC-D5EB60E4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E53-8EBD-4F2C-B788-D875537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C02-0490-4FAE-BF0A-E50B931E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E0C-A482-473C-B967-5F6F6117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DD3-6FAA-45E7-9AEF-A653457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08F-4858-437E-BAC7-610A5FF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73F-EAB2-460A-8B5E-1DCB725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C4A-4C75-4EB2-A1C3-6B73A16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C57-F0C2-4637-9CCA-76349BD7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FED2FE-F302-455E-9219-AC8C9938F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ered Contention’, A QoS-Based Distributed Medium Access Control Protocol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417-C6B5-4BAA-AABB-63CA943A7D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heduling by ‘urgency 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cheduling algorithm assigns the pending packet (in the access buffer) an ‘urgency class’ at each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access the channel in the order of decreasing urgency class of their access-buffer pac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meet delay requirements, packet fragmentation is assumed because of non-preemptiv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67000" y="358128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ity of packet in access buffer C &gt; B &gt;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4560" y="1454040"/>
            <a:ext cx="4915440" cy="1936800"/>
            <a:chOff x="2284560" y="1454040"/>
            <a:chExt cx="4915440" cy="1936800"/>
          </a:xfrm>
        </p:grpSpPr>
        <p:sp>
          <p:nvSpPr>
            <p:cNvPr id="51" name=""/>
            <p:cNvSpPr/>
            <p:nvPr/>
          </p:nvSpPr>
          <p:spPr>
            <a:xfrm>
              <a:off x="4019400" y="1720800"/>
              <a:ext cx="835200" cy="446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0520" y="1827360"/>
              <a:ext cx="1658880" cy="261720"/>
            </a:xfrm>
            <a:custGeom>
              <a:avLst/>
              <a:gdLst/>
              <a:ahLst/>
              <a:rect l="l" t="t" r="r" b="b"/>
              <a:pathLst>
                <a:path w="1045" h="165">
                  <a:moveTo>
                    <a:pt x="784" y="0"/>
                  </a:moveTo>
                  <a:lnTo>
                    <a:pt x="784" y="40"/>
                  </a:lnTo>
                  <a:lnTo>
                    <a:pt x="0" y="40"/>
                  </a:lnTo>
                  <a:lnTo>
                    <a:pt x="0" y="124"/>
                  </a:lnTo>
                  <a:lnTo>
                    <a:pt x="784" y="124"/>
                  </a:lnTo>
                  <a:lnTo>
                    <a:pt x="784" y="165"/>
                  </a:lnTo>
                  <a:lnTo>
                    <a:pt x="1045" y="82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0520" y="2428920"/>
              <a:ext cx="1658880" cy="263520"/>
            </a:xfrm>
            <a:custGeom>
              <a:avLst/>
              <a:gdLst/>
              <a:ahLst/>
              <a:rect l="l" t="t" r="r" b="b"/>
              <a:pathLst>
                <a:path w="1045" h="166">
                  <a:moveTo>
                    <a:pt x="784" y="0"/>
                  </a:moveTo>
                  <a:lnTo>
                    <a:pt x="784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784" y="123"/>
                  </a:lnTo>
                  <a:lnTo>
                    <a:pt x="784" y="166"/>
                  </a:lnTo>
                  <a:lnTo>
                    <a:pt x="1045" y="83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400" y="2333520"/>
              <a:ext cx="835200" cy="443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4560" y="1636560"/>
              <a:ext cx="1139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5640" y="170352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et Stream to Node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4560" y="2260440"/>
              <a:ext cx="1139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6280" y="231948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et Stream to Node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43440" y="1554120"/>
              <a:ext cx="1057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15840" y="1454040"/>
              <a:ext cx="63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Buf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43440" y="2160720"/>
              <a:ext cx="10573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7440" y="2897280"/>
              <a:ext cx="11322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8880" y="2944800"/>
              <a:ext cx="116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et Stream to Node 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0520" y="3049560"/>
              <a:ext cx="1658880" cy="265320"/>
            </a:xfrm>
            <a:custGeom>
              <a:avLst/>
              <a:gdLst/>
              <a:ahLst/>
              <a:rect l="l" t="t" r="r" b="b"/>
              <a:pathLst>
                <a:path w="1045" h="167">
                  <a:moveTo>
                    <a:pt x="784" y="0"/>
                  </a:moveTo>
                  <a:lnTo>
                    <a:pt x="784" y="42"/>
                  </a:lnTo>
                  <a:lnTo>
                    <a:pt x="0" y="42"/>
                  </a:lnTo>
                  <a:lnTo>
                    <a:pt x="0" y="125"/>
                  </a:lnTo>
                  <a:lnTo>
                    <a:pt x="784" y="125"/>
                  </a:lnTo>
                  <a:lnTo>
                    <a:pt x="784" y="167"/>
                  </a:lnTo>
                  <a:lnTo>
                    <a:pt x="1045" y="85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19400" y="2944800"/>
              <a:ext cx="835200" cy="442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43440" y="2771640"/>
              <a:ext cx="10573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73720" y="2376360"/>
              <a:ext cx="612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81640" y="2028960"/>
              <a:ext cx="7160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51360" y="1943280"/>
              <a:ext cx="78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1360" y="3181320"/>
              <a:ext cx="78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5595840" y="2976480"/>
              <a:ext cx="74880" cy="207360"/>
              <a:chOff x="5595840" y="2976480"/>
              <a:chExt cx="74880" cy="2073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5632560" y="3044520"/>
                <a:ext cx="72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595840" y="297648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3" y="61"/>
                    </a:moveTo>
                    <a:lnTo>
                      <a:pt x="31" y="0"/>
                    </a:lnTo>
                    <a:lnTo>
                      <a:pt x="0" y="61"/>
                    </a:lnTo>
                    <a:lnTo>
                      <a:pt x="6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851360" y="2505240"/>
              <a:ext cx="378000" cy="99720"/>
              <a:chOff x="4851360" y="2505240"/>
              <a:chExt cx="378000" cy="99720"/>
            </a:xfrm>
          </p:grpSpPr>
          <p:sp>
            <p:nvSpPr>
              <p:cNvPr id="75" name=""/>
              <p:cNvSpPr/>
              <p:nvPr/>
            </p:nvSpPr>
            <p:spPr>
              <a:xfrm>
                <a:off x="4851360" y="2552760"/>
                <a:ext cx="287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32520" y="2505240"/>
                <a:ext cx="96840" cy="9972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0" y="63"/>
                    </a:moveTo>
                    <a:lnTo>
                      <a:pt x="61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983200" y="2409840"/>
              <a:ext cx="1206720" cy="262080"/>
            </a:xfrm>
            <a:custGeom>
              <a:avLst/>
              <a:gdLst/>
              <a:ahLst/>
              <a:rect l="l" t="t" r="r" b="b"/>
              <a:pathLst>
                <a:path w="760" h="165">
                  <a:moveTo>
                    <a:pt x="570" y="0"/>
                  </a:moveTo>
                  <a:lnTo>
                    <a:pt x="570" y="40"/>
                  </a:lnTo>
                  <a:lnTo>
                    <a:pt x="0" y="40"/>
                  </a:lnTo>
                  <a:lnTo>
                    <a:pt x="0" y="123"/>
                  </a:lnTo>
                  <a:lnTo>
                    <a:pt x="570" y="123"/>
                  </a:lnTo>
                  <a:lnTo>
                    <a:pt x="570" y="165"/>
                  </a:lnTo>
                  <a:lnTo>
                    <a:pt x="760" y="82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14960" y="2257560"/>
              <a:ext cx="79056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9520" y="2409840"/>
              <a:ext cx="5220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 ac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71840" y="200664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17600" y="1808280"/>
              <a:ext cx="763560" cy="284040"/>
              <a:chOff x="4017600" y="1808280"/>
              <a:chExt cx="763560" cy="28404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4017600" y="2087640"/>
                <a:ext cx="763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4020840" y="200196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020840" y="180828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020840" y="1903320"/>
                <a:ext cx="747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781520" y="1727280"/>
              <a:ext cx="74520" cy="447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81520" y="2333520"/>
              <a:ext cx="74520" cy="447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91240" y="2943360"/>
              <a:ext cx="74520" cy="44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595840" y="1945440"/>
              <a:ext cx="74880" cy="207360"/>
              <a:chOff x="5595840" y="1945440"/>
              <a:chExt cx="74880" cy="20736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633280" y="1945440"/>
                <a:ext cx="72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0800000">
                <a:off x="5595840" y="207972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3" y="61"/>
                    </a:moveTo>
                    <a:lnTo>
                      <a:pt x="31" y="0"/>
                    </a:lnTo>
                    <a:lnTo>
                      <a:pt x="0" y="61"/>
                    </a:lnTo>
                    <a:lnTo>
                      <a:pt x="6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17600" y="2417760"/>
              <a:ext cx="763560" cy="284040"/>
              <a:chOff x="4017600" y="2417760"/>
              <a:chExt cx="763560" cy="2840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4017600" y="2697120"/>
                <a:ext cx="763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20840" y="261144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020840" y="241776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20840" y="2512800"/>
                <a:ext cx="747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024080" y="3027240"/>
              <a:ext cx="763560" cy="284040"/>
              <a:chOff x="4024080" y="3027240"/>
              <a:chExt cx="763560" cy="28404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4024080" y="3306600"/>
                <a:ext cx="763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027320" y="322092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027320" y="302724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027320" y="3122280"/>
                <a:ext cx="747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2" name=""/>
            <p:cNvCxnSpPr>
              <a:stCxn id="60" idx="2"/>
              <a:endCxn id="86" idx="0"/>
            </p:cNvCxnSpPr>
            <p:nvPr/>
          </p:nvCxnSpPr>
          <p:spPr>
            <a:xfrm flipH="1">
              <a:off x="4819320" y="1576080"/>
              <a:ext cx="1512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0B7-781D-47F5-9E5B-5606EA2CF4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90720" y="1561680"/>
            <a:ext cx="7315200" cy="2440800"/>
            <a:chOff x="990720" y="1561680"/>
            <a:chExt cx="7315200" cy="2440800"/>
          </a:xfrm>
        </p:grpSpPr>
        <p:grpSp>
          <p:nvGrpSpPr>
            <p:cNvPr id="104" name=""/>
            <p:cNvGrpSpPr/>
            <p:nvPr/>
          </p:nvGrpSpPr>
          <p:grpSpPr>
            <a:xfrm>
              <a:off x="1832040" y="1562040"/>
              <a:ext cx="2666880" cy="2133360"/>
              <a:chOff x="1832040" y="1562040"/>
              <a:chExt cx="2666880" cy="2133360"/>
            </a:xfrm>
          </p:grpSpPr>
          <p:sp>
            <p:nvSpPr>
              <p:cNvPr id="105" name=""/>
              <p:cNvSpPr/>
              <p:nvPr/>
            </p:nvSpPr>
            <p:spPr>
              <a:xfrm>
                <a:off x="3965760" y="1562040"/>
                <a:ext cx="53316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32240" y="1562040"/>
                <a:ext cx="53352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98720" y="1562040"/>
                <a:ext cx="53352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32040" y="1562040"/>
                <a:ext cx="53352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65560" y="1562040"/>
                <a:ext cx="53316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98920" y="1562040"/>
              <a:ext cx="533520" cy="21333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1562040"/>
              <a:ext cx="533160" cy="21333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3429000" y="1558800"/>
              <a:ext cx="533520" cy="37339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30800" y="-36720"/>
              <a:ext cx="533160" cy="373068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3429000" y="1028520"/>
              <a:ext cx="533520" cy="37339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3429000" y="495000"/>
              <a:ext cx="533520" cy="37339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828800" y="1562040"/>
              <a:ext cx="0" cy="21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1866600"/>
              <a:ext cx="5331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90920" y="2400120"/>
              <a:ext cx="6858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2933640"/>
              <a:ext cx="144756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828800" y="2095200"/>
              <a:ext cx="3733920" cy="1600200"/>
              <a:chOff x="1828800" y="2095200"/>
              <a:chExt cx="3733920" cy="160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828800" y="209520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28800" y="3695400"/>
                <a:ext cx="3733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262836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316188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429000" y="36954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28800" y="1866600"/>
              <a:ext cx="745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828800" y="2400120"/>
              <a:ext cx="146160" cy="228600"/>
              <a:chOff x="1828800" y="2400120"/>
              <a:chExt cx="146160" cy="228600"/>
            </a:xfrm>
          </p:grpSpPr>
          <p:sp>
            <p:nvSpPr>
              <p:cNvPr id="128" name=""/>
              <p:cNvSpPr/>
              <p:nvPr/>
            </p:nvSpPr>
            <p:spPr>
              <a:xfrm>
                <a:off x="1828800" y="2400120"/>
                <a:ext cx="7452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0080" y="2400120"/>
                <a:ext cx="74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V="1">
              <a:off x="243828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98108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124000" y="2628360"/>
              <a:ext cx="162000" cy="228600"/>
              <a:chOff x="2124000" y="2628360"/>
              <a:chExt cx="162000" cy="2286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124000" y="2628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286000" y="2628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V="1">
              <a:off x="259092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48120" y="3161880"/>
              <a:ext cx="457200" cy="228600"/>
              <a:chOff x="3048120" y="3161880"/>
              <a:chExt cx="457200" cy="2286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3048120" y="3161880"/>
                <a:ext cx="162000" cy="228600"/>
                <a:chOff x="3048120" y="3161880"/>
                <a:chExt cx="162000" cy="22860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304812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21012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343680" y="3161880"/>
                <a:ext cx="161640" cy="228600"/>
                <a:chOff x="3343680" y="3161880"/>
                <a:chExt cx="161640" cy="228600"/>
              </a:xfrm>
            </p:grpSpPr>
            <p:sp>
              <p:nvSpPr>
                <p:cNvPr id="142" name=""/>
                <p:cNvSpPr/>
                <p:nvPr/>
              </p:nvSpPr>
              <p:spPr>
                <a:xfrm flipV="1">
                  <a:off x="33436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350532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 flipV="1">
              <a:off x="1828800" y="316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981080" y="316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124000" y="3161880"/>
              <a:ext cx="162000" cy="228600"/>
              <a:chOff x="2124000" y="3161880"/>
              <a:chExt cx="162000" cy="2286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2124000" y="3161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286000" y="3161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438280" y="3161880"/>
              <a:ext cx="457200" cy="228600"/>
              <a:chOff x="2438280" y="3161880"/>
              <a:chExt cx="457200" cy="2286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438280" y="3161880"/>
                <a:ext cx="162000" cy="228600"/>
                <a:chOff x="2438280" y="3161880"/>
                <a:chExt cx="162000" cy="22860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24382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6002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733840" y="3161880"/>
                <a:ext cx="161640" cy="228600"/>
                <a:chOff x="2733840" y="3161880"/>
                <a:chExt cx="161640" cy="22860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273384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8954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1828800" y="2933640"/>
              <a:ext cx="227160" cy="228600"/>
              <a:chOff x="1828800" y="2933640"/>
              <a:chExt cx="227160" cy="228600"/>
            </a:xfrm>
          </p:grpSpPr>
          <p:sp>
            <p:nvSpPr>
              <p:cNvPr id="157" name=""/>
              <p:cNvSpPr/>
              <p:nvPr/>
            </p:nvSpPr>
            <p:spPr>
              <a:xfrm>
                <a:off x="1981440" y="2933640"/>
                <a:ext cx="7452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828800" y="2933640"/>
                <a:ext cx="146160" cy="228600"/>
                <a:chOff x="1828800" y="2933640"/>
                <a:chExt cx="146160" cy="228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828800" y="2933640"/>
                  <a:ext cx="74520" cy="228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900080" y="2933640"/>
                  <a:ext cx="74880" cy="2286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2438280" y="2400120"/>
              <a:ext cx="146160" cy="228600"/>
              <a:chOff x="2438280" y="2400120"/>
              <a:chExt cx="146160" cy="228600"/>
            </a:xfrm>
          </p:grpSpPr>
          <p:sp>
            <p:nvSpPr>
              <p:cNvPr id="162" name=""/>
              <p:cNvSpPr/>
              <p:nvPr/>
            </p:nvSpPr>
            <p:spPr>
              <a:xfrm>
                <a:off x="2438280" y="2400120"/>
                <a:ext cx="7452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09560" y="2400120"/>
                <a:ext cx="74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90720" y="18666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 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24001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0720" y="29336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438280" y="2933640"/>
              <a:ext cx="227160" cy="228600"/>
              <a:chOff x="2438280" y="2933640"/>
              <a:chExt cx="227160" cy="228600"/>
            </a:xfrm>
          </p:grpSpPr>
          <p:sp>
            <p:nvSpPr>
              <p:cNvPr id="168" name=""/>
              <p:cNvSpPr/>
              <p:nvPr/>
            </p:nvSpPr>
            <p:spPr>
              <a:xfrm>
                <a:off x="2590920" y="2933640"/>
                <a:ext cx="74520" cy="2286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438280" y="2933640"/>
                <a:ext cx="146160" cy="228600"/>
                <a:chOff x="2438280" y="2933640"/>
                <a:chExt cx="146160" cy="2286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438280" y="2933640"/>
                  <a:ext cx="74520" cy="2286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509560" y="2933640"/>
                  <a:ext cx="74880" cy="228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278160" y="2933640"/>
              <a:ext cx="227160" cy="228600"/>
              <a:chOff x="3278160" y="2933640"/>
              <a:chExt cx="22716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430800" y="2933640"/>
                <a:ext cx="74520" cy="2286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278160" y="2933640"/>
                <a:ext cx="146160" cy="228600"/>
                <a:chOff x="3278160" y="2933640"/>
                <a:chExt cx="146160" cy="228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278160" y="2933640"/>
                  <a:ext cx="74520" cy="2286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49440" y="2933640"/>
                  <a:ext cx="74880" cy="2286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6613560" y="2171520"/>
              <a:ext cx="1311120" cy="1068840"/>
              <a:chOff x="6613560" y="2171520"/>
              <a:chExt cx="1311120" cy="1068840"/>
            </a:xfrm>
          </p:grpSpPr>
          <p:sp>
            <p:nvSpPr>
              <p:cNvPr id="178" name=""/>
              <p:cNvSpPr/>
              <p:nvPr/>
            </p:nvSpPr>
            <p:spPr>
              <a:xfrm>
                <a:off x="7740720" y="236484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13560" y="25524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A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13560" y="293328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AT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13560" y="217152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AT 1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7375680" y="2628360"/>
                <a:ext cx="145440" cy="228240"/>
                <a:chOff x="7375680" y="2628360"/>
                <a:chExt cx="145440" cy="228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375680" y="2628360"/>
                  <a:ext cx="74160" cy="22824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46600" y="2628360"/>
                  <a:ext cx="74520" cy="22824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375680" y="3009600"/>
                <a:ext cx="226440" cy="228240"/>
                <a:chOff x="7375680" y="3009600"/>
                <a:chExt cx="226440" cy="228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527960" y="3009600"/>
                  <a:ext cx="74160" cy="22824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7375680" y="3009600"/>
                  <a:ext cx="145440" cy="228240"/>
                  <a:chOff x="7375680" y="3009600"/>
                  <a:chExt cx="145440" cy="2282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7375680" y="3009600"/>
                    <a:ext cx="74160" cy="228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446600" y="3009600"/>
                    <a:ext cx="74520" cy="22824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0" name=""/>
              <p:cNvSpPr/>
              <p:nvPr/>
            </p:nvSpPr>
            <p:spPr>
              <a:xfrm>
                <a:off x="7375680" y="2247480"/>
                <a:ext cx="74520" cy="22824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1905120" y="2094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17906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rgency Arbitra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1790640"/>
              <a:ext cx="213372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artitioning of contention by urgency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4648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7040" y="4076640"/>
            <a:ext cx="864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urgency class is assigned a different arbitration time -- U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rbitration Tim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interval that the channel must be sensed idle by a node before decreasing its backoff count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ngth of UAT decreases with increasing urg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er urgency packets will not cause collisions to higher urgency pack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urgency packets will dominate the channel in congestion as lower urgency packets would get less of a chance to decrease their backoff coun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8DE-6D18-4F1C-A4F2-A828476E28F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window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ead of increasing backoff ranges, start with a backoff counter appropriate for the traffic intensity at h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y upon failure with successively smaller backoff coun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cipline increases the persistence of aging packets and decreases con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verall delay jitter is re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cipline is good for isochronous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congestion, this discipline would be preferable for real-time traffic because of tendency to reduce long del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light traffic, there is the risk that high starting backoff counters may postpone the transmission of the packet needless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estimates of current traffic intensity would lessen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DA2-0F29-42E4-92DC-1503D58154A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gestion-adaptive, traffic-specific back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select initial backoff, the nodes estimate traffic intensity from the number of failed transmission attempts, both their own and those of neighboring no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node remembers its own number of retrial attem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broadcasts [i.e., includes in the messages exchanged during reservation and/or in the packet headers] its number of retrial attemp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ternatively, initial backoff is  based on traffic intensity estimated by urgency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node remembers its own retrial attempts by urgency cla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broadcasts its number of retrial attempts by urgency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56E-953F-4E96-87D4-CD63C1BE507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ision resolution combined with collision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off before a transmission attempt; backoff is used for collision avoid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a good estimate of traffic intensity, the backoff counter can be set to disperse traffic bursts properly, thus reducing con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postponing transmission of newly arrived packets at the outset, aged packets face less competition for the channel, with a reduction in resulting delay jitte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7F0-D356-426A-804A-088A801D086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hausting retrial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aximum retrial number or delay is permitted, after which transmission is cance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etter discipline for packet transmission cancellation would rely directly on the delay experienced by the packet where the limit would vary by traffic type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ed packets have little value and limited packet loss is acceptable for real-time traff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applications are tolerant of longer delays but intolerant of missing pac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57C-01BE-434B-BC8A-B52170E34F3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ummary and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840" y="161928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ered contention’ enables random multiple access control while supporting QoS management as follow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gns urgency class to access buffer packet by various QoS-driven scheduling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s different ‘arbitration times’ for different packet ‘urgency classes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adcasts the number of (class-specific) transmission attem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s (class-specific) current congestion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justs starting backoff counter to provide proper dispersion of traffic bursts and reduce con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s with traffic-adjusted backoff counters and decreases them upon transmission failure to reduce contention and increase persistence for aging pa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ollision avoidance through backoff with similar benef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ls transmission retrials based on delay-related criteria that discriminate between traffic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E0A-0DE5-4D67-BEEB-4D6B6E8528F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04:09Z</dcterms:created>
  <dc:creator>Harry Worstell</dc:creator>
  <dc:description/>
  <dc:language>en-US</dc:language>
  <cp:lastModifiedBy>Mathilde Benveniste</cp:lastModifiedBy>
  <cp:lastPrinted>1998-02-10T13:28:06Z</cp:lastPrinted>
  <dcterms:modified xsi:type="dcterms:W3CDTF">2000-12-19T18:38:02Z</dcterms:modified>
  <cp:revision>10</cp:revision>
  <dc:subject/>
  <dc:title>No Slide Title</dc:title>
</cp:coreProperties>
</file>