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977-00A1-4394-9F08-EFB1D9EE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C4B-49A7-494B-9052-D946721C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935-26BF-4972-864D-C0627B65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7A0-E423-4A34-9B02-C0BD24F9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C37-8DC1-4224-BDB3-4116D652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0B2-9291-440C-9A15-5630C87C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39C-FFB4-42BA-B3A9-7BB58687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56F-5D7B-45F7-8227-48A553B7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6D1-F96B-4E83-85D3-B5C43641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7D1-579C-40EB-96D5-6793DAE9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D8B-43AE-4CA8-A2E8-E4E2DE88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516-8149-44B2-97CD-9A20A36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86240" y="6474960"/>
            <a:ext cx="1676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25400" y="6474960"/>
            <a:ext cx="5684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547E4D-DBEF-4A51-A5EB-D949396F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00/3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nsideration on FEC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Performance of concatenation of Viterbi decoder and R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suo Ha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sushita Electric Industrial Co. L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suo Harada, Matushita Electr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244-8BAB-4D41-B12C-BD071072C4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atenated Error Correction Sche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Concatenation FEC scheme used in Digital Broadcasting system such as in Satellite, Cable, terrestrial system for MPEG2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obust error correction feature is obtained by concatenation of Viterbi  and R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Viterbi decoder in 802.11a phy specification and FEC option provide this improvement in 802.11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suo Harada, Matushita Electr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3F0-7179-4BAF-B16C-AC20790765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 of Viterbi deco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 decoder with a high error correction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 decoder produces burst bit error when errors occur over its correction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e is very effective with concatenation of RS code and Viterbi de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suo Harada, Matushita Electr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49B-D531-49B2-880B-6CBD1E06FD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676520"/>
          <a:ext cx="562752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5627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33040" y="83808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Bit erro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58640" y="2133720"/>
            <a:ext cx="2945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AWGN  No Phase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QAM R=3/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Word = 255 Byte   (RS(255,239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Payload = 4 Word  (1020 By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leav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  255Byte×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suo Harada, Matushita Electr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C30-8D1F-4BAD-BDD6-8211034DB1F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4T03:33:23Z</dcterms:created>
  <dc:creator>Yasuo　Harada</dc:creator>
  <dc:description/>
  <dc:language>en-US</dc:language>
  <cp:lastModifiedBy>Harry Worstell</cp:lastModifiedBy>
  <dcterms:modified xsi:type="dcterms:W3CDTF">2000-11-06T20:24:17Z</dcterms:modified>
  <cp:revision>9</cp:revision>
  <dc:subject/>
  <dc:title>Consideration on FEC option Cancatenation of Viterbi decoder and RS code</dc:title>
</cp:coreProperties>
</file>