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5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1.jpeg" ContentType="image/jpeg"/>
  <Override PartName="/ppt/media/image21.png" ContentType="image/png"/>
  <Override PartName="/ppt/media/image20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ffany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A9A8-EB2C-4AC9-AB87-079E49D2A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59AA-06F8-4BFA-8963-00EBB7450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3E45-825B-4F09-ACDF-180CEF4A1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D2EB4-D3B7-40B1-A323-D7C5113FB7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4163400"/>
            <a:ext cx="7467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E8B84-7BF6-4444-94CD-4BD37FC665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048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416340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0480" y="416340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E6EDE-369C-4336-8B8A-3978BD1A05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213336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4120" y="213336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416340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16340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4120" y="416340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751FC-1238-4A6A-8F08-DE8BCB5F8C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BB3AC-3685-48B3-80C8-99076A8A7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1AE2F-3478-4478-B223-7A70A0FD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43B3E-3791-4FA1-B68C-40ECFD6F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364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0480" y="2133360"/>
            <a:ext cx="364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83C43-FA68-4C02-9937-FD055420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9ED78-ABF3-4BB4-83DD-7E4B800D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990720"/>
            <a:ext cx="74674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E537D-183D-495E-B59F-41BE4107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0480" y="2133360"/>
            <a:ext cx="364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16340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1D332-D137-42DD-9AE8-1CFF239D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13722-0A34-41FE-AD49-16E4C97682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364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048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40480" y="416340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8ABCC-22F6-45A1-8721-D58D626A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4048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163400"/>
            <a:ext cx="7467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3256B6-14F3-4A41-AE76-7CE47BB9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163400"/>
            <a:ext cx="7467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72680-4A81-4145-844F-9C5A3C8A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4048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16340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40480" y="416340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095F8-F637-4D2B-AD38-2ECBFA450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13336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64120" y="213336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16340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16340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64120" y="416340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6596A-5101-455E-9639-CBC750064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F6571-EFAA-4451-946B-CF29D95539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364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0480" y="2133360"/>
            <a:ext cx="364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20E6A-11CC-4056-BEA9-FF3DAB66BF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8F8AB-65A9-4E11-A44F-EBCF91E88A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990720"/>
            <a:ext cx="74674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BCAA4-2866-492B-8780-A230556C56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0480" y="2133360"/>
            <a:ext cx="364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416340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62E01-F793-4468-84CF-191E707366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364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048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0480" y="416340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D4E98-405E-4503-ADCA-80BACA8AE0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048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4163400"/>
            <a:ext cx="7467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C7711-C991-4E4D-B4D6-52A5C1478E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 algn="just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 algn="just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 algn="just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"/>
          <p:cNvSpPr/>
          <p:nvPr/>
        </p:nvSpPr>
        <p:spPr>
          <a:xfrm>
            <a:off x="493920" y="366840"/>
            <a:ext cx="10584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"/>
          <p:cNvSpPr/>
          <p:nvPr/>
        </p:nvSpPr>
        <p:spPr>
          <a:xfrm>
            <a:off x="5813640" y="396000"/>
            <a:ext cx="2736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doc.: IEEE 802.11-00/384r1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8143920" y="6474960"/>
            <a:ext cx="46656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4344480" y="6474960"/>
            <a:ext cx="53028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24392B4-D48F-4AE6-83C3-9459872A3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21360" y="6475320"/>
            <a:ext cx="84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90720" y="304920"/>
            <a:ext cx="7011720" cy="6313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ffan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ffany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609480"/>
            <a:ext cx="9144000" cy="914400"/>
            <a:chOff x="0" y="609480"/>
            <a:chExt cx="9144000" cy="91440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7543800" y="1052280"/>
              <a:ext cx="1447920" cy="4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0" y="609480"/>
              <a:ext cx="91440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2"/>
          <p:cNvSpPr>
            <a:spLocks noGrp="1"/>
          </p:cNvSpPr>
          <p:nvPr>
            <p:ph type="ftr" idx="3"/>
          </p:nvPr>
        </p:nvSpPr>
        <p:spPr>
          <a:xfrm>
            <a:off x="8143920" y="6474960"/>
            <a:ext cx="46656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4"/>
          </p:nvPr>
        </p:nvSpPr>
        <p:spPr>
          <a:xfrm>
            <a:off x="4344480" y="6474960"/>
            <a:ext cx="53028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2A5D1BE-D949-46F6-B05B-F9CA3B019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1360" y="6475320"/>
            <a:ext cx="84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5"/>
          </p:nvPr>
        </p:nvSpPr>
        <p:spPr>
          <a:xfrm>
            <a:off x="609480" y="366480"/>
            <a:ext cx="82728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13640" y="396000"/>
            <a:ext cx="2736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doc.: IEEE 802.11-00/384r1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71600" y="5181480"/>
            <a:ext cx="6248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exas Instruments</a:t>
            </a: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141 Stony Circle, Suite 13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anta Rosa California  9540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(707) 521-3060, heegard@ti.co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ffany"/>
              </a:rPr>
              <a:t>Texas Instruments Proposal for IEEE 802.11g High-Rate Standard</a:t>
            </a:r>
            <a:endParaRPr b="0" lang="en-US" sz="44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Garamond"/>
              </a:rPr>
              <a:t>Chris Heegard, PhD, </a:t>
            </a:r>
            <a:r>
              <a:rPr b="0" i="1" lang="en-GB" sz="2200" spc="-1" strike="noStrike">
                <a:solidFill>
                  <a:srgbClr val="000000"/>
                </a:solidFill>
                <a:latin typeface="Garamond"/>
              </a:rPr>
              <a:t>Eric Rossin</a:t>
            </a:r>
            <a:r>
              <a:rPr b="0" i="1" lang="en-US" sz="2200" spc="-1" strike="noStrike">
                <a:solidFill>
                  <a:srgbClr val="000000"/>
                </a:solidFill>
                <a:latin typeface="Garamond"/>
              </a:rPr>
              <a:t>, PhD</a:t>
            </a:r>
            <a:r>
              <a:rPr b="0" i="1" lang="en-GB" sz="2200" spc="-1" strike="noStrike">
                <a:solidFill>
                  <a:srgbClr val="000000"/>
                </a:solidFill>
                <a:latin typeface="Garamond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Garamond"/>
              </a:rPr>
              <a:t>Matthew Shoemake </a:t>
            </a:r>
            <a:r>
              <a:rPr b="0" i="1" lang="en-US" sz="2200" spc="-1" strike="noStrike">
                <a:solidFill>
                  <a:srgbClr val="000000"/>
                </a:solidFill>
                <a:latin typeface="Garamond"/>
              </a:rPr>
              <a:t>, PhD</a:t>
            </a:r>
            <a:r>
              <a:rPr b="0" i="1" lang="en-GB" sz="2200" spc="-1" strike="noStrike">
                <a:solidFill>
                  <a:srgbClr val="000000"/>
                </a:solidFill>
                <a:latin typeface="Garamond"/>
              </a:rPr>
              <a:t>, Sean Coffey </a:t>
            </a:r>
            <a:r>
              <a:rPr b="0" i="1" lang="en-US" sz="2200" spc="-1" strike="noStrike">
                <a:solidFill>
                  <a:srgbClr val="000000"/>
                </a:solidFill>
                <a:latin typeface="Garamond"/>
              </a:rPr>
              <a:t>, PhD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Garamond"/>
              </a:rPr>
              <a:t>and Anuj Batra </a:t>
            </a:r>
            <a:r>
              <a:rPr b="0" i="1" lang="en-US" sz="2200" spc="-1" strike="noStrike">
                <a:solidFill>
                  <a:srgbClr val="000000"/>
                </a:solidFill>
                <a:latin typeface="Garamond"/>
              </a:rPr>
              <a:t>, PhD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88741-6DA9-438F-84FB-FF7BA4C8315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Symbol Scrambler”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356" name=""/>
          <p:cNvSpPr/>
          <p:nvPr/>
        </p:nvSpPr>
        <p:spPr>
          <a:xfrm>
            <a:off x="1908720" y="2343240"/>
            <a:ext cx="726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QPSK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"/>
          <p:cNvSpPr/>
          <p:nvPr/>
        </p:nvSpPr>
        <p:spPr>
          <a:xfrm>
            <a:off x="1970280" y="2622600"/>
            <a:ext cx="67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"/>
          <p:cNvSpPr/>
          <p:nvPr/>
        </p:nvSpPr>
        <p:spPr>
          <a:xfrm>
            <a:off x="1751400" y="2901960"/>
            <a:ext cx="1168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(1 bit per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9" name=""/>
          <p:cNvSpPr/>
          <p:nvPr/>
        </p:nvSpPr>
        <p:spPr>
          <a:xfrm>
            <a:off x="2017080" y="3181320"/>
            <a:ext cx="969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ymbol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3352320" y="2400480"/>
            <a:ext cx="1143000" cy="1143000"/>
            <a:chOff x="3352320" y="2400480"/>
            <a:chExt cx="1143000" cy="1143000"/>
          </a:xfrm>
        </p:grpSpPr>
        <p:sp>
          <p:nvSpPr>
            <p:cNvPr id="361" name=""/>
            <p:cNvSpPr/>
            <p:nvPr/>
          </p:nvSpPr>
          <p:spPr>
            <a:xfrm>
              <a:off x="3924360" y="2400480"/>
              <a:ext cx="144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3352320" y="2971800"/>
              <a:ext cx="1143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280040" y="2527200"/>
              <a:ext cx="12672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79760" y="2527200"/>
              <a:ext cx="12708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280040" y="3327480"/>
              <a:ext cx="12672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79760" y="3327480"/>
              <a:ext cx="12708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5752800" y="2400480"/>
            <a:ext cx="1143000" cy="1143000"/>
            <a:chOff x="5752800" y="2400480"/>
            <a:chExt cx="1143000" cy="1143000"/>
          </a:xfrm>
        </p:grpSpPr>
        <p:sp>
          <p:nvSpPr>
            <p:cNvPr id="368" name=""/>
            <p:cNvSpPr/>
            <p:nvPr/>
          </p:nvSpPr>
          <p:spPr>
            <a:xfrm>
              <a:off x="6324480" y="2400480"/>
              <a:ext cx="180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5752800" y="2971800"/>
              <a:ext cx="1143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680160" y="2527200"/>
              <a:ext cx="12708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80240" y="2527200"/>
              <a:ext cx="12672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680160" y="3327480"/>
              <a:ext cx="12708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80240" y="3327480"/>
              <a:ext cx="12672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3852720" y="2050920"/>
            <a:ext cx="637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 = 0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5" name=""/>
          <p:cNvSpPr/>
          <p:nvPr/>
        </p:nvSpPr>
        <p:spPr>
          <a:xfrm>
            <a:off x="6240600" y="2050920"/>
            <a:ext cx="637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 = 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6" name=""/>
          <p:cNvSpPr/>
          <p:nvPr/>
        </p:nvSpPr>
        <p:spPr>
          <a:xfrm>
            <a:off x="1752480" y="1828800"/>
            <a:ext cx="5613480" cy="2184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7" name=""/>
          <p:cNvSpPr/>
          <p:nvPr/>
        </p:nvSpPr>
        <p:spPr>
          <a:xfrm>
            <a:off x="1809000" y="4514760"/>
            <a:ext cx="1357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8PSK Mod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8" name=""/>
          <p:cNvSpPr/>
          <p:nvPr/>
        </p:nvSpPr>
        <p:spPr>
          <a:xfrm>
            <a:off x="1805400" y="4800600"/>
            <a:ext cx="1168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(2 bit per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9" name=""/>
          <p:cNvSpPr/>
          <p:nvPr/>
        </p:nvSpPr>
        <p:spPr>
          <a:xfrm>
            <a:off x="2042640" y="5073480"/>
            <a:ext cx="969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ymbol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0" name=""/>
          <p:cNvSpPr/>
          <p:nvPr/>
        </p:nvSpPr>
        <p:spPr>
          <a:xfrm>
            <a:off x="1752480" y="4000680"/>
            <a:ext cx="5613480" cy="2184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1" name=""/>
          <p:cNvSpPr/>
          <p:nvPr/>
        </p:nvSpPr>
        <p:spPr>
          <a:xfrm>
            <a:off x="4529880" y="2571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2" name=""/>
          <p:cNvSpPr/>
          <p:nvPr/>
        </p:nvSpPr>
        <p:spPr>
          <a:xfrm>
            <a:off x="5672880" y="2571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3" name=""/>
          <p:cNvSpPr/>
          <p:nvPr/>
        </p:nvSpPr>
        <p:spPr>
          <a:xfrm>
            <a:off x="3285000" y="2571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4" name=""/>
          <p:cNvSpPr/>
          <p:nvPr/>
        </p:nvSpPr>
        <p:spPr>
          <a:xfrm>
            <a:off x="3285000" y="3371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"/>
          <p:cNvSpPr/>
          <p:nvPr/>
        </p:nvSpPr>
        <p:spPr>
          <a:xfrm>
            <a:off x="4529880" y="3371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6" name=""/>
          <p:cNvSpPr/>
          <p:nvPr/>
        </p:nvSpPr>
        <p:spPr>
          <a:xfrm>
            <a:off x="5672880" y="3371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7" name=""/>
          <p:cNvSpPr/>
          <p:nvPr/>
        </p:nvSpPr>
        <p:spPr>
          <a:xfrm>
            <a:off x="6930000" y="3371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8" name=""/>
          <p:cNvSpPr/>
          <p:nvPr/>
        </p:nvSpPr>
        <p:spPr>
          <a:xfrm>
            <a:off x="6930000" y="2571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9" name=""/>
          <p:cNvSpPr/>
          <p:nvPr/>
        </p:nvSpPr>
        <p:spPr>
          <a:xfrm>
            <a:off x="3852720" y="4108320"/>
            <a:ext cx="637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 = 0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0" name=""/>
          <p:cNvSpPr/>
          <p:nvPr/>
        </p:nvSpPr>
        <p:spPr>
          <a:xfrm>
            <a:off x="6240600" y="4108320"/>
            <a:ext cx="637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 = 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3095640" y="4425840"/>
            <a:ext cx="1853280" cy="1598040"/>
            <a:chOff x="3095640" y="4425840"/>
            <a:chExt cx="1853280" cy="1598040"/>
          </a:xfrm>
        </p:grpSpPr>
        <p:grpSp>
          <p:nvGrpSpPr>
            <p:cNvPr id="392" name=""/>
            <p:cNvGrpSpPr/>
            <p:nvPr/>
          </p:nvGrpSpPr>
          <p:grpSpPr>
            <a:xfrm>
              <a:off x="3352320" y="4572000"/>
              <a:ext cx="1143000" cy="1143000"/>
              <a:chOff x="3352320" y="4572000"/>
              <a:chExt cx="1143000" cy="1143000"/>
            </a:xfrm>
          </p:grpSpPr>
          <p:sp>
            <p:nvSpPr>
              <p:cNvPr id="393" name=""/>
              <p:cNvSpPr/>
              <p:nvPr/>
            </p:nvSpPr>
            <p:spPr>
              <a:xfrm>
                <a:off x="3924360" y="4572000"/>
                <a:ext cx="144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3352320" y="5143680"/>
                <a:ext cx="1143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280040" y="4699080"/>
                <a:ext cx="126720" cy="127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479760" y="4699080"/>
                <a:ext cx="127080" cy="127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280040" y="5499000"/>
                <a:ext cx="126720" cy="127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479760" y="5499000"/>
                <a:ext cx="127080" cy="127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4467240" y="46674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aramond"/>
                </a:rPr>
                <a:t>000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10120" y="46544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aramond"/>
                </a:rPr>
                <a:t>001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190320" y="56196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aramond"/>
                </a:rPr>
                <a:t>010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85960" y="55436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aramond"/>
                </a:rPr>
                <a:t>011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3352680" y="4521240"/>
              <a:ext cx="1257480" cy="1257120"/>
              <a:chOff x="3352680" y="4521240"/>
              <a:chExt cx="1257480" cy="1257120"/>
            </a:xfrm>
          </p:grpSpPr>
          <p:sp>
            <p:nvSpPr>
              <p:cNvPr id="404" name=""/>
              <p:cNvSpPr/>
              <p:nvPr/>
            </p:nvSpPr>
            <p:spPr>
              <a:xfrm>
                <a:off x="3898800" y="4521240"/>
                <a:ext cx="127080" cy="127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352680" y="5105520"/>
                <a:ext cx="127080" cy="12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483080" y="5079960"/>
                <a:ext cx="127080" cy="127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924360" y="5651640"/>
                <a:ext cx="127080" cy="12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4061160" y="44258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aramond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95640" y="51753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aramond"/>
                </a:rPr>
                <a:t>101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47520" y="58104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aramond"/>
                </a:rPr>
                <a:t>110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650840" y="50608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aramond"/>
                </a:rPr>
                <a:t>111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676480" y="4572000"/>
            <a:ext cx="1143000" cy="1143000"/>
            <a:chOff x="5676480" y="4572000"/>
            <a:chExt cx="1143000" cy="1143000"/>
          </a:xfrm>
        </p:grpSpPr>
        <p:sp>
          <p:nvSpPr>
            <p:cNvPr id="413" name=""/>
            <p:cNvSpPr/>
            <p:nvPr/>
          </p:nvSpPr>
          <p:spPr>
            <a:xfrm>
              <a:off x="6248520" y="4572000"/>
              <a:ext cx="144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5676480" y="5143680"/>
              <a:ext cx="1143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603840" y="4699080"/>
              <a:ext cx="12708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803920" y="4699080"/>
              <a:ext cx="12708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603840" y="5499000"/>
              <a:ext cx="12708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803920" y="5499000"/>
              <a:ext cx="12708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6759000" y="46674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011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0" name=""/>
          <p:cNvSpPr/>
          <p:nvPr/>
        </p:nvSpPr>
        <p:spPr>
          <a:xfrm>
            <a:off x="5534280" y="465444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1" name=""/>
          <p:cNvSpPr/>
          <p:nvPr/>
        </p:nvSpPr>
        <p:spPr>
          <a:xfrm>
            <a:off x="5546880" y="56196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001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2" name=""/>
          <p:cNvSpPr/>
          <p:nvPr/>
        </p:nvSpPr>
        <p:spPr>
          <a:xfrm>
            <a:off x="6809760" y="554364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010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676840" y="4521240"/>
            <a:ext cx="1257480" cy="1257120"/>
            <a:chOff x="5676840" y="4521240"/>
            <a:chExt cx="1257480" cy="1257120"/>
          </a:xfrm>
        </p:grpSpPr>
        <p:sp>
          <p:nvSpPr>
            <p:cNvPr id="424" name=""/>
            <p:cNvSpPr/>
            <p:nvPr/>
          </p:nvSpPr>
          <p:spPr>
            <a:xfrm>
              <a:off x="6222960" y="4521240"/>
              <a:ext cx="12708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676840" y="5105520"/>
              <a:ext cx="127080" cy="12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807240" y="5079960"/>
              <a:ext cx="12708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248520" y="5651640"/>
              <a:ext cx="126720" cy="12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6352560" y="442584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111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9" name=""/>
          <p:cNvSpPr/>
          <p:nvPr/>
        </p:nvSpPr>
        <p:spPr>
          <a:xfrm>
            <a:off x="5419800" y="517536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0" name=""/>
          <p:cNvSpPr/>
          <p:nvPr/>
        </p:nvSpPr>
        <p:spPr>
          <a:xfrm>
            <a:off x="6004080" y="58104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101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1" name=""/>
          <p:cNvSpPr/>
          <p:nvPr/>
        </p:nvSpPr>
        <p:spPr>
          <a:xfrm>
            <a:off x="6975000" y="506088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2" name=""/>
          <p:cNvSpPr/>
          <p:nvPr/>
        </p:nvSpPr>
        <p:spPr>
          <a:xfrm>
            <a:off x="2157840" y="3581280"/>
            <a:ext cx="805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(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3" name=""/>
          <p:cNvSpPr/>
          <p:nvPr/>
        </p:nvSpPr>
        <p:spPr>
          <a:xfrm>
            <a:off x="2135880" y="5638680"/>
            <a:ext cx="106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(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9BC1C-AC6A-4EE9-A2FE-918A0CD38D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The “s” Sequence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3505320" y="3048120"/>
          <a:ext cx="4878360" cy="299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3048120"/>
                    <a:ext cx="4878360" cy="29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 length 256 sequence generated from a length 16 sequen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[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c1,…,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] = [0011001110001011]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eriodically extended for &gt;256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8FE5A-F427-4C30-A7E6-1A8D8F0180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AWGN Performanc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1601640" y="1531800"/>
          <a:ext cx="5938920" cy="479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1640" y="1531800"/>
                    <a:ext cx="5938920" cy="47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C2B72-6C59-43B0-B151-C8B0D16DCB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Throughput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600200" y="1584360"/>
          <a:ext cx="5951520" cy="481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84360"/>
                    <a:ext cx="595152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D8F96-5901-4799-A730-EF6EC555A2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Throughput (cont.)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1595520" y="1600200"/>
          <a:ext cx="5951520" cy="481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1600200"/>
                    <a:ext cx="595152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E9A32-B382-43AC-BBB5-F307A7386E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ffany"/>
              </a:rPr>
              <a:t>Certification Issues</a:t>
            </a:r>
            <a:endParaRPr b="0" lang="en-US" sz="44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BCC-22 should be certified under existing rul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ED248-E04E-4E1E-B4BE-91DE5895692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2 Principle Aspects to Certification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ransmission: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he nature of the transmitted signa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hat is the power level?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74240" indent="-21456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Power Spectrum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Reception: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Robustness at the receiver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epends on the character of the transmitted signal and the sophistication of the receiv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rocessing Gai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74240" indent="-21456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Measured with respect to a reference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1074240" indent="-21456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Comparison of Shannon Limit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nterference Rejectio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74240" indent="-21456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CW Jamming Margin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1074240" indent="-21456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Narrow Band Gaussian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1074240" indent="-21456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Noise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FA1DD-2A51-457D-87A2-730FC8B9A1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The Transmitted Signa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1117440" y="1523880"/>
            <a:ext cx="2921040" cy="23385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3047760" cy="244008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3"/>
          <a:stretch/>
        </p:blipFill>
        <p:spPr>
          <a:xfrm>
            <a:off x="990720" y="4038480"/>
            <a:ext cx="3047760" cy="244008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4"/>
          <a:stretch/>
        </p:blipFill>
        <p:spPr>
          <a:xfrm>
            <a:off x="4876920" y="4037040"/>
            <a:ext cx="3047760" cy="24400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830160" y="1752480"/>
            <a:ext cx="1118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6ef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Garamond"/>
              </a:rPr>
              <a:t>Barker 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7" name=""/>
          <p:cNvSpPr/>
          <p:nvPr/>
        </p:nvSpPr>
        <p:spPr>
          <a:xfrm>
            <a:off x="4795200" y="1752480"/>
            <a:ext cx="936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6ef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Garamond"/>
              </a:rPr>
              <a:t>CCK 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8" name=""/>
          <p:cNvSpPr/>
          <p:nvPr/>
        </p:nvSpPr>
        <p:spPr>
          <a:xfrm>
            <a:off x="894960" y="4267080"/>
            <a:ext cx="1064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6ef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Garamond"/>
              </a:rPr>
              <a:t>PBCC 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9" name=""/>
          <p:cNvSpPr/>
          <p:nvPr/>
        </p:nvSpPr>
        <p:spPr>
          <a:xfrm>
            <a:off x="4857480" y="4267080"/>
            <a:ext cx="1064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6ef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Garamond"/>
              </a:rPr>
              <a:t>PBCC 2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EA8E2-CC85-4343-8605-2B7D97F5F2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The Definition of Spread Spectrum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 Don’t Know How to Define It, But I Know It When I See It”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60960" indent="-2541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s ignores the long history to the science of digital communication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17000" indent="-20340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Morse, Nyquist, Shannon, Weiner, Hamming, Elias,…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lthough one does need to make logical definitions, similar difficulties exist with other important communications parameter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60960" indent="-2541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gnal-to-Noise rati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60960" indent="-2541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andwidth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60960" indent="-2541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ower Spectrum, etc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Reasonable Definitions Exist (examples to follow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s the definition important? 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60960" indent="-2541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 means to an end --&gt; robust communication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F6D36-AD6D-48F9-BA66-6702F0D6AC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Massey’s Definition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owards an Information Theory of Spread- Spectrum Systems” ,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ode Division Multiple Access Communications (Eds. S. G. Glisic and P. A. Leppanen) , 1995, James L. Massey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efined 2 notions of Bandwidt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ier” or “Nyquest” Bandwidth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05840" indent="-20088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Relates to Spectrum Occupancy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hannon” Bandwidth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05840" indent="-20088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Relates to Signal Space Dimension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preading Rati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05840" indent="-20088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A system is “spread spectrum” if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is large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is definition is mathematically precise and intuitiv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s definition argues that high rate (bits/sec/Hz) systems cannot have significant spreading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6019920" y="3809880"/>
          <a:ext cx="2286000" cy="77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3809880"/>
                    <a:ext cx="2286000" cy="7700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66" name=""/>
          <p:cNvSpPr/>
          <p:nvPr/>
        </p:nvSpPr>
        <p:spPr>
          <a:xfrm flipH="1">
            <a:off x="7924680" y="3429000"/>
            <a:ext cx="15264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7" name=""/>
          <p:cNvSpPr/>
          <p:nvPr/>
        </p:nvSpPr>
        <p:spPr>
          <a:xfrm>
            <a:off x="7524000" y="3164040"/>
            <a:ext cx="1122480" cy="3070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Garamond"/>
              </a:rPr>
              <a:t>A Theorem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DFDA8-4D68-4E2C-92DD-90E022F2F9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mproved utilization of the 2.4 GHz ISM band for wireless Etherne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TI/Alantro 22 Mbps solut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How it work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hy it is goo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ertification Issue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rocessing Gai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Jamming Requirement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ACX101 Baseband Processor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E7953-F8A2-46B0-8699-49EAEF25C6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Massey’s Definition Applied to Wireless Ethernet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2438280" y="2819520"/>
            <a:ext cx="4140360" cy="266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BDC9A-619B-426F-BA8F-EFEFB2AF48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Other Notions of Signal “Spreading”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Uncoded Modulation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Break data stream into small piece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map onto independent dimension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Noise occasionally causes symbol err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==&gt; data erro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948240" y="3429000"/>
            <a:ext cx="6595560" cy="1602720"/>
            <a:chOff x="948240" y="3429000"/>
            <a:chExt cx="6595560" cy="1602720"/>
          </a:xfrm>
        </p:grpSpPr>
        <p:sp>
          <p:nvSpPr>
            <p:cNvPr id="473" name=""/>
            <p:cNvSpPr/>
            <p:nvPr/>
          </p:nvSpPr>
          <p:spPr>
            <a:xfrm>
              <a:off x="2438280" y="3657600"/>
              <a:ext cx="5105520" cy="380880"/>
            </a:xfrm>
            <a:prstGeom prst="rect">
              <a:avLst/>
            </a:prstGeom>
            <a:solidFill>
              <a:srgbClr val="6ef55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819160" y="34290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200400" y="34290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81280" y="34290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962160" y="34290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343400" y="34290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724280" y="34290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105160" y="34290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486400" y="34290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867280" y="34290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89240" y="3581280"/>
              <a:ext cx="9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Data: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047760" y="40384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895480" y="46483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429000" y="40384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276360" y="46483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809880" y="40384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657600" y="4648320"/>
              <a:ext cx="30456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90760" y="40384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038480" y="46483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572000" y="40384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419360" y="46483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952880" y="40384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800600" y="4648320"/>
              <a:ext cx="30456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333760" y="40384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181480" y="46483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715000" y="40384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62360" y="46483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948240" y="4572000"/>
              <a:ext cx="14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Symbols: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CF9AC-A2B2-411E-8B58-FD18281F08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In FEC Systems, Information is Spread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oded Modulation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ave each bit of data affect many symbols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verage out the noise with the decodin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Lesson of Shannon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f you are willing to work (compute) then more throughput is possibl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1176840" y="3200400"/>
            <a:ext cx="6595560" cy="1602720"/>
            <a:chOff x="1176840" y="3200400"/>
            <a:chExt cx="6595560" cy="1602720"/>
          </a:xfrm>
        </p:grpSpPr>
        <p:sp>
          <p:nvSpPr>
            <p:cNvPr id="504" name=""/>
            <p:cNvSpPr/>
            <p:nvPr/>
          </p:nvSpPr>
          <p:spPr>
            <a:xfrm>
              <a:off x="2666880" y="3429000"/>
              <a:ext cx="5105520" cy="380880"/>
            </a:xfrm>
            <a:prstGeom prst="rect">
              <a:avLst/>
            </a:prstGeom>
            <a:solidFill>
              <a:srgbClr val="6ef55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047760" y="32004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429000" y="32004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09880" y="32004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190760" y="32004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72000" y="32004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952880" y="32004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333760" y="32004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15000" y="32004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095880" y="32004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617840" y="3352680"/>
              <a:ext cx="9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Data: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76360" y="3809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124080" y="44197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657600" y="3809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504960" y="44197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038480" y="3809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886200" y="4419720"/>
              <a:ext cx="30456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360" y="3809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267080" y="44197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800600" y="3809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647960" y="44197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181480" y="3809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029200" y="4419720"/>
              <a:ext cx="30456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562360" y="3809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410080" y="44197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943600" y="3809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790960" y="44197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176840" y="4343400"/>
              <a:ext cx="14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Symbols: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276360" y="3809880"/>
              <a:ext cx="6858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276360" y="3809880"/>
              <a:ext cx="6858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657600" y="3809880"/>
              <a:ext cx="6858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38480" y="3809880"/>
              <a:ext cx="6858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419360" y="3809880"/>
              <a:ext cx="6858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800600" y="3809880"/>
              <a:ext cx="6858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81480" y="3809880"/>
              <a:ext cx="6858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562360" y="3809880"/>
              <a:ext cx="6858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3657600" y="3809880"/>
              <a:ext cx="38088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3276000" y="3809880"/>
              <a:ext cx="38124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4038480" y="3809880"/>
              <a:ext cx="38088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4419000" y="3809880"/>
              <a:ext cx="38124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4800600" y="3809880"/>
              <a:ext cx="38088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5181480" y="3809880"/>
              <a:ext cx="38088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5562000" y="3809880"/>
              <a:ext cx="38124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5943600" y="3809880"/>
              <a:ext cx="38088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08510-8C05-4060-9CCB-92CA6813D7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PBCC-11 Pathmemory Requirements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4876920" y="2057400"/>
            <a:ext cx="3657600" cy="409104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o perform within 0.5 dB of optimal requires the decoder to observe received symbols in a window that is &gt; 28 QPSK symbols long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&gt; 2.5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sec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@ 11Msp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FD066-2483-41FC-A42D-BCC2E6C72E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PBCC-22 Pathmemory Requirements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o perform within 0.5 dB of optimal requires the decoder to observe received symbols in a window that is &gt; 40 8PSK symbols long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&gt; 3.6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sec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@ 11Msp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657600" cy="379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6CEAC-E790-44EE-BAC4-D91F5C174CC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Processing Gain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Gain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is respect to a reference, an uncoded signa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31440" indent="-2426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CK-11, PBCC-11 --&gt; QPS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31440" indent="-2426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BCC-22 --&gt; 8PS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Processing gai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31440" indent="-2426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s defined as the difference between the SNR (Es/ No) required to achieve a threshold BER or PER with the reference scheme and the SNR (Es/ No) required to achieve the same threshold BER or PER when the signal is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processed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Processin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31440" indent="-2426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of the signal includes error control coding and de-spreading of the signal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Repetition or Rate reduction gai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31440" indent="-2426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s the energy gain achieved from the reduction of data rate relative to the reference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30CB0-E6D1-4248-BC99-83F5A1A11D2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Processing Gain (cont.)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Coding gai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s measured on an Eb/ No scale rather than an Es/ No scale. This prevents the apparent increase in performance that has been gained as a tradeoff between Es/ No and rate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t is the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excess gain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from a repetition gai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Bandwidth expansion factor gai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ith ideal pulse shaping, the TI system which operates at 11 Msps, would occupy 11 MHz of bandwidth. However, the signal is spread to a bandwidth of ~20 MHz. This yields a waveform spreading gain of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~10 log( 20/ 11)= 2.6 dB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0F2E7-3287-469A-988C-C9A0BE40F10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P. G. Comparison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rocessing Gain = Coding Gain + Rate/Spreading Ga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+ Waveform/Spreading Gai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5638680" y="4876920"/>
            <a:ext cx="2438640" cy="1481040"/>
          </a:xfrm>
          <a:prstGeom prst="rect">
            <a:avLst/>
          </a:prstGeom>
          <a:ln w="0">
            <a:noFill/>
          </a:ln>
        </p:spPr>
      </p:pic>
      <p:grpSp>
        <p:nvGrpSpPr>
          <p:cNvPr id="561" name=""/>
          <p:cNvGrpSpPr/>
          <p:nvPr/>
        </p:nvGrpSpPr>
        <p:grpSpPr>
          <a:xfrm>
            <a:off x="762120" y="1905120"/>
            <a:ext cx="7530840" cy="2006640"/>
            <a:chOff x="762120" y="1905120"/>
            <a:chExt cx="7530840" cy="2006640"/>
          </a:xfrm>
        </p:grpSpPr>
        <p:pic>
          <p:nvPicPr>
            <p:cNvPr id="562" name="" descr=""/>
            <p:cNvPicPr/>
            <p:nvPr/>
          </p:nvPicPr>
          <p:blipFill>
            <a:blip r:embed="rId2"/>
            <a:stretch/>
          </p:blipFill>
          <p:spPr>
            <a:xfrm>
              <a:off x="762120" y="1905120"/>
              <a:ext cx="7530840" cy="20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>
              <a:off x="7467480" y="2514960"/>
              <a:ext cx="762120" cy="13716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01E33-F812-44BB-B8DF-2A18AA87CC7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The CW Jamming Margin Test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ACX101 will pass the existing test in all mode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ncluding PBCC-2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is test is useful for eliminating poorly designed system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hows some degree of robustnes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Other measures of robustness: (e.g., narrow band Gaussian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e PBCC-22 mode is as robust as the CCK-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ny reasonable test that CCK-11 passes will be passed by PBCC-2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3EA88-6F33-42D4-8FC7-C9504D91D3A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ffany"/>
              </a:rPr>
              <a:t>The ACX101 Baseband Processor</a:t>
            </a:r>
            <a:endParaRPr b="0" lang="en-US" sz="44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9BA88-81DB-40ED-A666-B5DA948F687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ffany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ouble the Data Rate” Wireless Etherne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35B750-95FE-4F83-8575-1D8E1BE034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The ACX 101 Baseband Processor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685800" y="1982880"/>
            <a:ext cx="8001000" cy="441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D7CAF-00E9-4E28-8DC1-016469AFB88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lantro/TI has built an extension to the existing IEEE 802.11b standard that is fully backward compatibl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solution will pass the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existing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FCC rule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e spectrum is the same as the existing standar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e ACX101, with PBCC-22, is as robust as existing CCK-11 product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Will deliver twice the data rate </a:t>
            </a: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n the same environmen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e 22 Mbps achieves better performance through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Sophisticated signal and FEC design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Advanced digital communications signal processing algorithm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TI solution is the leading contender for the new IEEE 802.11g wireless Ethernet standard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CDBF5-EAA5-4E3B-9105-802399EC87E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2895480" y="2057400"/>
            <a:ext cx="5888520" cy="4038480"/>
            <a:chOff x="2895480" y="2057400"/>
            <a:chExt cx="5888520" cy="4038480"/>
          </a:xfrm>
        </p:grpSpPr>
        <p:sp>
          <p:nvSpPr>
            <p:cNvPr id="109" name=""/>
            <p:cNvSpPr/>
            <p:nvPr/>
          </p:nvSpPr>
          <p:spPr>
            <a:xfrm>
              <a:off x="5577480" y="5775480"/>
              <a:ext cx="262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aramond"/>
                </a:rPr>
                <a:t>Noise, Multipath Distortion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6200000">
              <a:off x="4064040" y="3724200"/>
              <a:ext cx="156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aramond"/>
                </a:rPr>
                <a:t>Data Rate, Mbps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308560" y="2340000"/>
              <a:ext cx="308628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613480" y="2340000"/>
              <a:ext cx="1440" cy="3238560"/>
            </a:xfrm>
            <a:custGeom>
              <a:avLst/>
              <a:gdLst/>
              <a:ahLst/>
              <a:rect l="l" t="t" r="r" b="b"/>
              <a:pathLst>
                <a:path w="0" h="2040">
                  <a:moveTo>
                    <a:pt x="0" y="204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931000" y="2340000"/>
              <a:ext cx="1440" cy="3238560"/>
            </a:xfrm>
            <a:custGeom>
              <a:avLst/>
              <a:gdLst/>
              <a:ahLst/>
              <a:rect l="l" t="t" r="r" b="b"/>
              <a:pathLst>
                <a:path w="0" h="2040">
                  <a:moveTo>
                    <a:pt x="0" y="204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40480" y="2340000"/>
              <a:ext cx="1440" cy="3238560"/>
            </a:xfrm>
            <a:custGeom>
              <a:avLst/>
              <a:gdLst/>
              <a:ahLst/>
              <a:rect l="l" t="t" r="r" b="b"/>
              <a:pathLst>
                <a:path w="0" h="2040">
                  <a:moveTo>
                    <a:pt x="0" y="204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2340000"/>
              <a:ext cx="1440" cy="3238560"/>
            </a:xfrm>
            <a:custGeom>
              <a:avLst/>
              <a:gdLst/>
              <a:ahLst/>
              <a:rect l="l" t="t" r="r" b="b"/>
              <a:pathLst>
                <a:path w="0" h="2040">
                  <a:moveTo>
                    <a:pt x="0" y="204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67480" y="2340000"/>
              <a:ext cx="1800" cy="3238560"/>
            </a:xfrm>
            <a:custGeom>
              <a:avLst/>
              <a:gdLst/>
              <a:ahLst/>
              <a:rect l="l" t="t" r="r" b="b"/>
              <a:pathLst>
                <a:path w="0" h="2040">
                  <a:moveTo>
                    <a:pt x="0" y="204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772400" y="2340000"/>
              <a:ext cx="1440" cy="3238560"/>
            </a:xfrm>
            <a:custGeom>
              <a:avLst/>
              <a:gdLst/>
              <a:ahLst/>
              <a:rect l="l" t="t" r="r" b="b"/>
              <a:pathLst>
                <a:path w="0" h="2040">
                  <a:moveTo>
                    <a:pt x="0" y="204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08560" y="5578560"/>
              <a:ext cx="308628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94840" y="5578560"/>
              <a:ext cx="144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08560" y="4930920"/>
              <a:ext cx="308628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394840" y="4930920"/>
              <a:ext cx="144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08560" y="4282920"/>
              <a:ext cx="308628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394840" y="4282920"/>
              <a:ext cx="144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308560" y="3635280"/>
              <a:ext cx="308628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394840" y="3635280"/>
              <a:ext cx="144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08560" y="2987640"/>
              <a:ext cx="308628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94840" y="2987640"/>
              <a:ext cx="144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08560" y="2340000"/>
              <a:ext cx="308628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394840" y="2340000"/>
              <a:ext cx="144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08560" y="5578560"/>
              <a:ext cx="3086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08560" y="2340000"/>
              <a:ext cx="3086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8394840" y="2340000"/>
              <a:ext cx="1440" cy="323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5308560" y="2340000"/>
              <a:ext cx="1800" cy="323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08560" y="5578560"/>
              <a:ext cx="3086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5308560" y="2340000"/>
              <a:ext cx="1800" cy="323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5613480" y="554040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13480" y="234000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931000" y="554040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31000" y="234000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6540480" y="554040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40480" y="234000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858000" y="554040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58000" y="234000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467480" y="5540400"/>
              <a:ext cx="180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467480" y="2340000"/>
              <a:ext cx="180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772400" y="554040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72400" y="234000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08560" y="557856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8356680" y="557856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00200" y="5508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08560" y="493092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8356680" y="493092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200200" y="4861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08560" y="428292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8356680" y="428292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24240" y="42130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08560" y="363528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8356680" y="363528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24240" y="3565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08560" y="298764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8356680" y="298764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124240" y="29178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08560" y="234000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8356680" y="234000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24240" y="2270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08560" y="2340000"/>
              <a:ext cx="3086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308560" y="2340000"/>
              <a:ext cx="3086280" cy="3238560"/>
            </a:xfrm>
            <a:custGeom>
              <a:avLst/>
              <a:gdLst/>
              <a:ahLst/>
              <a:rect l="l" t="t" r="r" b="b"/>
              <a:pathLst>
                <a:path w="1944" h="2040">
                  <a:moveTo>
                    <a:pt x="0" y="2040"/>
                  </a:moveTo>
                  <a:lnTo>
                    <a:pt x="1944" y="2040"/>
                  </a:lnTo>
                  <a:lnTo>
                    <a:pt x="194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5308560" y="2340000"/>
              <a:ext cx="1800" cy="323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15000" y="4156200"/>
              <a:ext cx="317520" cy="142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60840" y="2733840"/>
              <a:ext cx="304920" cy="2844720"/>
            </a:xfrm>
            <a:prstGeom prst="rect">
              <a:avLst/>
            </a:prstGeom>
            <a:solidFill>
              <a:srgbClr val="0000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29400" y="4867200"/>
              <a:ext cx="317520" cy="711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43800" y="5324400"/>
              <a:ext cx="317520" cy="254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88200" y="4156200"/>
              <a:ext cx="304560" cy="1422360"/>
            </a:xfrm>
            <a:prstGeom prst="rect">
              <a:avLst/>
            </a:prstGeom>
            <a:solidFill>
              <a:srgbClr val="0000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315200" y="4867200"/>
              <a:ext cx="304920" cy="711360"/>
            </a:xfrm>
            <a:prstGeom prst="rect">
              <a:avLst/>
            </a:prstGeom>
            <a:solidFill>
              <a:srgbClr val="0000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15200" y="2352600"/>
              <a:ext cx="990720" cy="3812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ffany"/>
                </a:rPr>
                <a:t>Others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53080" y="2057400"/>
              <a:ext cx="1371600" cy="3808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ffany"/>
                </a:rPr>
                <a:t>T I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5791320" y="273384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43120" y="2604960"/>
              <a:ext cx="794880" cy="276480"/>
            </a:xfrm>
            <a:prstGeom prst="rect">
              <a:avLst/>
            </a:prstGeom>
            <a:solidFill>
              <a:srgbClr val="6ef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ffany"/>
                </a:rPr>
                <a:t>22 Mbps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187400" y="4059360"/>
              <a:ext cx="794880" cy="276480"/>
            </a:xfrm>
            <a:prstGeom prst="rect">
              <a:avLst/>
            </a:prstGeom>
            <a:solidFill>
              <a:srgbClr val="6ef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ffany"/>
                </a:rPr>
                <a:t>11 Mbps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05720" y="418140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48080" y="4714920"/>
              <a:ext cx="835920" cy="276480"/>
            </a:xfrm>
            <a:prstGeom prst="rect">
              <a:avLst/>
            </a:prstGeom>
            <a:solidFill>
              <a:srgbClr val="6ef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ffany"/>
                </a:rPr>
                <a:t>5.5 Mbps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620120" y="48672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015040" y="5248440"/>
              <a:ext cx="708120" cy="276480"/>
            </a:xfrm>
            <a:prstGeom prst="rect">
              <a:avLst/>
            </a:prstGeom>
            <a:solidFill>
              <a:srgbClr val="6ef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ffany"/>
                </a:rPr>
                <a:t>2 Mbps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848720" y="53244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43600" y="5705640"/>
              <a:ext cx="18288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19600" y="5638680"/>
              <a:ext cx="146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</a:rPr>
                <a:t>IEEE 802.11b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343400" y="5105160"/>
              <a:ext cx="1600200" cy="685800"/>
            </a:xfrm>
            <a:prstGeom prst="line">
              <a:avLst/>
            </a:prstGeom>
            <a:ln w="9360">
              <a:solidFill>
                <a:srgbClr val="00809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4343400" y="5181480"/>
              <a:ext cx="2209680" cy="609840"/>
            </a:xfrm>
            <a:prstGeom prst="line">
              <a:avLst/>
            </a:prstGeom>
            <a:ln w="9360">
              <a:solidFill>
                <a:srgbClr val="00809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343400" y="5181480"/>
              <a:ext cx="2514600" cy="609840"/>
            </a:xfrm>
            <a:prstGeom prst="line">
              <a:avLst/>
            </a:prstGeom>
            <a:ln w="9360">
              <a:solidFill>
                <a:srgbClr val="00809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343400" y="5181480"/>
              <a:ext cx="3200400" cy="609840"/>
            </a:xfrm>
            <a:prstGeom prst="line">
              <a:avLst/>
            </a:prstGeom>
            <a:ln w="9360">
              <a:solidFill>
                <a:srgbClr val="00809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343400" y="5409720"/>
              <a:ext cx="3429000" cy="381240"/>
            </a:xfrm>
            <a:prstGeom prst="line">
              <a:avLst/>
            </a:prstGeom>
            <a:ln w="9360">
              <a:solidFill>
                <a:srgbClr val="00809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95480" y="5486400"/>
              <a:ext cx="1447920" cy="609480"/>
            </a:xfrm>
            <a:prstGeom prst="ellipse">
              <a:avLst/>
            </a:prstGeom>
            <a:noFill/>
            <a:ln w="28440">
              <a:solidFill>
                <a:srgbClr val="008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TI Offers 2x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“Double the Data Rate”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dditive White Gaussian Nois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The TI FEC has a “3db” coding gain advantage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Multipath Distortio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The TI “joint equalizer/decoder” can process much more distortion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The TI “CCK” solution takes advantage of the receiver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C0966-471D-45B3-BD3D-19D694A221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Why Increase Performance?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pectrum is rare and valuabl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n order to be efficient it demands the most aggressive practical technical solutio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History: as progress is made, more throughput is achieve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xample: Telephone modem technology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Fixed 3 kHz channel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Initial progress: 300 -&gt; 1,200 -&gt; 2,400 -&gt; 4,800 bits/second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Progress was stalled until: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 algn="just">
              <a:spcBef>
                <a:spcPts val="349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Trellis coding, a form of FEC based on convolutional coding, was developed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 algn="just">
              <a:spcBef>
                <a:spcPts val="349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Adaptive signal processing was developed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Inspired new wave:  9,600 -&gt; 14,400 -&gt; 28,800  bits/second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Alantro/TI technology provides the next wave in wireless Ethernet performan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58373-C215-43ED-8D70-876BD0E347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How to Increase Performance?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553080" y="1905120"/>
            <a:ext cx="2146320" cy="1245960"/>
            <a:chOff x="6553080" y="1905120"/>
            <a:chExt cx="2146320" cy="1245960"/>
          </a:xfrm>
        </p:grpSpPr>
        <p:sp>
          <p:nvSpPr>
            <p:cNvPr id="199" name=""/>
            <p:cNvSpPr/>
            <p:nvPr/>
          </p:nvSpPr>
          <p:spPr>
            <a:xfrm>
              <a:off x="6553080" y="1905120"/>
              <a:ext cx="2133720" cy="1231920"/>
            </a:xfrm>
            <a:custGeom>
              <a:avLst/>
              <a:gdLst/>
              <a:ahLst/>
              <a:rect l="l" t="t" r="r" b="b"/>
              <a:pathLst>
                <a:path w="1344" h="776">
                  <a:moveTo>
                    <a:pt x="0" y="776"/>
                  </a:moveTo>
                  <a:lnTo>
                    <a:pt x="0" y="77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44" y="0"/>
                  </a:lnTo>
                  <a:lnTo>
                    <a:pt x="1344" y="0"/>
                  </a:lnTo>
                  <a:lnTo>
                    <a:pt x="1344" y="776"/>
                  </a:lnTo>
                  <a:lnTo>
                    <a:pt x="1344" y="776"/>
                  </a:lnTo>
                  <a:lnTo>
                    <a:pt x="0" y="776"/>
                  </a:lnTo>
                  <a:lnTo>
                    <a:pt x="0" y="776"/>
                  </a:lnTo>
                  <a:lnTo>
                    <a:pt x="0" y="0"/>
                  </a:lnTo>
                  <a:lnTo>
                    <a:pt x="1344" y="0"/>
                  </a:lnTo>
                  <a:lnTo>
                    <a:pt x="1344" y="776"/>
                  </a:lnTo>
                  <a:lnTo>
                    <a:pt x="0" y="776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566040" y="1917720"/>
              <a:ext cx="213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566040" y="1917720"/>
              <a:ext cx="2133360" cy="1231920"/>
            </a:xfrm>
            <a:custGeom>
              <a:avLst/>
              <a:gdLst/>
              <a:ahLst/>
              <a:rect l="l" t="t" r="r" b="b"/>
              <a:pathLst>
                <a:path w="1344" h="776">
                  <a:moveTo>
                    <a:pt x="0" y="776"/>
                  </a:moveTo>
                  <a:lnTo>
                    <a:pt x="1344" y="776"/>
                  </a:lnTo>
                  <a:lnTo>
                    <a:pt x="134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566040" y="1917720"/>
              <a:ext cx="1440" cy="123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566040" y="3149640"/>
              <a:ext cx="213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66040" y="1917720"/>
              <a:ext cx="2133360" cy="1231920"/>
            </a:xfrm>
            <a:custGeom>
              <a:avLst/>
              <a:gdLst/>
              <a:ahLst/>
              <a:rect l="l" t="t" r="r" b="b"/>
              <a:pathLst>
                <a:path w="1344" h="776">
                  <a:moveTo>
                    <a:pt x="0" y="776"/>
                  </a:moveTo>
                  <a:lnTo>
                    <a:pt x="0" y="0"/>
                  </a:lnTo>
                  <a:lnTo>
                    <a:pt x="134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566040" y="1917720"/>
              <a:ext cx="2133360" cy="1231920"/>
            </a:xfrm>
            <a:custGeom>
              <a:avLst/>
              <a:gdLst/>
              <a:ahLst/>
              <a:rect l="l" t="t" r="r" b="b"/>
              <a:pathLst>
                <a:path w="1344" h="776">
                  <a:moveTo>
                    <a:pt x="0" y="776"/>
                  </a:moveTo>
                  <a:lnTo>
                    <a:pt x="1344" y="776"/>
                  </a:lnTo>
                  <a:lnTo>
                    <a:pt x="134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566040" y="1917720"/>
              <a:ext cx="1440" cy="123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88000" y="2025720"/>
              <a:ext cx="65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Shannon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692760" y="2070000"/>
              <a:ext cx="5083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40840" y="2178000"/>
              <a:ext cx="1217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Shannon (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 = 11)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692760" y="2222640"/>
              <a:ext cx="50832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88000" y="2330280"/>
              <a:ext cx="62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Barker 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08760" y="2336760"/>
              <a:ext cx="88920" cy="8892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488000" y="2495520"/>
              <a:ext cx="62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Barker 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08760" y="2540160"/>
              <a:ext cx="7632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46920" y="2502000"/>
              <a:ext cx="1440" cy="759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21360" y="2514600"/>
              <a:ext cx="51120" cy="507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6921360" y="2514600"/>
              <a:ext cx="51120" cy="507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42720" y="2647800"/>
              <a:ext cx="50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CCK 1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908760" y="2692440"/>
              <a:ext cx="76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946920" y="2654280"/>
              <a:ext cx="14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21360" y="2666880"/>
              <a:ext cx="51120" cy="5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6921360" y="2666880"/>
              <a:ext cx="51120" cy="5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32640" y="2800440"/>
              <a:ext cx="587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PBCC 1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908760" y="2806560"/>
              <a:ext cx="88920" cy="88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32640" y="2952720"/>
              <a:ext cx="587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PBCC 2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908760" y="2997360"/>
              <a:ext cx="763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46920" y="2959200"/>
              <a:ext cx="1440" cy="75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21360" y="2971800"/>
              <a:ext cx="51120" cy="50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6921360" y="2971800"/>
              <a:ext cx="51120" cy="50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706320" y="1755720"/>
            <a:ext cx="5456520" cy="4722120"/>
            <a:chOff x="706320" y="1755720"/>
            <a:chExt cx="5456520" cy="4722120"/>
          </a:xfrm>
        </p:grpSpPr>
        <p:sp>
          <p:nvSpPr>
            <p:cNvPr id="231" name=""/>
            <p:cNvSpPr/>
            <p:nvPr/>
          </p:nvSpPr>
          <p:spPr>
            <a:xfrm>
              <a:off x="1054080" y="1927440"/>
              <a:ext cx="3949560" cy="3403440"/>
            </a:xfrm>
            <a:custGeom>
              <a:avLst/>
              <a:gdLst/>
              <a:ahLst/>
              <a:rect l="l" t="t" r="r" b="b"/>
              <a:pathLst>
                <a:path w="2488" h="2144">
                  <a:moveTo>
                    <a:pt x="0" y="2144"/>
                  </a:moveTo>
                  <a:lnTo>
                    <a:pt x="0" y="214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88" y="0"/>
                  </a:lnTo>
                  <a:lnTo>
                    <a:pt x="2488" y="0"/>
                  </a:lnTo>
                  <a:lnTo>
                    <a:pt x="2488" y="2144"/>
                  </a:lnTo>
                  <a:lnTo>
                    <a:pt x="2488" y="2144"/>
                  </a:lnTo>
                  <a:lnTo>
                    <a:pt x="0" y="2144"/>
                  </a:lnTo>
                  <a:lnTo>
                    <a:pt x="0" y="2144"/>
                  </a:lnTo>
                  <a:lnTo>
                    <a:pt x="0" y="0"/>
                  </a:lnTo>
                  <a:lnTo>
                    <a:pt x="2488" y="0"/>
                  </a:lnTo>
                  <a:lnTo>
                    <a:pt x="2488" y="2144"/>
                  </a:lnTo>
                  <a:lnTo>
                    <a:pt x="0" y="2144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054080" y="1927440"/>
              <a:ext cx="1440" cy="3403440"/>
            </a:xfrm>
            <a:custGeom>
              <a:avLst/>
              <a:gdLst/>
              <a:ahLst/>
              <a:rect l="l" t="t" r="r" b="b"/>
              <a:pathLst>
                <a:path w="0" h="2144">
                  <a:moveTo>
                    <a:pt x="0" y="214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14680" y="1927440"/>
              <a:ext cx="1440" cy="3403440"/>
            </a:xfrm>
            <a:custGeom>
              <a:avLst/>
              <a:gdLst/>
              <a:ahLst/>
              <a:rect l="l" t="t" r="r" b="b"/>
              <a:pathLst>
                <a:path w="0" h="2144">
                  <a:moveTo>
                    <a:pt x="0" y="214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374920" y="1927440"/>
              <a:ext cx="1440" cy="3403440"/>
            </a:xfrm>
            <a:custGeom>
              <a:avLst/>
              <a:gdLst/>
              <a:ahLst/>
              <a:rect l="l" t="t" r="r" b="b"/>
              <a:pathLst>
                <a:path w="0" h="2144">
                  <a:moveTo>
                    <a:pt x="0" y="214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035160" y="1927440"/>
              <a:ext cx="1800" cy="3403440"/>
            </a:xfrm>
            <a:custGeom>
              <a:avLst/>
              <a:gdLst/>
              <a:ahLst/>
              <a:rect l="l" t="t" r="r" b="b"/>
              <a:pathLst>
                <a:path w="0" h="2144">
                  <a:moveTo>
                    <a:pt x="0" y="214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83160" y="1927440"/>
              <a:ext cx="1440" cy="3403440"/>
            </a:xfrm>
            <a:custGeom>
              <a:avLst/>
              <a:gdLst/>
              <a:ahLst/>
              <a:rect l="l" t="t" r="r" b="b"/>
              <a:pathLst>
                <a:path w="0" h="2144">
                  <a:moveTo>
                    <a:pt x="0" y="214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343400" y="1927440"/>
              <a:ext cx="1440" cy="3403440"/>
            </a:xfrm>
            <a:custGeom>
              <a:avLst/>
              <a:gdLst/>
              <a:ahLst/>
              <a:rect l="l" t="t" r="r" b="b"/>
              <a:pathLst>
                <a:path w="0" h="2144">
                  <a:moveTo>
                    <a:pt x="0" y="214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03640" y="1927440"/>
              <a:ext cx="1800" cy="3403440"/>
            </a:xfrm>
            <a:custGeom>
              <a:avLst/>
              <a:gdLst/>
              <a:ahLst/>
              <a:rect l="l" t="t" r="r" b="b"/>
              <a:pathLst>
                <a:path w="0" h="2144">
                  <a:moveTo>
                    <a:pt x="0" y="214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54080" y="5330880"/>
              <a:ext cx="394956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03640" y="5330880"/>
              <a:ext cx="18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054080" y="4759200"/>
              <a:ext cx="394956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03640" y="4759200"/>
              <a:ext cx="180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054080" y="4200480"/>
              <a:ext cx="394956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003640" y="4200480"/>
              <a:ext cx="180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54080" y="3629160"/>
              <a:ext cx="394956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03640" y="3629160"/>
              <a:ext cx="18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054080" y="3057480"/>
              <a:ext cx="394956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03640" y="3057480"/>
              <a:ext cx="180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054080" y="2498760"/>
              <a:ext cx="394956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003640" y="2498760"/>
              <a:ext cx="18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54080" y="1927440"/>
              <a:ext cx="394956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03640" y="1927440"/>
              <a:ext cx="18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054080" y="1927440"/>
              <a:ext cx="3949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54080" y="1927440"/>
              <a:ext cx="3949560" cy="3403440"/>
            </a:xfrm>
            <a:custGeom>
              <a:avLst/>
              <a:gdLst/>
              <a:ahLst/>
              <a:rect l="l" t="t" r="r" b="b"/>
              <a:pathLst>
                <a:path w="2488" h="2144">
                  <a:moveTo>
                    <a:pt x="0" y="2144"/>
                  </a:moveTo>
                  <a:lnTo>
                    <a:pt x="2488" y="2144"/>
                  </a:lnTo>
                  <a:lnTo>
                    <a:pt x="248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1054080" y="1927440"/>
              <a:ext cx="1440" cy="340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54080" y="5330880"/>
              <a:ext cx="3949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1054080" y="1927440"/>
              <a:ext cx="1440" cy="340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1054080" y="529272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054080" y="1927440"/>
              <a:ext cx="144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96120" y="538812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1714680" y="529272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14680" y="1927440"/>
              <a:ext cx="144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81920" y="5388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2374920" y="529272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374920" y="1927440"/>
              <a:ext cx="144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42160" y="5388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035160" y="5292720"/>
              <a:ext cx="180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35160" y="1927440"/>
              <a:ext cx="180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02760" y="5388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3683160" y="529272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83160" y="1927440"/>
              <a:ext cx="144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50400" y="5388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4343400" y="529272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343400" y="1927440"/>
              <a:ext cx="144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11000" y="5388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5003640" y="5292720"/>
              <a:ext cx="180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003640" y="1927440"/>
              <a:ext cx="180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32360" y="53881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54080" y="533088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965480" y="5330880"/>
              <a:ext cx="37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45360" y="5273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54080" y="475920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4965480" y="475920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45360" y="4702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54080" y="420048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4965480" y="420048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68680" y="41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054080" y="362916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4965480" y="3629160"/>
              <a:ext cx="37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68680" y="35719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54080" y="305748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965480" y="305748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68680" y="3000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054080" y="249876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4965480" y="2498760"/>
              <a:ext cx="37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68680" y="244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54080" y="192744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4965480" y="1927440"/>
              <a:ext cx="37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68680" y="18702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054080" y="1927440"/>
              <a:ext cx="3949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054080" y="5330880"/>
              <a:ext cx="3949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1054080" y="1927440"/>
              <a:ext cx="1440" cy="340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5003640" y="1927440"/>
              <a:ext cx="1800" cy="340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054080" y="1889280"/>
              <a:ext cx="3162240" cy="2565360"/>
            </a:xfrm>
            <a:custGeom>
              <a:avLst/>
              <a:gdLst/>
              <a:ahLst/>
              <a:rect l="l" t="t" r="r" b="b"/>
              <a:pathLst>
                <a:path w="1992" h="1616">
                  <a:moveTo>
                    <a:pt x="0" y="1616"/>
                  </a:moveTo>
                  <a:lnTo>
                    <a:pt x="0" y="1616"/>
                  </a:lnTo>
                  <a:lnTo>
                    <a:pt x="24" y="1600"/>
                  </a:lnTo>
                  <a:lnTo>
                    <a:pt x="24" y="1600"/>
                  </a:lnTo>
                  <a:lnTo>
                    <a:pt x="40" y="1592"/>
                  </a:lnTo>
                  <a:lnTo>
                    <a:pt x="40" y="1592"/>
                  </a:lnTo>
                  <a:lnTo>
                    <a:pt x="64" y="1584"/>
                  </a:lnTo>
                  <a:lnTo>
                    <a:pt x="64" y="1584"/>
                  </a:lnTo>
                  <a:lnTo>
                    <a:pt x="80" y="1568"/>
                  </a:lnTo>
                  <a:lnTo>
                    <a:pt x="80" y="1568"/>
                  </a:lnTo>
                  <a:lnTo>
                    <a:pt x="104" y="1560"/>
                  </a:lnTo>
                  <a:lnTo>
                    <a:pt x="104" y="1560"/>
                  </a:lnTo>
                  <a:lnTo>
                    <a:pt x="128" y="1552"/>
                  </a:lnTo>
                  <a:lnTo>
                    <a:pt x="128" y="1552"/>
                  </a:lnTo>
                  <a:lnTo>
                    <a:pt x="144" y="1536"/>
                  </a:lnTo>
                  <a:lnTo>
                    <a:pt x="144" y="1536"/>
                  </a:lnTo>
                  <a:lnTo>
                    <a:pt x="168" y="1528"/>
                  </a:lnTo>
                  <a:lnTo>
                    <a:pt x="168" y="1528"/>
                  </a:lnTo>
                  <a:lnTo>
                    <a:pt x="184" y="1520"/>
                  </a:lnTo>
                  <a:lnTo>
                    <a:pt x="184" y="1520"/>
                  </a:lnTo>
                  <a:lnTo>
                    <a:pt x="208" y="1504"/>
                  </a:lnTo>
                  <a:lnTo>
                    <a:pt x="208" y="1504"/>
                  </a:lnTo>
                  <a:lnTo>
                    <a:pt x="232" y="1496"/>
                  </a:lnTo>
                  <a:lnTo>
                    <a:pt x="232" y="1496"/>
                  </a:lnTo>
                  <a:lnTo>
                    <a:pt x="248" y="1480"/>
                  </a:lnTo>
                  <a:lnTo>
                    <a:pt x="248" y="1480"/>
                  </a:lnTo>
                  <a:lnTo>
                    <a:pt x="272" y="1472"/>
                  </a:lnTo>
                  <a:lnTo>
                    <a:pt x="272" y="1472"/>
                  </a:lnTo>
                  <a:lnTo>
                    <a:pt x="288" y="1456"/>
                  </a:lnTo>
                  <a:lnTo>
                    <a:pt x="288" y="1456"/>
                  </a:lnTo>
                  <a:lnTo>
                    <a:pt x="312" y="1448"/>
                  </a:lnTo>
                  <a:lnTo>
                    <a:pt x="312" y="1448"/>
                  </a:lnTo>
                  <a:lnTo>
                    <a:pt x="328" y="1432"/>
                  </a:lnTo>
                  <a:lnTo>
                    <a:pt x="328" y="1432"/>
                  </a:lnTo>
                  <a:lnTo>
                    <a:pt x="352" y="1424"/>
                  </a:lnTo>
                  <a:lnTo>
                    <a:pt x="352" y="1424"/>
                  </a:lnTo>
                  <a:lnTo>
                    <a:pt x="376" y="1408"/>
                  </a:lnTo>
                  <a:lnTo>
                    <a:pt x="376" y="1408"/>
                  </a:lnTo>
                  <a:lnTo>
                    <a:pt x="392" y="1392"/>
                  </a:lnTo>
                  <a:lnTo>
                    <a:pt x="392" y="1392"/>
                  </a:lnTo>
                  <a:lnTo>
                    <a:pt x="416" y="1384"/>
                  </a:lnTo>
                  <a:lnTo>
                    <a:pt x="416" y="1384"/>
                  </a:lnTo>
                  <a:lnTo>
                    <a:pt x="432" y="1368"/>
                  </a:lnTo>
                  <a:lnTo>
                    <a:pt x="432" y="1368"/>
                  </a:lnTo>
                  <a:lnTo>
                    <a:pt x="456" y="1352"/>
                  </a:lnTo>
                  <a:lnTo>
                    <a:pt x="456" y="1352"/>
                  </a:lnTo>
                  <a:lnTo>
                    <a:pt x="480" y="1344"/>
                  </a:lnTo>
                  <a:lnTo>
                    <a:pt x="480" y="1344"/>
                  </a:lnTo>
                  <a:lnTo>
                    <a:pt x="496" y="1328"/>
                  </a:lnTo>
                  <a:lnTo>
                    <a:pt x="496" y="1328"/>
                  </a:lnTo>
                  <a:lnTo>
                    <a:pt x="520" y="1312"/>
                  </a:lnTo>
                  <a:lnTo>
                    <a:pt x="520" y="1312"/>
                  </a:lnTo>
                  <a:lnTo>
                    <a:pt x="536" y="1304"/>
                  </a:lnTo>
                  <a:lnTo>
                    <a:pt x="536" y="1304"/>
                  </a:lnTo>
                  <a:lnTo>
                    <a:pt x="560" y="1288"/>
                  </a:lnTo>
                  <a:lnTo>
                    <a:pt x="560" y="1288"/>
                  </a:lnTo>
                  <a:lnTo>
                    <a:pt x="584" y="1272"/>
                  </a:lnTo>
                  <a:lnTo>
                    <a:pt x="584" y="1272"/>
                  </a:lnTo>
                  <a:lnTo>
                    <a:pt x="600" y="1256"/>
                  </a:lnTo>
                  <a:lnTo>
                    <a:pt x="600" y="1256"/>
                  </a:lnTo>
                  <a:lnTo>
                    <a:pt x="624" y="1240"/>
                  </a:lnTo>
                  <a:lnTo>
                    <a:pt x="624" y="1240"/>
                  </a:lnTo>
                  <a:lnTo>
                    <a:pt x="640" y="1232"/>
                  </a:lnTo>
                  <a:lnTo>
                    <a:pt x="640" y="1232"/>
                  </a:lnTo>
                  <a:lnTo>
                    <a:pt x="664" y="1216"/>
                  </a:lnTo>
                  <a:lnTo>
                    <a:pt x="664" y="1216"/>
                  </a:lnTo>
                  <a:lnTo>
                    <a:pt x="688" y="1200"/>
                  </a:lnTo>
                  <a:lnTo>
                    <a:pt x="688" y="1200"/>
                  </a:lnTo>
                  <a:lnTo>
                    <a:pt x="704" y="1184"/>
                  </a:lnTo>
                  <a:lnTo>
                    <a:pt x="704" y="1184"/>
                  </a:lnTo>
                  <a:lnTo>
                    <a:pt x="728" y="1168"/>
                  </a:lnTo>
                  <a:lnTo>
                    <a:pt x="728" y="1168"/>
                  </a:lnTo>
                  <a:lnTo>
                    <a:pt x="744" y="1152"/>
                  </a:lnTo>
                  <a:lnTo>
                    <a:pt x="744" y="1152"/>
                  </a:lnTo>
                  <a:lnTo>
                    <a:pt x="768" y="1136"/>
                  </a:lnTo>
                  <a:lnTo>
                    <a:pt x="768" y="1136"/>
                  </a:lnTo>
                  <a:lnTo>
                    <a:pt x="784" y="1120"/>
                  </a:lnTo>
                  <a:lnTo>
                    <a:pt x="784" y="1120"/>
                  </a:lnTo>
                  <a:lnTo>
                    <a:pt x="808" y="1104"/>
                  </a:lnTo>
                  <a:lnTo>
                    <a:pt x="808" y="1104"/>
                  </a:lnTo>
                  <a:lnTo>
                    <a:pt x="832" y="1088"/>
                  </a:lnTo>
                  <a:lnTo>
                    <a:pt x="832" y="1088"/>
                  </a:lnTo>
                  <a:lnTo>
                    <a:pt x="848" y="1072"/>
                  </a:lnTo>
                  <a:lnTo>
                    <a:pt x="848" y="1072"/>
                  </a:lnTo>
                  <a:lnTo>
                    <a:pt x="872" y="1056"/>
                  </a:lnTo>
                  <a:lnTo>
                    <a:pt x="872" y="1056"/>
                  </a:lnTo>
                  <a:lnTo>
                    <a:pt x="888" y="1040"/>
                  </a:lnTo>
                  <a:lnTo>
                    <a:pt x="888" y="1040"/>
                  </a:lnTo>
                  <a:lnTo>
                    <a:pt x="912" y="1024"/>
                  </a:lnTo>
                  <a:lnTo>
                    <a:pt x="912" y="1024"/>
                  </a:lnTo>
                  <a:lnTo>
                    <a:pt x="936" y="1008"/>
                  </a:lnTo>
                  <a:lnTo>
                    <a:pt x="936" y="1008"/>
                  </a:lnTo>
                  <a:lnTo>
                    <a:pt x="952" y="992"/>
                  </a:lnTo>
                  <a:lnTo>
                    <a:pt x="952" y="992"/>
                  </a:lnTo>
                  <a:lnTo>
                    <a:pt x="976" y="976"/>
                  </a:lnTo>
                  <a:lnTo>
                    <a:pt x="976" y="976"/>
                  </a:lnTo>
                  <a:lnTo>
                    <a:pt x="992" y="960"/>
                  </a:lnTo>
                  <a:lnTo>
                    <a:pt x="992" y="960"/>
                  </a:lnTo>
                  <a:lnTo>
                    <a:pt x="1016" y="944"/>
                  </a:lnTo>
                  <a:lnTo>
                    <a:pt x="1016" y="944"/>
                  </a:lnTo>
                  <a:lnTo>
                    <a:pt x="1040" y="920"/>
                  </a:lnTo>
                  <a:lnTo>
                    <a:pt x="1040" y="920"/>
                  </a:lnTo>
                  <a:lnTo>
                    <a:pt x="1056" y="904"/>
                  </a:lnTo>
                  <a:lnTo>
                    <a:pt x="1056" y="904"/>
                  </a:lnTo>
                  <a:lnTo>
                    <a:pt x="1080" y="888"/>
                  </a:lnTo>
                  <a:lnTo>
                    <a:pt x="1080" y="888"/>
                  </a:lnTo>
                  <a:lnTo>
                    <a:pt x="1096" y="872"/>
                  </a:lnTo>
                  <a:lnTo>
                    <a:pt x="1096" y="872"/>
                  </a:lnTo>
                  <a:lnTo>
                    <a:pt x="1120" y="856"/>
                  </a:lnTo>
                  <a:lnTo>
                    <a:pt x="1120" y="856"/>
                  </a:lnTo>
                  <a:lnTo>
                    <a:pt x="1144" y="832"/>
                  </a:lnTo>
                  <a:lnTo>
                    <a:pt x="1144" y="832"/>
                  </a:lnTo>
                  <a:lnTo>
                    <a:pt x="1160" y="816"/>
                  </a:lnTo>
                  <a:lnTo>
                    <a:pt x="1160" y="816"/>
                  </a:lnTo>
                  <a:lnTo>
                    <a:pt x="1184" y="800"/>
                  </a:lnTo>
                  <a:lnTo>
                    <a:pt x="1184" y="800"/>
                  </a:lnTo>
                  <a:lnTo>
                    <a:pt x="1200" y="784"/>
                  </a:lnTo>
                  <a:lnTo>
                    <a:pt x="1200" y="784"/>
                  </a:lnTo>
                  <a:lnTo>
                    <a:pt x="1224" y="760"/>
                  </a:lnTo>
                  <a:lnTo>
                    <a:pt x="1224" y="760"/>
                  </a:lnTo>
                  <a:lnTo>
                    <a:pt x="1248" y="744"/>
                  </a:lnTo>
                  <a:lnTo>
                    <a:pt x="1248" y="744"/>
                  </a:lnTo>
                  <a:lnTo>
                    <a:pt x="1264" y="728"/>
                  </a:lnTo>
                  <a:lnTo>
                    <a:pt x="1264" y="728"/>
                  </a:lnTo>
                  <a:lnTo>
                    <a:pt x="1288" y="704"/>
                  </a:lnTo>
                  <a:lnTo>
                    <a:pt x="1288" y="704"/>
                  </a:lnTo>
                  <a:lnTo>
                    <a:pt x="1304" y="688"/>
                  </a:lnTo>
                  <a:lnTo>
                    <a:pt x="1304" y="688"/>
                  </a:lnTo>
                  <a:lnTo>
                    <a:pt x="1328" y="664"/>
                  </a:lnTo>
                  <a:lnTo>
                    <a:pt x="1328" y="664"/>
                  </a:lnTo>
                  <a:lnTo>
                    <a:pt x="1344" y="648"/>
                  </a:lnTo>
                  <a:lnTo>
                    <a:pt x="1344" y="648"/>
                  </a:lnTo>
                  <a:lnTo>
                    <a:pt x="1368" y="632"/>
                  </a:lnTo>
                  <a:lnTo>
                    <a:pt x="1368" y="632"/>
                  </a:lnTo>
                  <a:lnTo>
                    <a:pt x="1392" y="608"/>
                  </a:lnTo>
                  <a:lnTo>
                    <a:pt x="1392" y="608"/>
                  </a:lnTo>
                  <a:lnTo>
                    <a:pt x="1408" y="592"/>
                  </a:lnTo>
                  <a:lnTo>
                    <a:pt x="1408" y="592"/>
                  </a:lnTo>
                  <a:lnTo>
                    <a:pt x="1432" y="568"/>
                  </a:lnTo>
                  <a:lnTo>
                    <a:pt x="1432" y="568"/>
                  </a:lnTo>
                  <a:lnTo>
                    <a:pt x="1448" y="552"/>
                  </a:lnTo>
                  <a:lnTo>
                    <a:pt x="1448" y="552"/>
                  </a:lnTo>
                  <a:lnTo>
                    <a:pt x="1472" y="528"/>
                  </a:lnTo>
                  <a:lnTo>
                    <a:pt x="1472" y="528"/>
                  </a:lnTo>
                  <a:lnTo>
                    <a:pt x="1496" y="512"/>
                  </a:lnTo>
                  <a:lnTo>
                    <a:pt x="1496" y="512"/>
                  </a:lnTo>
                  <a:lnTo>
                    <a:pt x="1512" y="488"/>
                  </a:lnTo>
                  <a:lnTo>
                    <a:pt x="1512" y="488"/>
                  </a:lnTo>
                  <a:lnTo>
                    <a:pt x="1536" y="472"/>
                  </a:lnTo>
                  <a:lnTo>
                    <a:pt x="1536" y="472"/>
                  </a:lnTo>
                  <a:lnTo>
                    <a:pt x="1552" y="448"/>
                  </a:lnTo>
                  <a:lnTo>
                    <a:pt x="1552" y="448"/>
                  </a:lnTo>
                  <a:lnTo>
                    <a:pt x="1576" y="432"/>
                  </a:lnTo>
                  <a:lnTo>
                    <a:pt x="1576" y="432"/>
                  </a:lnTo>
                  <a:lnTo>
                    <a:pt x="1600" y="408"/>
                  </a:lnTo>
                  <a:lnTo>
                    <a:pt x="1600" y="408"/>
                  </a:lnTo>
                  <a:lnTo>
                    <a:pt x="1616" y="392"/>
                  </a:lnTo>
                  <a:lnTo>
                    <a:pt x="1616" y="392"/>
                  </a:lnTo>
                  <a:lnTo>
                    <a:pt x="1640" y="368"/>
                  </a:lnTo>
                  <a:lnTo>
                    <a:pt x="1640" y="368"/>
                  </a:lnTo>
                  <a:lnTo>
                    <a:pt x="1656" y="344"/>
                  </a:lnTo>
                  <a:lnTo>
                    <a:pt x="1656" y="344"/>
                  </a:lnTo>
                  <a:lnTo>
                    <a:pt x="1680" y="328"/>
                  </a:lnTo>
                  <a:lnTo>
                    <a:pt x="1680" y="328"/>
                  </a:lnTo>
                  <a:lnTo>
                    <a:pt x="1704" y="304"/>
                  </a:lnTo>
                  <a:lnTo>
                    <a:pt x="1704" y="304"/>
                  </a:lnTo>
                  <a:lnTo>
                    <a:pt x="1720" y="280"/>
                  </a:lnTo>
                  <a:lnTo>
                    <a:pt x="1720" y="280"/>
                  </a:lnTo>
                  <a:lnTo>
                    <a:pt x="1744" y="264"/>
                  </a:lnTo>
                  <a:lnTo>
                    <a:pt x="1744" y="264"/>
                  </a:lnTo>
                  <a:lnTo>
                    <a:pt x="1760" y="240"/>
                  </a:lnTo>
                  <a:lnTo>
                    <a:pt x="1760" y="240"/>
                  </a:lnTo>
                  <a:lnTo>
                    <a:pt x="1784" y="224"/>
                  </a:lnTo>
                  <a:lnTo>
                    <a:pt x="1784" y="224"/>
                  </a:lnTo>
                  <a:lnTo>
                    <a:pt x="1800" y="200"/>
                  </a:lnTo>
                  <a:lnTo>
                    <a:pt x="1800" y="200"/>
                  </a:lnTo>
                  <a:lnTo>
                    <a:pt x="1824" y="176"/>
                  </a:lnTo>
                  <a:lnTo>
                    <a:pt x="1824" y="176"/>
                  </a:lnTo>
                  <a:lnTo>
                    <a:pt x="1848" y="152"/>
                  </a:lnTo>
                  <a:lnTo>
                    <a:pt x="1848" y="152"/>
                  </a:lnTo>
                  <a:lnTo>
                    <a:pt x="1864" y="136"/>
                  </a:lnTo>
                  <a:lnTo>
                    <a:pt x="1864" y="136"/>
                  </a:lnTo>
                  <a:lnTo>
                    <a:pt x="1888" y="112"/>
                  </a:lnTo>
                  <a:lnTo>
                    <a:pt x="1888" y="112"/>
                  </a:lnTo>
                  <a:lnTo>
                    <a:pt x="1904" y="88"/>
                  </a:lnTo>
                  <a:lnTo>
                    <a:pt x="1904" y="88"/>
                  </a:lnTo>
                  <a:lnTo>
                    <a:pt x="1928" y="64"/>
                  </a:lnTo>
                  <a:lnTo>
                    <a:pt x="1928" y="64"/>
                  </a:lnTo>
                  <a:lnTo>
                    <a:pt x="1952" y="48"/>
                  </a:lnTo>
                  <a:lnTo>
                    <a:pt x="1952" y="48"/>
                  </a:lnTo>
                  <a:lnTo>
                    <a:pt x="1968" y="24"/>
                  </a:lnTo>
                  <a:lnTo>
                    <a:pt x="1968" y="24"/>
                  </a:lnTo>
                  <a:lnTo>
                    <a:pt x="1992" y="0"/>
                  </a:lnTo>
                  <a:lnTo>
                    <a:pt x="19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054080" y="1889280"/>
              <a:ext cx="3162240" cy="2565360"/>
            </a:xfrm>
            <a:custGeom>
              <a:avLst/>
              <a:gdLst/>
              <a:ahLst/>
              <a:rect l="l" t="t" r="r" b="b"/>
              <a:pathLst>
                <a:path w="1992" h="1616">
                  <a:moveTo>
                    <a:pt x="0" y="1616"/>
                  </a:moveTo>
                  <a:lnTo>
                    <a:pt x="24" y="1600"/>
                  </a:lnTo>
                  <a:lnTo>
                    <a:pt x="40" y="1592"/>
                  </a:lnTo>
                  <a:lnTo>
                    <a:pt x="64" y="1584"/>
                  </a:lnTo>
                  <a:lnTo>
                    <a:pt x="80" y="1568"/>
                  </a:lnTo>
                  <a:lnTo>
                    <a:pt x="104" y="1560"/>
                  </a:lnTo>
                  <a:lnTo>
                    <a:pt x="128" y="1552"/>
                  </a:lnTo>
                  <a:lnTo>
                    <a:pt x="144" y="1536"/>
                  </a:lnTo>
                  <a:lnTo>
                    <a:pt x="168" y="1528"/>
                  </a:lnTo>
                  <a:lnTo>
                    <a:pt x="184" y="1520"/>
                  </a:lnTo>
                  <a:lnTo>
                    <a:pt x="208" y="1504"/>
                  </a:lnTo>
                  <a:lnTo>
                    <a:pt x="232" y="1496"/>
                  </a:lnTo>
                  <a:lnTo>
                    <a:pt x="248" y="1480"/>
                  </a:lnTo>
                  <a:lnTo>
                    <a:pt x="272" y="1472"/>
                  </a:lnTo>
                  <a:lnTo>
                    <a:pt x="288" y="1456"/>
                  </a:lnTo>
                  <a:lnTo>
                    <a:pt x="312" y="1448"/>
                  </a:lnTo>
                  <a:lnTo>
                    <a:pt x="328" y="1432"/>
                  </a:lnTo>
                  <a:lnTo>
                    <a:pt x="352" y="1424"/>
                  </a:lnTo>
                  <a:lnTo>
                    <a:pt x="376" y="1408"/>
                  </a:lnTo>
                  <a:lnTo>
                    <a:pt x="392" y="1392"/>
                  </a:lnTo>
                  <a:lnTo>
                    <a:pt x="416" y="1384"/>
                  </a:lnTo>
                  <a:lnTo>
                    <a:pt x="432" y="1368"/>
                  </a:lnTo>
                  <a:lnTo>
                    <a:pt x="456" y="1352"/>
                  </a:lnTo>
                  <a:lnTo>
                    <a:pt x="480" y="1344"/>
                  </a:lnTo>
                  <a:lnTo>
                    <a:pt x="496" y="1328"/>
                  </a:lnTo>
                  <a:lnTo>
                    <a:pt x="520" y="1312"/>
                  </a:lnTo>
                  <a:lnTo>
                    <a:pt x="536" y="1304"/>
                  </a:lnTo>
                  <a:lnTo>
                    <a:pt x="560" y="1288"/>
                  </a:lnTo>
                  <a:lnTo>
                    <a:pt x="584" y="1272"/>
                  </a:lnTo>
                  <a:lnTo>
                    <a:pt x="600" y="1256"/>
                  </a:lnTo>
                  <a:lnTo>
                    <a:pt x="624" y="1240"/>
                  </a:lnTo>
                  <a:lnTo>
                    <a:pt x="640" y="1232"/>
                  </a:lnTo>
                  <a:lnTo>
                    <a:pt x="664" y="1216"/>
                  </a:lnTo>
                  <a:lnTo>
                    <a:pt x="688" y="1200"/>
                  </a:lnTo>
                  <a:lnTo>
                    <a:pt x="704" y="1184"/>
                  </a:lnTo>
                  <a:lnTo>
                    <a:pt x="728" y="1168"/>
                  </a:lnTo>
                  <a:lnTo>
                    <a:pt x="744" y="1152"/>
                  </a:lnTo>
                  <a:lnTo>
                    <a:pt x="768" y="1136"/>
                  </a:lnTo>
                  <a:lnTo>
                    <a:pt x="784" y="1120"/>
                  </a:lnTo>
                  <a:lnTo>
                    <a:pt x="808" y="1104"/>
                  </a:lnTo>
                  <a:lnTo>
                    <a:pt x="832" y="1088"/>
                  </a:lnTo>
                  <a:lnTo>
                    <a:pt x="848" y="1072"/>
                  </a:lnTo>
                  <a:lnTo>
                    <a:pt x="872" y="1056"/>
                  </a:lnTo>
                  <a:lnTo>
                    <a:pt x="888" y="1040"/>
                  </a:lnTo>
                  <a:lnTo>
                    <a:pt x="912" y="1024"/>
                  </a:lnTo>
                  <a:lnTo>
                    <a:pt x="936" y="1008"/>
                  </a:lnTo>
                  <a:lnTo>
                    <a:pt x="952" y="992"/>
                  </a:lnTo>
                  <a:lnTo>
                    <a:pt x="976" y="976"/>
                  </a:lnTo>
                  <a:lnTo>
                    <a:pt x="992" y="960"/>
                  </a:lnTo>
                  <a:lnTo>
                    <a:pt x="1016" y="944"/>
                  </a:lnTo>
                  <a:lnTo>
                    <a:pt x="1040" y="920"/>
                  </a:lnTo>
                  <a:lnTo>
                    <a:pt x="1056" y="904"/>
                  </a:lnTo>
                  <a:lnTo>
                    <a:pt x="1080" y="888"/>
                  </a:lnTo>
                  <a:lnTo>
                    <a:pt x="1096" y="872"/>
                  </a:lnTo>
                  <a:lnTo>
                    <a:pt x="1120" y="856"/>
                  </a:lnTo>
                  <a:lnTo>
                    <a:pt x="1144" y="832"/>
                  </a:lnTo>
                  <a:lnTo>
                    <a:pt x="1160" y="816"/>
                  </a:lnTo>
                  <a:lnTo>
                    <a:pt x="1184" y="800"/>
                  </a:lnTo>
                  <a:lnTo>
                    <a:pt x="1200" y="784"/>
                  </a:lnTo>
                  <a:lnTo>
                    <a:pt x="1224" y="760"/>
                  </a:lnTo>
                  <a:lnTo>
                    <a:pt x="1248" y="744"/>
                  </a:lnTo>
                  <a:lnTo>
                    <a:pt x="1264" y="728"/>
                  </a:lnTo>
                  <a:lnTo>
                    <a:pt x="1288" y="704"/>
                  </a:lnTo>
                  <a:lnTo>
                    <a:pt x="1304" y="688"/>
                  </a:lnTo>
                  <a:lnTo>
                    <a:pt x="1328" y="664"/>
                  </a:lnTo>
                  <a:lnTo>
                    <a:pt x="1344" y="648"/>
                  </a:lnTo>
                  <a:lnTo>
                    <a:pt x="1368" y="632"/>
                  </a:lnTo>
                  <a:lnTo>
                    <a:pt x="1392" y="608"/>
                  </a:lnTo>
                  <a:lnTo>
                    <a:pt x="1408" y="592"/>
                  </a:lnTo>
                  <a:lnTo>
                    <a:pt x="1432" y="568"/>
                  </a:lnTo>
                  <a:lnTo>
                    <a:pt x="1448" y="552"/>
                  </a:lnTo>
                  <a:lnTo>
                    <a:pt x="1472" y="528"/>
                  </a:lnTo>
                  <a:lnTo>
                    <a:pt x="1496" y="512"/>
                  </a:lnTo>
                  <a:lnTo>
                    <a:pt x="1512" y="488"/>
                  </a:lnTo>
                  <a:lnTo>
                    <a:pt x="1536" y="472"/>
                  </a:lnTo>
                  <a:lnTo>
                    <a:pt x="1552" y="448"/>
                  </a:lnTo>
                  <a:lnTo>
                    <a:pt x="1576" y="432"/>
                  </a:lnTo>
                  <a:lnTo>
                    <a:pt x="1600" y="408"/>
                  </a:lnTo>
                  <a:lnTo>
                    <a:pt x="1616" y="392"/>
                  </a:lnTo>
                  <a:lnTo>
                    <a:pt x="1640" y="368"/>
                  </a:lnTo>
                  <a:lnTo>
                    <a:pt x="1656" y="344"/>
                  </a:lnTo>
                  <a:lnTo>
                    <a:pt x="1680" y="328"/>
                  </a:lnTo>
                  <a:lnTo>
                    <a:pt x="1704" y="304"/>
                  </a:lnTo>
                  <a:lnTo>
                    <a:pt x="1720" y="280"/>
                  </a:lnTo>
                  <a:lnTo>
                    <a:pt x="1744" y="264"/>
                  </a:lnTo>
                  <a:lnTo>
                    <a:pt x="1760" y="240"/>
                  </a:lnTo>
                  <a:lnTo>
                    <a:pt x="1784" y="224"/>
                  </a:lnTo>
                  <a:lnTo>
                    <a:pt x="1800" y="200"/>
                  </a:lnTo>
                  <a:lnTo>
                    <a:pt x="1824" y="176"/>
                  </a:lnTo>
                  <a:lnTo>
                    <a:pt x="1848" y="152"/>
                  </a:lnTo>
                  <a:lnTo>
                    <a:pt x="1864" y="136"/>
                  </a:lnTo>
                  <a:lnTo>
                    <a:pt x="1888" y="112"/>
                  </a:lnTo>
                  <a:lnTo>
                    <a:pt x="1904" y="88"/>
                  </a:lnTo>
                  <a:lnTo>
                    <a:pt x="1928" y="64"/>
                  </a:lnTo>
                  <a:lnTo>
                    <a:pt x="1952" y="48"/>
                  </a:lnTo>
                  <a:lnTo>
                    <a:pt x="1968" y="24"/>
                  </a:lnTo>
                  <a:lnTo>
                    <a:pt x="19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054080" y="4556160"/>
              <a:ext cx="3949560" cy="431640"/>
            </a:xfrm>
            <a:custGeom>
              <a:avLst/>
              <a:gdLst/>
              <a:ahLst/>
              <a:rect l="l" t="t" r="r" b="b"/>
              <a:pathLst>
                <a:path w="2488" h="272">
                  <a:moveTo>
                    <a:pt x="0" y="272"/>
                  </a:moveTo>
                  <a:lnTo>
                    <a:pt x="24" y="272"/>
                  </a:lnTo>
                  <a:lnTo>
                    <a:pt x="40" y="272"/>
                  </a:lnTo>
                  <a:lnTo>
                    <a:pt x="64" y="272"/>
                  </a:lnTo>
                  <a:lnTo>
                    <a:pt x="80" y="264"/>
                  </a:lnTo>
                  <a:lnTo>
                    <a:pt x="104" y="264"/>
                  </a:lnTo>
                  <a:lnTo>
                    <a:pt x="128" y="264"/>
                  </a:lnTo>
                  <a:lnTo>
                    <a:pt x="144" y="256"/>
                  </a:lnTo>
                  <a:lnTo>
                    <a:pt x="168" y="256"/>
                  </a:lnTo>
                  <a:lnTo>
                    <a:pt x="184" y="256"/>
                  </a:lnTo>
                  <a:lnTo>
                    <a:pt x="208" y="256"/>
                  </a:lnTo>
                  <a:lnTo>
                    <a:pt x="232" y="248"/>
                  </a:lnTo>
                  <a:lnTo>
                    <a:pt x="248" y="248"/>
                  </a:lnTo>
                  <a:lnTo>
                    <a:pt x="272" y="248"/>
                  </a:lnTo>
                  <a:lnTo>
                    <a:pt x="288" y="248"/>
                  </a:lnTo>
                  <a:lnTo>
                    <a:pt x="312" y="240"/>
                  </a:lnTo>
                  <a:lnTo>
                    <a:pt x="328" y="240"/>
                  </a:lnTo>
                  <a:lnTo>
                    <a:pt x="352" y="240"/>
                  </a:lnTo>
                  <a:lnTo>
                    <a:pt x="376" y="240"/>
                  </a:lnTo>
                  <a:lnTo>
                    <a:pt x="392" y="232"/>
                  </a:lnTo>
                  <a:lnTo>
                    <a:pt x="416" y="232"/>
                  </a:lnTo>
                  <a:lnTo>
                    <a:pt x="432" y="232"/>
                  </a:lnTo>
                  <a:lnTo>
                    <a:pt x="456" y="224"/>
                  </a:lnTo>
                  <a:lnTo>
                    <a:pt x="480" y="224"/>
                  </a:lnTo>
                  <a:lnTo>
                    <a:pt x="496" y="224"/>
                  </a:lnTo>
                  <a:lnTo>
                    <a:pt x="520" y="224"/>
                  </a:lnTo>
                  <a:lnTo>
                    <a:pt x="536" y="216"/>
                  </a:lnTo>
                  <a:lnTo>
                    <a:pt x="560" y="216"/>
                  </a:lnTo>
                  <a:lnTo>
                    <a:pt x="584" y="216"/>
                  </a:lnTo>
                  <a:lnTo>
                    <a:pt x="600" y="216"/>
                  </a:lnTo>
                  <a:lnTo>
                    <a:pt x="624" y="208"/>
                  </a:lnTo>
                  <a:lnTo>
                    <a:pt x="640" y="208"/>
                  </a:lnTo>
                  <a:lnTo>
                    <a:pt x="664" y="208"/>
                  </a:lnTo>
                  <a:lnTo>
                    <a:pt x="688" y="200"/>
                  </a:lnTo>
                  <a:lnTo>
                    <a:pt x="704" y="200"/>
                  </a:lnTo>
                  <a:lnTo>
                    <a:pt x="728" y="200"/>
                  </a:lnTo>
                  <a:lnTo>
                    <a:pt x="744" y="200"/>
                  </a:lnTo>
                  <a:lnTo>
                    <a:pt x="768" y="192"/>
                  </a:lnTo>
                  <a:lnTo>
                    <a:pt x="784" y="192"/>
                  </a:lnTo>
                  <a:lnTo>
                    <a:pt x="808" y="192"/>
                  </a:lnTo>
                  <a:lnTo>
                    <a:pt x="832" y="184"/>
                  </a:lnTo>
                  <a:lnTo>
                    <a:pt x="848" y="184"/>
                  </a:lnTo>
                  <a:lnTo>
                    <a:pt x="872" y="184"/>
                  </a:lnTo>
                  <a:lnTo>
                    <a:pt x="888" y="184"/>
                  </a:lnTo>
                  <a:lnTo>
                    <a:pt x="912" y="176"/>
                  </a:lnTo>
                  <a:lnTo>
                    <a:pt x="936" y="176"/>
                  </a:lnTo>
                  <a:lnTo>
                    <a:pt x="952" y="176"/>
                  </a:lnTo>
                  <a:lnTo>
                    <a:pt x="976" y="168"/>
                  </a:lnTo>
                  <a:lnTo>
                    <a:pt x="992" y="168"/>
                  </a:lnTo>
                  <a:lnTo>
                    <a:pt x="1016" y="168"/>
                  </a:lnTo>
                  <a:lnTo>
                    <a:pt x="1040" y="168"/>
                  </a:lnTo>
                  <a:lnTo>
                    <a:pt x="1056" y="160"/>
                  </a:lnTo>
                  <a:lnTo>
                    <a:pt x="1080" y="160"/>
                  </a:lnTo>
                  <a:lnTo>
                    <a:pt x="1096" y="160"/>
                  </a:lnTo>
                  <a:lnTo>
                    <a:pt x="1120" y="152"/>
                  </a:lnTo>
                  <a:lnTo>
                    <a:pt x="1144" y="152"/>
                  </a:lnTo>
                  <a:lnTo>
                    <a:pt x="1160" y="152"/>
                  </a:lnTo>
                  <a:lnTo>
                    <a:pt x="1184" y="152"/>
                  </a:lnTo>
                  <a:lnTo>
                    <a:pt x="1200" y="144"/>
                  </a:lnTo>
                  <a:lnTo>
                    <a:pt x="1224" y="144"/>
                  </a:lnTo>
                  <a:lnTo>
                    <a:pt x="1248" y="144"/>
                  </a:lnTo>
                  <a:lnTo>
                    <a:pt x="1264" y="136"/>
                  </a:lnTo>
                  <a:lnTo>
                    <a:pt x="1288" y="136"/>
                  </a:lnTo>
                  <a:lnTo>
                    <a:pt x="1304" y="136"/>
                  </a:lnTo>
                  <a:lnTo>
                    <a:pt x="1328" y="136"/>
                  </a:lnTo>
                  <a:lnTo>
                    <a:pt x="1344" y="128"/>
                  </a:lnTo>
                  <a:lnTo>
                    <a:pt x="1368" y="128"/>
                  </a:lnTo>
                  <a:lnTo>
                    <a:pt x="1392" y="128"/>
                  </a:lnTo>
                  <a:lnTo>
                    <a:pt x="1408" y="120"/>
                  </a:lnTo>
                  <a:lnTo>
                    <a:pt x="1432" y="120"/>
                  </a:lnTo>
                  <a:lnTo>
                    <a:pt x="1448" y="120"/>
                  </a:lnTo>
                  <a:lnTo>
                    <a:pt x="1472" y="120"/>
                  </a:lnTo>
                  <a:lnTo>
                    <a:pt x="1496" y="112"/>
                  </a:lnTo>
                  <a:lnTo>
                    <a:pt x="1512" y="112"/>
                  </a:lnTo>
                  <a:lnTo>
                    <a:pt x="1536" y="112"/>
                  </a:lnTo>
                  <a:lnTo>
                    <a:pt x="1552" y="104"/>
                  </a:lnTo>
                  <a:lnTo>
                    <a:pt x="1576" y="104"/>
                  </a:lnTo>
                  <a:lnTo>
                    <a:pt x="1600" y="104"/>
                  </a:lnTo>
                  <a:lnTo>
                    <a:pt x="1616" y="104"/>
                  </a:lnTo>
                  <a:lnTo>
                    <a:pt x="1640" y="96"/>
                  </a:lnTo>
                  <a:lnTo>
                    <a:pt x="1656" y="96"/>
                  </a:lnTo>
                  <a:lnTo>
                    <a:pt x="1680" y="96"/>
                  </a:lnTo>
                  <a:lnTo>
                    <a:pt x="1704" y="88"/>
                  </a:lnTo>
                  <a:lnTo>
                    <a:pt x="1720" y="88"/>
                  </a:lnTo>
                  <a:lnTo>
                    <a:pt x="1744" y="88"/>
                  </a:lnTo>
                  <a:lnTo>
                    <a:pt x="1760" y="88"/>
                  </a:lnTo>
                  <a:lnTo>
                    <a:pt x="1784" y="80"/>
                  </a:lnTo>
                  <a:lnTo>
                    <a:pt x="1800" y="80"/>
                  </a:lnTo>
                  <a:lnTo>
                    <a:pt x="1824" y="80"/>
                  </a:lnTo>
                  <a:lnTo>
                    <a:pt x="1848" y="72"/>
                  </a:lnTo>
                  <a:lnTo>
                    <a:pt x="1864" y="72"/>
                  </a:lnTo>
                  <a:lnTo>
                    <a:pt x="1888" y="72"/>
                  </a:lnTo>
                  <a:lnTo>
                    <a:pt x="1904" y="72"/>
                  </a:lnTo>
                  <a:lnTo>
                    <a:pt x="1928" y="64"/>
                  </a:lnTo>
                  <a:lnTo>
                    <a:pt x="1952" y="64"/>
                  </a:lnTo>
                  <a:lnTo>
                    <a:pt x="1968" y="64"/>
                  </a:lnTo>
                  <a:lnTo>
                    <a:pt x="1992" y="56"/>
                  </a:lnTo>
                  <a:lnTo>
                    <a:pt x="2008" y="56"/>
                  </a:lnTo>
                  <a:lnTo>
                    <a:pt x="2032" y="56"/>
                  </a:lnTo>
                  <a:lnTo>
                    <a:pt x="2056" y="48"/>
                  </a:lnTo>
                  <a:lnTo>
                    <a:pt x="2072" y="48"/>
                  </a:lnTo>
                  <a:lnTo>
                    <a:pt x="2096" y="48"/>
                  </a:lnTo>
                  <a:lnTo>
                    <a:pt x="2112" y="48"/>
                  </a:lnTo>
                  <a:lnTo>
                    <a:pt x="2136" y="40"/>
                  </a:lnTo>
                  <a:lnTo>
                    <a:pt x="2160" y="40"/>
                  </a:lnTo>
                  <a:lnTo>
                    <a:pt x="2176" y="40"/>
                  </a:lnTo>
                  <a:lnTo>
                    <a:pt x="2200" y="32"/>
                  </a:lnTo>
                  <a:lnTo>
                    <a:pt x="2216" y="32"/>
                  </a:lnTo>
                  <a:lnTo>
                    <a:pt x="2240" y="32"/>
                  </a:lnTo>
                  <a:lnTo>
                    <a:pt x="2256" y="32"/>
                  </a:lnTo>
                  <a:lnTo>
                    <a:pt x="2280" y="24"/>
                  </a:lnTo>
                  <a:lnTo>
                    <a:pt x="2304" y="24"/>
                  </a:lnTo>
                  <a:lnTo>
                    <a:pt x="2320" y="24"/>
                  </a:lnTo>
                  <a:lnTo>
                    <a:pt x="2344" y="16"/>
                  </a:lnTo>
                  <a:lnTo>
                    <a:pt x="2360" y="16"/>
                  </a:lnTo>
                  <a:lnTo>
                    <a:pt x="2384" y="16"/>
                  </a:lnTo>
                  <a:lnTo>
                    <a:pt x="2408" y="8"/>
                  </a:lnTo>
                  <a:lnTo>
                    <a:pt x="2424" y="8"/>
                  </a:lnTo>
                  <a:lnTo>
                    <a:pt x="2448" y="8"/>
                  </a:lnTo>
                  <a:lnTo>
                    <a:pt x="2464" y="8"/>
                  </a:lnTo>
                  <a:lnTo>
                    <a:pt x="2488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701720" y="5178600"/>
              <a:ext cx="88920" cy="8892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92440" y="5102280"/>
              <a:ext cx="7632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30600" y="5064120"/>
              <a:ext cx="1440" cy="763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705040" y="5076720"/>
              <a:ext cx="50760" cy="511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704680" y="5076720"/>
              <a:ext cx="50760" cy="511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470480" y="408636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508640" y="4048200"/>
              <a:ext cx="14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483080" y="4060800"/>
              <a:ext cx="50760" cy="5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4482720" y="4060800"/>
              <a:ext cx="50760" cy="5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87800" y="4048200"/>
              <a:ext cx="88920" cy="88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546440" y="2828880"/>
              <a:ext cx="763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584600" y="2790720"/>
              <a:ext cx="1800" cy="76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559400" y="2803680"/>
              <a:ext cx="50760" cy="50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4559040" y="2803680"/>
              <a:ext cx="50760" cy="50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543400" y="1755720"/>
              <a:ext cx="1180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ate versus SNR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710080" y="5540400"/>
              <a:ext cx="74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s/No (dB)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16200000">
              <a:off x="377280" y="3477600"/>
              <a:ext cx="84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ate (Mbps)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225960" y="4454640"/>
              <a:ext cx="1440" cy="160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559400" y="4454640"/>
              <a:ext cx="1440" cy="160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3238560" y="5889600"/>
              <a:ext cx="1282680" cy="88920"/>
              <a:chOff x="3238560" y="5889600"/>
              <a:chExt cx="1282680" cy="88920"/>
            </a:xfrm>
          </p:grpSpPr>
          <p:sp>
            <p:nvSpPr>
              <p:cNvPr id="327" name=""/>
              <p:cNvSpPr/>
              <p:nvPr/>
            </p:nvSpPr>
            <p:spPr>
              <a:xfrm>
                <a:off x="4330800" y="5889600"/>
                <a:ext cx="190440" cy="88920"/>
              </a:xfrm>
              <a:custGeom>
                <a:avLst/>
                <a:gdLst/>
                <a:ahLst/>
                <a:rect l="l" t="t" r="r" b="b"/>
                <a:pathLst>
                  <a:path w="120" h="56">
                    <a:moveTo>
                      <a:pt x="120" y="32"/>
                    </a:moveTo>
                    <a:lnTo>
                      <a:pt x="0" y="56"/>
                    </a:lnTo>
                    <a:lnTo>
                      <a:pt x="0" y="32"/>
                    </a:lnTo>
                    <a:lnTo>
                      <a:pt x="0" y="0"/>
                    </a:lnTo>
                    <a:lnTo>
                      <a:pt x="120" y="3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238560" y="5889600"/>
                <a:ext cx="177840" cy="88920"/>
              </a:xfrm>
              <a:custGeom>
                <a:avLst/>
                <a:gdLst/>
                <a:ahLst/>
                <a:rect l="l" t="t" r="r" b="b"/>
                <a:pathLst>
                  <a:path w="112" h="56">
                    <a:moveTo>
                      <a:pt x="0" y="32"/>
                    </a:moveTo>
                    <a:lnTo>
                      <a:pt x="112" y="0"/>
                    </a:lnTo>
                    <a:lnTo>
                      <a:pt x="112" y="32"/>
                    </a:lnTo>
                    <a:lnTo>
                      <a:pt x="112" y="56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3416400" y="5940360"/>
                <a:ext cx="91440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3405240" y="6060960"/>
              <a:ext cx="77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Garamond"/>
                </a:rPr>
                <a:t>Increas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317400" y="6264360"/>
              <a:ext cx="1024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Garamond"/>
                </a:rPr>
                <a:t>Robustness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775040" y="2803680"/>
              <a:ext cx="800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775040" y="4060800"/>
              <a:ext cx="8002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5372280" y="2803680"/>
              <a:ext cx="88560" cy="1257120"/>
              <a:chOff x="5372280" y="2803680"/>
              <a:chExt cx="88560" cy="1257120"/>
            </a:xfrm>
          </p:grpSpPr>
          <p:sp>
            <p:nvSpPr>
              <p:cNvPr id="335" name=""/>
              <p:cNvSpPr/>
              <p:nvPr/>
            </p:nvSpPr>
            <p:spPr>
              <a:xfrm>
                <a:off x="5372280" y="2803680"/>
                <a:ext cx="88560" cy="177840"/>
              </a:xfrm>
              <a:custGeom>
                <a:avLst/>
                <a:gdLst/>
                <a:ahLst/>
                <a:rect l="l" t="t" r="r" b="b"/>
                <a:pathLst>
                  <a:path w="56" h="112">
                    <a:moveTo>
                      <a:pt x="24" y="0"/>
                    </a:moveTo>
                    <a:lnTo>
                      <a:pt x="56" y="112"/>
                    </a:lnTo>
                    <a:lnTo>
                      <a:pt x="24" y="112"/>
                    </a:lnTo>
                    <a:lnTo>
                      <a:pt x="0" y="11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372280" y="3882960"/>
                <a:ext cx="88560" cy="177840"/>
              </a:xfrm>
              <a:custGeom>
                <a:avLst/>
                <a:gdLst/>
                <a:ahLst/>
                <a:rect l="l" t="t" r="r" b="b"/>
                <a:pathLst>
                  <a:path w="56" h="112">
                    <a:moveTo>
                      <a:pt x="24" y="112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56" y="0"/>
                    </a:lnTo>
                    <a:lnTo>
                      <a:pt x="24" y="1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410080" y="2981520"/>
                <a:ext cx="1800" cy="90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5386320" y="3184560"/>
              <a:ext cx="77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Garamond"/>
                </a:rPr>
                <a:t>Increas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34640" y="3381480"/>
              <a:ext cx="423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Garamond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65240" y="3584520"/>
              <a:ext cx="40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Garamond"/>
                </a:rPr>
                <a:t>Rat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18840" y="2346480"/>
              <a:ext cx="1108800" cy="337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aramond"/>
                </a:rPr>
                <a:t>PER = 10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Garamond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BF528-F089-41C2-95B6-F146A69084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Packet Binary Convolutional Coding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ombines Binary Convolutional Coding with Codeword Scramblin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r 11 (and 5.5) Mbp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Rate k=1, n = 2 encod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64 stat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QPSK (BPSK) modulatio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free^2/Es = 9/2 = 6.5 dB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r 22 Mbp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Rate k=2, n=3 encod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256 stat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8PSK modulatio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free^2/Es = 704/98 = 8.6 dB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F7B9C-990A-4D38-9195-D2D30ED292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PBCC Components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629892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261E2-BB30-403A-97F0-B5A3D75023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BCC Encoder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BCC-11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BCC-22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8" name=""/>
          <p:cNvSpPr/>
          <p:nvPr/>
        </p:nvSpPr>
        <p:spPr>
          <a:xfrm>
            <a:off x="1066680" y="3581280"/>
            <a:ext cx="746784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552456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0" name=""/>
          <p:cNvGraphicFramePr/>
          <p:nvPr/>
        </p:nvGraphicFramePr>
        <p:xfrm>
          <a:off x="533520" y="5334120"/>
          <a:ext cx="2222280" cy="46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5334120"/>
                    <a:ext cx="222228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457200" y="3276720"/>
          <a:ext cx="3492360" cy="241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3276720"/>
                    <a:ext cx="349236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4" name="" descr=""/>
          <p:cNvPicPr/>
          <p:nvPr/>
        </p:nvPicPr>
        <p:blipFill>
          <a:blip r:embed="rId6"/>
          <a:stretch/>
        </p:blipFill>
        <p:spPr>
          <a:xfrm>
            <a:off x="3124080" y="3657600"/>
            <a:ext cx="4534200" cy="278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03375-246A-4243-852B-6F16B5BB7B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9T20:27:00Z</dcterms:created>
  <dc:creator>Bozo T. Clown</dc:creator>
  <dc:description/>
  <dc:language>en-US</dc:language>
  <cp:lastModifiedBy>batra</cp:lastModifiedBy>
  <cp:lastPrinted>2000-12-01T18:34:34Z</cp:lastPrinted>
  <dcterms:modified xsi:type="dcterms:W3CDTF">2000-12-01T19:38:20Z</dcterms:modified>
  <cp:revision>57</cp:revision>
  <dc:subject/>
  <dc:title>High Performance Wireless Local Area Networks in the 2.4GHz ISM Band</dc:title>
</cp:coreProperties>
</file>