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20.wmf" ContentType="image/x-wmf"/>
  <Override PartName="/ppt/media/image3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2.png" ContentType="image/png"/>
  <Override PartName="/ppt/media/image6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5692680" y="97200"/>
            <a:ext cx="6415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58800" y="9720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84040" y="701280"/>
            <a:ext cx="462420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5408280" y="8986680"/>
            <a:ext cx="925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252960" y="89866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29A3A3E-783C-4DBA-9D42-CF8A42106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1160" y="89866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0080" y="8985240"/>
            <a:ext cx="55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2320" y="297000"/>
            <a:ext cx="568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52960" y="89866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35E7047-1F27-49C7-BA81-F6063E039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408280" y="8986680"/>
            <a:ext cx="925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692680" y="97200"/>
            <a:ext cx="6415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58800" y="9720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2392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A0F6C-ACCF-4B0C-8640-DFB13A52B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4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95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68F23-E270-4B76-9F6D-439251B0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4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4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95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95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2472D-41C0-4685-A2AA-E9F00E60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4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4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4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95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95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95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30B0D-7A0A-4260-850B-E5AD4D37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46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A7AC3-B28F-46E8-9B61-E718F95E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46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AE688-6CEE-45C3-978B-0F213445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46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46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D9B73-12CB-457D-9F48-46EB2443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037E9-627D-4BAA-8302-04853449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97776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2A5D6-4A42-43CB-8D3B-A001F28E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4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46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95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A5515-2732-4677-87B8-6F30678A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46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4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95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4CA9C-CC7C-4731-B62F-758F9ACC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4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4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95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C41AC-2169-4290-8445-C0BFBCEE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6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546120"/>
            <a:ext cx="9144000" cy="914400"/>
            <a:chOff x="0" y="546120"/>
            <a:chExt cx="9144000" cy="91440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543800" y="988920"/>
              <a:ext cx="144792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3"/>
            <a:stretch/>
          </p:blipFill>
          <p:spPr>
            <a:xfrm>
              <a:off x="0" y="546120"/>
              <a:ext cx="91440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362C70D-AA77-4718-AE40-7E248D33A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609480" y="33228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067080" y="33264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85800" y="54612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uj Batra PhD, Chris Heegard PhD,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ric Rossin PhD, and Matthew B. Shoemake Ph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1625400"/>
            <a:ext cx="7772400" cy="18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ggested Options to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xas Instruments Proposal fo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EEE 802.11g High-Rate Stand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5146560"/>
            <a:ext cx="6248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as Instrument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1 Stony Circle, Suite 1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nta Rosa California  954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707) 521-3060, heegard@ti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AB41B-3C68-4FFE-A4B7-E5B3C27F893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oughput Increase for 11.0 Mb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throughput110" descr=""/>
          <p:cNvPicPr/>
          <p:nvPr/>
        </p:nvPicPr>
        <p:blipFill>
          <a:blip r:embed="rId1"/>
          <a:stretch/>
        </p:blipFill>
        <p:spPr>
          <a:xfrm>
            <a:off x="1905120" y="183528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D4CEC-889F-4A9D-9C7D-EFD244B7DED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oughput Increase for 16.5 Mb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throuhgput165" descr=""/>
          <p:cNvPicPr/>
          <p:nvPr/>
        </p:nvPicPr>
        <p:blipFill>
          <a:blip r:embed="rId1"/>
          <a:stretch/>
        </p:blipFill>
        <p:spPr>
          <a:xfrm>
            <a:off x="1905120" y="183528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2212D-C256-4F7F-89F6-E126CBBF370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oughput Increase for 22.0 Mb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throughput220" descr=""/>
          <p:cNvPicPr/>
          <p:nvPr/>
        </p:nvPicPr>
        <p:blipFill>
          <a:blip r:embed="rId1"/>
          <a:stretch/>
        </p:blipFill>
        <p:spPr>
          <a:xfrm>
            <a:off x="1905120" y="1822320"/>
            <a:ext cx="5333760" cy="400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82D30-9699-4552-89E0-0F24E2284C3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oughput Increase for 33.0 Mb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throughput330" descr=""/>
          <p:cNvPicPr/>
          <p:nvPr/>
        </p:nvPicPr>
        <p:blipFill>
          <a:blip r:embed="rId1"/>
          <a:stretch/>
        </p:blipFill>
        <p:spPr>
          <a:xfrm>
            <a:off x="1905120" y="1822320"/>
            <a:ext cx="5333760" cy="400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E4357-868B-4C68-B7FD-FAB105CA5B9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6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a new preamble and header, whi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s overhead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 network throughput for short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5 Mbps: 120%+ over Long P/H ,40%+ over Short P/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.0 Mbps: 150%+ over Long P/H, 60%+ over Short P/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.5 Mbps: 165%+ over Long P/H, 65%+ over Short P/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2.0 Mbps: 180%+ over Long P/H , 70%+ over Short P/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3.0 Mbps: 200%+ over Long P/H , 75%+ over Short P/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5FF29-71AB-44FA-A54D-B698FB0AE6C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53980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creasing the Data Rate to 33Mbps in Wireless Ethernet via Clock Switc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ED5DC-4868-4505-BCFC-214BDCE6727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146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xisting IEEE 802.11b standard, and the TI proposed 22 Mbps extension to the standard, is based upon an 11 Msps symbol rate and a bandwidth occupancy of 20 MHz.  In terms of modern digital communications techniques such as pulse shaping and adaptive equalization, a more aggressive symbol rate in the same bandwidth is practical.  However, in order to deal with inter-operability with existing networks, the structure of the preamble, including the symbol rate of the preamble, must not change.  A viable method to address these issues is to transmit an 11Msps preamble followed by a higher symbol rate encoded data rate.  Means and issues involving the switch in the clock are addressed in this presentation.  The suggested increase in rate by 50% to 16.5 Msps yields a data rate of 33 Mb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420B7-4B66-4AF0-B14A-6BF95F4EA47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lse Sha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809880" y="2133720"/>
            <a:ext cx="4665960" cy="37414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295280" y="2514600"/>
            <a:ext cx="2163960" cy="7063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762120" y="4267080"/>
            <a:ext cx="2830320" cy="73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7740A-4222-4B0C-837B-5308E0DCCC8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600200" y="1434960"/>
            <a:ext cx="5931000" cy="50421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362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ye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CBA12-0696-4FF3-90A8-495FDF90DC1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ck Swit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895480" y="4191120"/>
            <a:ext cx="2925720" cy="173484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2590920" y="2895480"/>
            <a:ext cx="3733560" cy="1108080"/>
            <a:chOff x="2590920" y="2895480"/>
            <a:chExt cx="3733560" cy="1108080"/>
          </a:xfrm>
        </p:grpSpPr>
        <p:pic>
          <p:nvPicPr>
            <p:cNvPr id="201" name="" descr=""/>
            <p:cNvPicPr/>
            <p:nvPr/>
          </p:nvPicPr>
          <p:blipFill>
            <a:blip r:embed="rId2"/>
            <a:stretch/>
          </p:blipFill>
          <p:spPr>
            <a:xfrm>
              <a:off x="2590920" y="2895480"/>
              <a:ext cx="3733560" cy="489240"/>
            </a:xfrm>
            <a:prstGeom prst="rect">
              <a:avLst/>
            </a:prstGeom>
            <a:ln w="3240">
              <a:solidFill>
                <a:srgbClr val="ccccff"/>
              </a:solidFill>
              <a:miter/>
            </a:ln>
          </p:spPr>
        </p:pic>
        <p:pic>
          <p:nvPicPr>
            <p:cNvPr id="202" name="" descr=""/>
            <p:cNvPicPr/>
            <p:nvPr/>
          </p:nvPicPr>
          <p:blipFill>
            <a:blip r:embed="rId3"/>
            <a:stretch/>
          </p:blipFill>
          <p:spPr>
            <a:xfrm>
              <a:off x="3124080" y="3581280"/>
              <a:ext cx="2411640" cy="422280"/>
            </a:xfrm>
            <a:prstGeom prst="rect">
              <a:avLst/>
            </a:prstGeom>
            <a:ln w="3240">
              <a:solidFill>
                <a:srgbClr val="cccc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1583B-0FE2-466A-8BB1-4C075CD3938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asing Throughput with a High Performance Pream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AAC66-B167-4F01-AEC5-77EE4C56C2A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23880" y="1739880"/>
            <a:ext cx="6185160" cy="50418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8506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ck Switching from 11MHz to 16.5 MHz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(0//0) Guard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BDD26-A733-4432-9E0B-D80AD5620CC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ck Switching from 11MHz to 16.5 MHz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(2//3) Guard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481040" y="1739880"/>
            <a:ext cx="6185160" cy="504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CCD46-2E3C-496D-96B5-D31D05DBFB5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8251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ck Switching from 11MHz to 16.5 MHz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(4//6) Guard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481040" y="1752480"/>
            <a:ext cx="6185160" cy="504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C47A7-9923-48DC-B4A5-3F13F69A559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2146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 Structure without Clock Swi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6883560" cy="81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19A76-E2D7-4A55-A19F-9BC9BD4ABD4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Structure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6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 Structure with Clock Swi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397480" cy="39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6AC0E-E7BB-4DAB-9835-4BFE82BD9CA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362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ughput with 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322280" y="1600200"/>
            <a:ext cx="650268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6B164-0482-48C3-A419-DBD0BCD56E9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7362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ughput without 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0268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63A69-046C-4C75-99AE-BBAD3177E01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Preamble and Header (P/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1463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PLCP PPDU Form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376280" y="2666880"/>
            <a:ext cx="6167520" cy="879480"/>
            <a:chOff x="1376280" y="2666880"/>
            <a:chExt cx="6167520" cy="879480"/>
          </a:xfrm>
        </p:grpSpPr>
        <p:grpSp>
          <p:nvGrpSpPr>
            <p:cNvPr id="65" name=""/>
            <p:cNvGrpSpPr/>
            <p:nvPr/>
          </p:nvGrpSpPr>
          <p:grpSpPr>
            <a:xfrm>
              <a:off x="1376280" y="2666880"/>
              <a:ext cx="6167520" cy="533160"/>
              <a:chOff x="1376280" y="2666880"/>
              <a:chExt cx="6167520" cy="53316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1376280" y="2666880"/>
                <a:ext cx="2057400" cy="533160"/>
                <a:chOff x="1376280" y="2666880"/>
                <a:chExt cx="2057400" cy="53316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376280" y="2666880"/>
                  <a:ext cx="2057400" cy="5331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695960" y="2706120"/>
                  <a:ext cx="141804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PLCP PREAMB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44 BITS @ 1Mbp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3423960" y="2666880"/>
                <a:ext cx="2057400" cy="533160"/>
                <a:chOff x="3423960" y="2666880"/>
                <a:chExt cx="2057400" cy="53316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423960" y="2666880"/>
                  <a:ext cx="2057400" cy="5331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781440" y="2706120"/>
                  <a:ext cx="13420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PLCP HEA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8 BITS @ 1Mbp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5486400" y="2666880"/>
                <a:ext cx="2057400" cy="533160"/>
                <a:chOff x="5486400" y="2666880"/>
                <a:chExt cx="2057400" cy="53316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486400" y="2666880"/>
                  <a:ext cx="2057400" cy="5331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6229440" y="2795400"/>
                  <a:ext cx="570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PSD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" name=""/>
            <p:cNvGrpSpPr/>
            <p:nvPr/>
          </p:nvGrpSpPr>
          <p:grpSpPr>
            <a:xfrm>
              <a:off x="1409760" y="3269880"/>
              <a:ext cx="4063320" cy="276480"/>
              <a:chOff x="1409760" y="3269880"/>
              <a:chExt cx="4063320" cy="276480"/>
            </a:xfrm>
          </p:grpSpPr>
          <p:sp>
            <p:nvSpPr>
              <p:cNvPr id="76" name=""/>
              <p:cNvSpPr/>
              <p:nvPr/>
            </p:nvSpPr>
            <p:spPr>
              <a:xfrm>
                <a:off x="3070440" y="3269880"/>
                <a:ext cx="595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92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720960" y="3408120"/>
                <a:ext cx="1752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1409760" y="3406320"/>
                <a:ext cx="159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685800" y="37846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PLCP PPDU Form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361880" y="4470480"/>
            <a:ext cx="6185160" cy="879480"/>
            <a:chOff x="1361880" y="4470480"/>
            <a:chExt cx="6185160" cy="879480"/>
          </a:xfrm>
        </p:grpSpPr>
        <p:grpSp>
          <p:nvGrpSpPr>
            <p:cNvPr id="81" name=""/>
            <p:cNvGrpSpPr/>
            <p:nvPr/>
          </p:nvGrpSpPr>
          <p:grpSpPr>
            <a:xfrm>
              <a:off x="1376640" y="4470480"/>
              <a:ext cx="6170400" cy="533160"/>
              <a:chOff x="1376640" y="4470480"/>
              <a:chExt cx="6170400" cy="533160"/>
            </a:xfrm>
          </p:grpSpPr>
          <p:sp>
            <p:nvSpPr>
              <p:cNvPr id="82" name=""/>
              <p:cNvSpPr/>
              <p:nvPr/>
            </p:nvSpPr>
            <p:spPr>
              <a:xfrm>
                <a:off x="1376640" y="4470480"/>
                <a:ext cx="2057400" cy="533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437840" y="4508640"/>
                <a:ext cx="19364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HORT PLCP PREAM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72 BITS @ 1Mb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3434040" y="4470480"/>
                <a:ext cx="2057400" cy="533160"/>
                <a:chOff x="3434040" y="4470480"/>
                <a:chExt cx="2057400" cy="5331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3434040" y="4470480"/>
                  <a:ext cx="2057400" cy="5331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594240" y="4508640"/>
                  <a:ext cx="17398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HORT PLCP HEA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8 BITS @ 2Mbp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5489640" y="4470480"/>
                <a:ext cx="2057400" cy="533160"/>
                <a:chOff x="5489640" y="4470480"/>
                <a:chExt cx="2057400" cy="5331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489640" y="4470480"/>
                  <a:ext cx="2057400" cy="5331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232680" y="4599000"/>
                  <a:ext cx="570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PSD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" name=""/>
            <p:cNvGrpSpPr/>
            <p:nvPr/>
          </p:nvGrpSpPr>
          <p:grpSpPr>
            <a:xfrm>
              <a:off x="1361880" y="5073480"/>
              <a:ext cx="4064400" cy="276480"/>
              <a:chOff x="1361880" y="5073480"/>
              <a:chExt cx="4064400" cy="276480"/>
            </a:xfrm>
          </p:grpSpPr>
          <p:sp>
            <p:nvSpPr>
              <p:cNvPr id="91" name=""/>
              <p:cNvSpPr/>
              <p:nvPr/>
            </p:nvSpPr>
            <p:spPr>
              <a:xfrm>
                <a:off x="3048840" y="5073480"/>
                <a:ext cx="51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96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673440" y="5211720"/>
                <a:ext cx="175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1361880" y="5210280"/>
                <a:ext cx="160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" name=""/>
          <p:cNvSpPr/>
          <p:nvPr/>
        </p:nvSpPr>
        <p:spPr>
          <a:xfrm>
            <a:off x="685800" y="557532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e preamble and header contain no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8E730-58B0-44BD-857D-C50A4D4D39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cent Overhead for Long P/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425600" y="1789200"/>
            <a:ext cx="6335640" cy="4331880"/>
            <a:chOff x="1425600" y="1789200"/>
            <a:chExt cx="6335640" cy="4331880"/>
          </a:xfrm>
        </p:grpSpPr>
        <p:graphicFrame>
          <p:nvGraphicFramePr>
            <p:cNvPr id="97" name=""/>
            <p:cNvGraphicFramePr/>
            <p:nvPr/>
          </p:nvGraphicFramePr>
          <p:xfrm>
            <a:off x="1663560" y="1789200"/>
            <a:ext cx="6097680" cy="4068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63560" y="1789200"/>
                      <a:ext cx="6097680" cy="40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3385800" y="5752800"/>
              <a:ext cx="187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SDU size (byt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701640" y="3391920"/>
              <a:ext cx="181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ercent Overh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DFB79-9AF7-46B0-952A-1991891C31D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cent Overhead for Short P/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425600" y="1751040"/>
            <a:ext cx="6335640" cy="4332240"/>
            <a:chOff x="1425600" y="1751040"/>
            <a:chExt cx="6335640" cy="4332240"/>
          </a:xfrm>
        </p:grpSpPr>
        <p:graphicFrame>
          <p:nvGraphicFramePr>
            <p:cNvPr id="103" name=""/>
            <p:cNvGraphicFramePr/>
            <p:nvPr/>
          </p:nvGraphicFramePr>
          <p:xfrm>
            <a:off x="1663560" y="1751040"/>
            <a:ext cx="6097680" cy="406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63560" y="1751040"/>
                      <a:ext cx="6097680" cy="406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" name=""/>
            <p:cNvSpPr/>
            <p:nvPr/>
          </p:nvSpPr>
          <p:spPr>
            <a:xfrm>
              <a:off x="3385800" y="5715000"/>
              <a:ext cx="187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SDU size (byt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701640" y="3354120"/>
              <a:ext cx="181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ercent Overh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C479F-D58F-4C30-A792-8C7838DA08E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vation for a Shorter P/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hort PSDUs, preamble and header spans a large portion of the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P/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s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able resources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cre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reduce overhea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ng a new preamble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ing the data rate for the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F6B10-DB19-4979-9E9B-A31FB595F8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High Performance P/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29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ing Synchronization Sequenc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ne that alternates between (1+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and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easy detection of packet, timing, carrier frequency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 clocks to be lo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me Synchronization Sequence: composed of PN sequ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x location within 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nel Estimation Sequence: deterministic sequer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 first 168 symbols of a length 255 PN 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79400" y="1776240"/>
            <a:ext cx="7645320" cy="1211760"/>
            <a:chOff x="779400" y="1776240"/>
            <a:chExt cx="7645320" cy="1211760"/>
          </a:xfrm>
        </p:grpSpPr>
        <p:grpSp>
          <p:nvGrpSpPr>
            <p:cNvPr id="112" name=""/>
            <p:cNvGrpSpPr/>
            <p:nvPr/>
          </p:nvGrpSpPr>
          <p:grpSpPr>
            <a:xfrm>
              <a:off x="799920" y="2711520"/>
              <a:ext cx="6070680" cy="276480"/>
              <a:chOff x="799920" y="2711520"/>
              <a:chExt cx="6070680" cy="27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553560" y="2711520"/>
                <a:ext cx="709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8.55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330800" y="2848320"/>
                <a:ext cx="253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799920" y="2848320"/>
                <a:ext cx="2717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779400" y="2108160"/>
              <a:ext cx="1579680" cy="533520"/>
              <a:chOff x="779400" y="2108160"/>
              <a:chExt cx="1579680" cy="533520"/>
            </a:xfrm>
          </p:grpSpPr>
          <p:sp>
            <p:nvSpPr>
              <p:cNvPr id="117" name=""/>
              <p:cNvSpPr/>
              <p:nvPr/>
            </p:nvSpPr>
            <p:spPr>
              <a:xfrm>
                <a:off x="804960" y="2108160"/>
                <a:ext cx="1523880" cy="533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79400" y="2146320"/>
                <a:ext cx="157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TIMING SYN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96 symbols @ 11Ms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2303640" y="2108160"/>
              <a:ext cx="1579680" cy="533520"/>
              <a:chOff x="2303640" y="2108160"/>
              <a:chExt cx="1579680" cy="533520"/>
            </a:xfrm>
          </p:grpSpPr>
          <p:sp>
            <p:nvSpPr>
              <p:cNvPr id="120" name=""/>
              <p:cNvSpPr/>
              <p:nvPr/>
            </p:nvSpPr>
            <p:spPr>
              <a:xfrm>
                <a:off x="2328840" y="2108160"/>
                <a:ext cx="1523520" cy="533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303640" y="2146320"/>
                <a:ext cx="157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FRAME SYN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64 symbols @ 11Ms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3776760" y="2108160"/>
              <a:ext cx="1656000" cy="533520"/>
              <a:chOff x="3776760" y="2108160"/>
              <a:chExt cx="1656000" cy="533520"/>
            </a:xfrm>
          </p:grpSpPr>
          <p:sp>
            <p:nvSpPr>
              <p:cNvPr id="123" name=""/>
              <p:cNvSpPr/>
              <p:nvPr/>
            </p:nvSpPr>
            <p:spPr>
              <a:xfrm>
                <a:off x="3852720" y="2108160"/>
                <a:ext cx="1524240" cy="533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76760" y="2146320"/>
                <a:ext cx="1656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HANNEL E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68 symbols @ 11Ms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5376960" y="2108160"/>
              <a:ext cx="1523880" cy="533520"/>
              <a:chOff x="5376960" y="2108160"/>
              <a:chExt cx="1523880" cy="533520"/>
            </a:xfrm>
          </p:grpSpPr>
          <p:sp>
            <p:nvSpPr>
              <p:cNvPr id="126" name=""/>
              <p:cNvSpPr/>
              <p:nvPr/>
            </p:nvSpPr>
            <p:spPr>
              <a:xfrm>
                <a:off x="5376960" y="2108160"/>
                <a:ext cx="1523880" cy="533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10440" y="2146320"/>
                <a:ext cx="1456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EA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8 BITS @ 5.5Mb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6900840" y="2108160"/>
              <a:ext cx="1523880" cy="533520"/>
              <a:chOff x="6900840" y="2108160"/>
              <a:chExt cx="1523880" cy="533520"/>
            </a:xfrm>
          </p:grpSpPr>
          <p:sp>
            <p:nvSpPr>
              <p:cNvPr id="129" name=""/>
              <p:cNvSpPr/>
              <p:nvPr/>
            </p:nvSpPr>
            <p:spPr>
              <a:xfrm>
                <a:off x="6900840" y="2108160"/>
                <a:ext cx="1523880" cy="533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377120" y="2236680"/>
                <a:ext cx="570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SD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800280" y="1776240"/>
              <a:ext cx="4546440" cy="276480"/>
              <a:chOff x="800280" y="1776240"/>
              <a:chExt cx="4546440" cy="276480"/>
            </a:xfrm>
          </p:grpSpPr>
          <p:sp>
            <p:nvSpPr>
              <p:cNvPr id="132" name=""/>
              <p:cNvSpPr/>
              <p:nvPr/>
            </p:nvSpPr>
            <p:spPr>
              <a:xfrm>
                <a:off x="2576160" y="1776240"/>
                <a:ext cx="994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REAM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632040" y="1913040"/>
                <a:ext cx="171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800280" y="1913040"/>
                <a:ext cx="165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3220A-A8E4-49D4-9501-2564A47083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ulation: Network Through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450864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d a back-off time of zero to demonstrate the effect that the preamble size has on  network 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d increase in throughput for new P/H ov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P/H and Short P/H for various data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880920" y="2322360"/>
            <a:ext cx="7380000" cy="536040"/>
            <a:chOff x="880920" y="2322360"/>
            <a:chExt cx="7380000" cy="536040"/>
          </a:xfrm>
        </p:grpSpPr>
        <p:grpSp>
          <p:nvGrpSpPr>
            <p:cNvPr id="138" name=""/>
            <p:cNvGrpSpPr/>
            <p:nvPr/>
          </p:nvGrpSpPr>
          <p:grpSpPr>
            <a:xfrm>
              <a:off x="880920" y="2323800"/>
              <a:ext cx="1598400" cy="533520"/>
              <a:chOff x="880920" y="2323800"/>
              <a:chExt cx="1598400" cy="53352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880920" y="2323800"/>
                <a:ext cx="799920" cy="533520"/>
                <a:chOff x="880920" y="2323800"/>
                <a:chExt cx="799920" cy="5335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880920" y="2323800"/>
                  <a:ext cx="799920" cy="53352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013040" y="2406240"/>
                  <a:ext cx="535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/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1679400" y="2323800"/>
                <a:ext cx="799920" cy="533520"/>
                <a:chOff x="1679400" y="2323800"/>
                <a:chExt cx="799920" cy="5335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1679400" y="2323800"/>
                  <a:ext cx="799920" cy="53352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697760" y="2406240"/>
                  <a:ext cx="7628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SDU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" name=""/>
            <p:cNvGrpSpPr/>
            <p:nvPr/>
          </p:nvGrpSpPr>
          <p:grpSpPr>
            <a:xfrm>
              <a:off x="3351240" y="2322360"/>
              <a:ext cx="1598040" cy="536040"/>
              <a:chOff x="3351240" y="2322360"/>
              <a:chExt cx="1598040" cy="53604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3351240" y="2322360"/>
                <a:ext cx="799920" cy="533160"/>
                <a:chOff x="3351240" y="2322360"/>
                <a:chExt cx="799920" cy="5331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351240" y="2322360"/>
                  <a:ext cx="799920" cy="5331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483360" y="2404440"/>
                  <a:ext cx="535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/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4149360" y="2325240"/>
                <a:ext cx="799920" cy="533160"/>
                <a:chOff x="4149360" y="2325240"/>
                <a:chExt cx="799920" cy="5331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149360" y="2325240"/>
                  <a:ext cx="799920" cy="5331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218120" y="2407320"/>
                  <a:ext cx="662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AC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2" name=""/>
            <p:cNvSpPr/>
            <p:nvPr/>
          </p:nvSpPr>
          <p:spPr>
            <a:xfrm>
              <a:off x="2494080" y="2590560"/>
              <a:ext cx="85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56120" y="2590560"/>
              <a:ext cx="85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03920" y="2590560"/>
              <a:ext cx="85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6662520" y="2323800"/>
              <a:ext cx="1598400" cy="533520"/>
              <a:chOff x="6662520" y="2323800"/>
              <a:chExt cx="1598400" cy="533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6662520" y="2323800"/>
                <a:ext cx="799920" cy="533520"/>
                <a:chOff x="6662520" y="2323800"/>
                <a:chExt cx="799920" cy="5335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662520" y="2323800"/>
                  <a:ext cx="799920" cy="53352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794640" y="2406240"/>
                  <a:ext cx="535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/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7461000" y="2323800"/>
                <a:ext cx="799920" cy="533520"/>
                <a:chOff x="7461000" y="2323800"/>
                <a:chExt cx="799920" cy="5335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7461000" y="2323800"/>
                  <a:ext cx="799920" cy="53352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479360" y="2406240"/>
                  <a:ext cx="7628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SDU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2" name=""/>
          <p:cNvSpPr/>
          <p:nvPr/>
        </p:nvSpPr>
        <p:spPr>
          <a:xfrm>
            <a:off x="6657840" y="1739880"/>
            <a:ext cx="0" cy="10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76240" y="1738440"/>
            <a:ext cx="0" cy="10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885960" y="1881360"/>
            <a:ext cx="5765760" cy="276480"/>
            <a:chOff x="885960" y="1881360"/>
            <a:chExt cx="5765760" cy="276480"/>
          </a:xfrm>
        </p:grpSpPr>
        <p:sp>
          <p:nvSpPr>
            <p:cNvPr id="165" name=""/>
            <p:cNvSpPr/>
            <p:nvPr/>
          </p:nvSpPr>
          <p:spPr>
            <a:xfrm>
              <a:off x="3619800" y="1881360"/>
              <a:ext cx="81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otal 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43560" y="2019240"/>
              <a:ext cx="210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885960" y="2019240"/>
              <a:ext cx="261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602800" y="22604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53680" y="22734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00320" y="230976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692360" y="3405240"/>
            <a:ext cx="5425560" cy="729000"/>
            <a:chOff x="1692360" y="3405240"/>
            <a:chExt cx="5425560" cy="729000"/>
          </a:xfrm>
        </p:grpSpPr>
        <p:sp>
          <p:nvSpPr>
            <p:cNvPr id="172" name=""/>
            <p:cNvSpPr/>
            <p:nvPr/>
          </p:nvSpPr>
          <p:spPr>
            <a:xfrm>
              <a:off x="1692360" y="3583080"/>
              <a:ext cx="247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work throughput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4058280" y="3405240"/>
              <a:ext cx="3059640" cy="729000"/>
              <a:chOff x="4058280" y="3405240"/>
              <a:chExt cx="3059640" cy="729000"/>
            </a:xfrm>
          </p:grpSpPr>
          <p:sp>
            <p:nvSpPr>
              <p:cNvPr id="174" name=""/>
              <p:cNvSpPr/>
              <p:nvPr/>
            </p:nvSpPr>
            <p:spPr>
              <a:xfrm>
                <a:off x="4058280" y="3405240"/>
                <a:ext cx="305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ime to transmit inform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014440" y="373536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otal ti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127400" y="3784680"/>
                <a:ext cx="292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F7BC4-2372-444E-B825-18A71479DF9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oughput Increase for 5.5 Mb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throughput55" descr=""/>
          <p:cNvPicPr/>
          <p:nvPr/>
        </p:nvPicPr>
        <p:blipFill>
          <a:blip r:embed="rId1"/>
          <a:stretch/>
        </p:blipFill>
        <p:spPr>
          <a:xfrm>
            <a:off x="1905120" y="1822320"/>
            <a:ext cx="5333760" cy="400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2F30C-62E1-4E9C-9F53-F300780A305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18:45:34Z</dcterms:created>
  <dc:creator>Anuj Batra et al.</dc:creator>
  <dc:description/>
  <dc:language>en-US</dc:language>
  <cp:lastModifiedBy>Harry Worstell</cp:lastModifiedBy>
  <cp:lastPrinted>2000-12-01T19:57:26Z</cp:lastPrinted>
  <dcterms:modified xsi:type="dcterms:W3CDTF">2000-12-07T22:07:15Z</dcterms:modified>
  <cp:revision>55</cp:revision>
  <dc:subject/>
  <dc:title>Suggested Options to the Texas Instruments Proposal for IEEE 802.11g High-Rate Standard</dc:title>
</cp:coreProperties>
</file>