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60B0-8BD8-481F-9863-52AA7D019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1F20-D649-4571-A44F-926DBA1E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A7CC-9C43-41B1-A163-5627C5253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A455-4AEF-4517-9DDD-45EF34062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3FC6-9760-4026-AA73-887A2C94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0FD9-427B-415F-9DAC-ECA55B0D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41A4-5899-417F-848D-B191B218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C14A-A106-4165-B049-E72456F8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8B5A-13DC-4BE3-B50D-C653DF1F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FC7C-5CEB-4E63-8E35-7CC8E930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1590-9CCB-4A87-BA11-836B2548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BEB8-6CA5-4948-89B4-21B0785F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90720"/>
            <a:ext cx="11905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Halford and  Mark Webster, Inter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64F9114-0D43-4F95-B629-503A7494C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8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verview of OFDM for a High Rate Extens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ve Half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k Web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sil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lm Bay, 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4040" y="3070080"/>
            <a:ext cx="535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verview and Outline of Pro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213B-5D4B-4D02-8976-377CF0F3C23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2 Symbol Modulation: Performan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2720" y="1561680"/>
            <a:ext cx="8458200" cy="44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WGN Performance is very g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qualizer complexity can be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near Equalizer requires a matrix inverse to comp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ng equalizer required for good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aptive equalizers may not converge quickly en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-linear Equalizers:  MMSE offers optimal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annel impulse response estimate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n be combined with decoder (Joint MM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lementation will not scale easily with increasing data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lexity increases exponentially with delay spread &amp; data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duced state version may be necess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boptimal &amp; sensitive to estimation err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2FA6-A5A2-43B1-8C68-B8664BDB091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33520" y="685800"/>
            <a:ext cx="800100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2 Symbol Modulation: Examp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08040" y="176616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7 tap equali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48120" y="184248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25 tap equali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C3B7-C08C-4933-B992-3AB375A91E8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2 Symbol Modulation: Summa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63244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7000"/>
          </a:bodyPr>
          <a:p>
            <a:pPr marL="126720" indent="-126720"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Well-known wave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Excellent AWGN perform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PSK Versions:  Low Peak-to-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01400" indent="-84240"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PAR &gt; 1 due to pulse shaping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26720" indent="-12672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o inherent multipath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01400" indent="-8424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FEC provides some he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qualizer complexity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01400" indent="-8424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Linear equalizer needs to be 25 taps or 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ot easy to extend receiver to highe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F07E-713F-408F-B89C-E6F3139AB55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1440" y="685800"/>
            <a:ext cx="59594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3 Multi-code Modul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526760"/>
            <a:ext cx="8915400" cy="19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formation is transmitted by modulating multiple code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dewords are summed and transmitted simultaneous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are both time and 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dewords create independent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sed in IS-95 for multiple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48387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4076640"/>
            <a:ext cx="990720" cy="167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r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ll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M outpu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4229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4915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7400" y="56008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78600" y="4165560"/>
            <a:ext cx="155520" cy="155520"/>
          </a:xfrm>
          <a:prstGeom prst="flowChartSummingJunct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78600" y="5521320"/>
            <a:ext cx="155520" cy="155520"/>
          </a:xfrm>
          <a:prstGeom prst="flowChartSummingJunct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71800" y="3962520"/>
            <a:ext cx="1295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N bi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on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QAM or PS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71800" y="4660920"/>
            <a:ext cx="1295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N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on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QAM or PS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5334120"/>
            <a:ext cx="1295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N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on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QAM or PS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67080" y="4229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53040" y="4915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67080" y="56008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65640" y="4835520"/>
            <a:ext cx="155520" cy="155520"/>
          </a:xfrm>
          <a:prstGeom prst="flowChartSummingJunct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45200" y="46864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11680" y="4686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57800" y="5365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24280" y="5365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57800" y="40006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24280" y="4000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2240" y="4597560"/>
            <a:ext cx="8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ded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te =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06640" y="3809880"/>
            <a:ext cx="942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ded 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te = R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13120" y="4495680"/>
            <a:ext cx="942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ded 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te = R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51280" y="5189400"/>
            <a:ext cx="942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ded 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te = R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4241880"/>
            <a:ext cx="387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21480" y="4241880"/>
            <a:ext cx="596880" cy="61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271920" y="4756320"/>
            <a:ext cx="269280" cy="276480"/>
            <a:chOff x="6271920" y="4756320"/>
            <a:chExt cx="269280" cy="276480"/>
          </a:xfrm>
        </p:grpSpPr>
        <p:sp>
          <p:nvSpPr>
            <p:cNvPr id="184" name=""/>
            <p:cNvSpPr/>
            <p:nvPr/>
          </p:nvSpPr>
          <p:spPr>
            <a:xfrm>
              <a:off x="6292800" y="4779720"/>
              <a:ext cx="228600" cy="228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71920" y="475632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5715000" y="491508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21480" y="4978080"/>
            <a:ext cx="603000" cy="61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27640" y="4915080"/>
            <a:ext cx="387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4120" y="5600880"/>
            <a:ext cx="387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24640" y="489276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26120" y="4714920"/>
            <a:ext cx="648000" cy="37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182080" y="4822920"/>
            <a:ext cx="155520" cy="155520"/>
          </a:xfrm>
          <a:prstGeom prst="flowChartSummingJunct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74120" y="490536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55160" y="43052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8051760" y="4095720"/>
          <a:ext cx="380880" cy="2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51760" y="4095720"/>
                    <a:ext cx="380880" cy="2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8337600" y="4889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415280" y="379260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rrier Mod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07320" y="3579840"/>
            <a:ext cx="111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dewor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L chips/ symbo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61320" y="4475160"/>
            <a:ext cx="111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dewor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L chips/ symbo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99400" y="5154480"/>
            <a:ext cx="111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dewor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L chips/ symbo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D3CF-4094-4B69-A9A4-3A344368E38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74640" y="685800"/>
            <a:ext cx="78026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7240" y="674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1.3 MCM: Receiver Consider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ceiver must separate each codeword prior to detec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a bank of correlators  to separate data stre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ect modulation after correlator for each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dewords with fast correlator structure reduce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:  CCK, Walsh words, and complex exponent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61840" y="4678200"/>
            <a:ext cx="876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22400" y="3479760"/>
            <a:ext cx="1719360" cy="2563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38440" y="3970440"/>
            <a:ext cx="7920" cy="145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46360" y="3979800"/>
            <a:ext cx="707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55720" y="5413320"/>
            <a:ext cx="708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38440" y="4680000"/>
            <a:ext cx="707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65280" y="3760920"/>
            <a:ext cx="87624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eword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48000" y="4446720"/>
            <a:ext cx="858600" cy="46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eword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75000" y="5253120"/>
            <a:ext cx="874800" cy="39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eword #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181240" y="5697360"/>
            <a:ext cx="122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Correlator B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330720" y="3943440"/>
            <a:ext cx="682560" cy="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314880" y="4650840"/>
            <a:ext cx="682560" cy="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348000" y="5419800"/>
            <a:ext cx="682560" cy="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92920" y="4214880"/>
            <a:ext cx="74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29120" y="3697200"/>
            <a:ext cx="977760" cy="447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-Dec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29120" y="4440240"/>
            <a:ext cx="977760" cy="447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-Dec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29120" y="5214960"/>
            <a:ext cx="977760" cy="44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-Dec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04040" y="3562200"/>
            <a:ext cx="990360" cy="2241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ll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M inpu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91160" y="4524480"/>
            <a:ext cx="936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00760" y="391788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10120" y="466884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18040" y="543564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85680" y="42148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3049-9BEF-4B8E-8FAF-628DBE822A2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442880" y="685800"/>
            <a:ext cx="61074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7240" y="674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1.3 MCM: Codeword Selec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82240" y="1263600"/>
            <a:ext cx="86900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erformance is determined by codeword set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thogonal codeword give zero cross-ta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-orthogonal codewords generate “noise” due to cross-ta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duces the AWGN performance significan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8360" y="3046320"/>
            <a:ext cx="4008600" cy="3400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98280" y="304812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lsh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2960" y="3429000"/>
            <a:ext cx="345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lsh Sequences are well kn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ces of  +/-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d in IS-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st Correlator ex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thogonal sequ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3040" y="5232240"/>
            <a:ext cx="413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es peak-to-a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thogonality is destroyed by multi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 to equalize to re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94920" y="483228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Problem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25760" y="3983040"/>
            <a:ext cx="1230480" cy="480960"/>
          </a:xfrm>
          <a:prstGeom prst="rightArrow">
            <a:avLst>
              <a:gd name="adj1" fmla="val 50000"/>
              <a:gd name="adj2" fmla="val 6396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913280" y="2976480"/>
            <a:ext cx="376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mo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ll sequences lose orthogonality in multi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42400" y="3905280"/>
            <a:ext cx="117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270320" y="4781520"/>
            <a:ext cx="491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se sequences are not eigenfunctions of the multipath channe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9C1E-F5F2-4168-A7B3-D43A4F097C5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879480" y="2554200"/>
            <a:ext cx="7421400" cy="243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42880" y="685800"/>
            <a:ext cx="6267600" cy="482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7240" y="674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1.3 MCM:Multipath &amp; Orthogonal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82520" y="1362240"/>
            <a:ext cx="8653680" cy="122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en the channel is known, can design functions to retain orthog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ly a “hot topic” for researchers in CDMA &amp; Equ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ractical for wireless L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38040" y="25081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19080" y="3086280"/>
            <a:ext cx="7277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lex Exponentials are eigenfunctions of linear system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, eigenfunctions for any multi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qualizers not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ath causes a change in magnitude &amp; phase only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s of complex exponentials are orthogonal frequency is 1/(symbol leng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FT &amp; IFFT provide for fast corre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7760" y="5529240"/>
            <a:ext cx="974520" cy="358920"/>
          </a:xfrm>
          <a:prstGeom prst="rightArrow">
            <a:avLst>
              <a:gd name="adj1" fmla="val 50000"/>
              <a:gd name="adj2" fmla="val 67879"/>
            </a:avLst>
          </a:prstGeom>
          <a:solidFill>
            <a:srgbClr val="3333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6040" y="5464080"/>
            <a:ext cx="640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FDM uses complex exponentials as code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B2E9-730A-44DA-8511-88CE465728B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3 MCM using OFDM: Summa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22000" y="1295280"/>
            <a:ext cx="7907400" cy="378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Good AWGN performance via error correction co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Excellent multipath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Equalizer is greatly simplifi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1880" indent="-191880"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Equalizer complexity is the same for all data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Existing Wireless LAN standard (802.11a) provides gui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1880" indent="-191880"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Reduces time to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eak to average ratio requires more PA back-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equires block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1880" indent="-1918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May increase gate count due to memory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requency roll-off not as fast as symbol mod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B904-37A5-4DBD-998D-9079ED8BD44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2 OFDM for High Rate at 2.4 GHz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96800" y="1387440"/>
            <a:ext cx="829152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se 802.11a standard as a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ed by Task Group A as best waveform for wireless 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intain all mandatory and optional PHY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celerates the standards process by re-using existing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ual band Access Points could provide smooth tran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crease sample rate from 20 MHz to 22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on clock rate with existing 11 Mbp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intain the same channel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: 25 MHz center frequency spacing, 3 channels in 9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se existing long &amp; short preamble for compat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ltra-short preamble is also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ersil will comply with all IEEE patent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2CC5-BB63-4CB1-90CD-21CD2D653DE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57200" y="685800"/>
            <a:ext cx="825804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18680" y="685800"/>
            <a:ext cx="83170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2 OFDM for High Rate: Modulation Detail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74680" y="1523520"/>
            <a:ext cx="8524800" cy="23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ransmit information using orthogonal c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riers/Codewords generated efficiently using 64 pt. I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48 tones for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4 tones for pilot symb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vides good method for carrier, timing, &amp; AGC tra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maining 12 orthogonal tones are null (ze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41520" y="5857920"/>
            <a:ext cx="551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89864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07648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25432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43216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61000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787480" y="4800240"/>
            <a:ext cx="0" cy="1057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96532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314316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32100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5452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403236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210200" y="4800240"/>
            <a:ext cx="0" cy="1057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38768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456552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74336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92120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099040" y="4800240"/>
            <a:ext cx="0" cy="1057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27688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987880" y="4800240"/>
            <a:ext cx="0" cy="1057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616572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634356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52140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69924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43160" y="455616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21000" y="455616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3320640" y="4637160"/>
            <a:ext cx="26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76400" y="4637160"/>
            <a:ext cx="26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726720" y="4483440"/>
            <a:ext cx="233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343.75 KHz Tone Sp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59880" y="4588200"/>
            <a:ext cx="117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Subcarr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20800" y="50900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86240" y="594720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frequ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898640" y="4149360"/>
            <a:ext cx="0" cy="56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699240" y="4149360"/>
            <a:ext cx="0" cy="56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17920" y="4158000"/>
            <a:ext cx="124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~17.875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32280" y="4311720"/>
            <a:ext cx="1866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1898640" y="431172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333240" y="51440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658C-34E5-422E-B4AA-15B8D125B7A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utline of Proposal Presenta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9240" y="1308240"/>
            <a:ext cx="8559720" cy="49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Gg Regulatory Approval Plan  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peaker:  Jim Zy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verview of OFDM for High Rate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Speaker: Steve Hal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use of 802.11b Preambles with OFDM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peaker: Mark Web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ltra-short Preamble with HRb OFDM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peaker: Mark Web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DM System Performance 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peaker: Steve Hal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wer Am Effects for HRb OFDM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peaker: Mark Web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nnelization for HRb OFDM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 Speaker: Mark Web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hase Noise Sensitivity for HRb OFDM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peaker: Jim Zy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lementation and Complexity Issues for OFDM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  Speaker: Steve Hal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 OFDM for the High Rate 802.11b Extension?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   Speaker: Jim Zy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3ACD-E0CD-4331-B9F7-ED280ED48CD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85800" y="685800"/>
            <a:ext cx="771516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4764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2 OFDM : Modulation Detail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74680" y="1523520"/>
            <a:ext cx="8524800" cy="244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ach data tone is symbol modul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mbol Modulation is standard BPSK, QPSK, 16-QAM, or 64-Q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se rate 1/2, k = 7 convolutional code for error co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ncture code to rate 2/3 and 3/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ilot tones are modulated with a BPSK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quence is determined by the data scramb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345960" y="4132440"/>
          <a:ext cx="8040960" cy="226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4132440"/>
                    <a:ext cx="8040960" cy="22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C664-806A-449A-B61B-4136BC2A9DB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495360" y="685800"/>
            <a:ext cx="8123040" cy="58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25516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2 OFDM for High Rate: Modulation Detail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24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ded Information is interleaved over one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leaved after pun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ces adjacent “bits” on non-adjacent subcarr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ata is also scrambled prior to co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27160" y="4056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87600" y="3787920"/>
            <a:ext cx="877680" cy="507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cramb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462040" y="4032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916360" y="3718080"/>
            <a:ext cx="1100160" cy="65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volu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k = 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14720" y="4048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508640" y="3809880"/>
            <a:ext cx="914400" cy="48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40320" y="40622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91040" y="3759120"/>
            <a:ext cx="1038240" cy="60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rlea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75680" y="3699000"/>
            <a:ext cx="1296720" cy="766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tel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pp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bits to symbol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931080" y="40719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88160" y="4929120"/>
            <a:ext cx="741600" cy="73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-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ver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1640" y="3691080"/>
            <a:ext cx="976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co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053560" y="4478400"/>
            <a:ext cx="0" cy="446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6705720" y="5257800"/>
            <a:ext cx="976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19720" y="3271680"/>
            <a:ext cx="108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Depends on data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97560" y="4784760"/>
            <a:ext cx="1187280" cy="93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yc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t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0 s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4533840" y="5237280"/>
            <a:ext cx="976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92600" y="499284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 RF subs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8DC8-3168-4B40-B051-0AA0B486492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920880" y="685800"/>
            <a:ext cx="7208640" cy="482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4764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2 OFDM for High Rate:  Symbol Structu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8560" y="1389240"/>
            <a:ext cx="8869320" cy="16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utput of the 64 pt. IFFT is cyclically extended by 16 s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ngth of 80 samples -- Any 64 pts valid for demod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st 16 are used to “absorb” multipath from preceding 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6800" y="4071960"/>
            <a:ext cx="1067040" cy="85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803840" y="4071960"/>
            <a:ext cx="3962160" cy="85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3480" y="5055120"/>
            <a:ext cx="91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75800" y="5055120"/>
            <a:ext cx="91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678640" y="4275720"/>
            <a:ext cx="14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FFT/FFT SP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88720" y="4197600"/>
            <a:ext cx="81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Gu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nter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36800" y="50720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03840" y="507204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36800" y="392904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080920" y="51328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75720" y="3632760"/>
            <a:ext cx="239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63  usecs OFDM Symb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36160" y="3327120"/>
            <a:ext cx="46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64 + 16 = 80 samples @ 22 MHz = 3.63637 us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16200000">
            <a:off x="4184640" y="5084640"/>
            <a:ext cx="172800" cy="1176120"/>
          </a:xfrm>
          <a:custGeom>
            <a:avLst/>
            <a:gdLst>
              <a:gd name="textAreaLeft" fmla="*/ 110520 w 172800"/>
              <a:gd name="textAreaRight" fmla="*/ 173160 w 172800"/>
              <a:gd name="textAreaTop" fmla="*/ 30600 h 1176120"/>
              <a:gd name="textAreaBottom" fmla="*/ 1145520 h 117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28760" y="4075200"/>
            <a:ext cx="3306600" cy="857160"/>
          </a:xfrm>
          <a:prstGeom prst="rect">
            <a:avLst/>
          </a:prstGeom>
          <a:solidFill>
            <a:srgbClr val="c0c0c0">
              <a:alpha val="50000"/>
            </a:srgbClr>
          </a:solidFill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15280" y="434808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99ff"/>
                </a:solidFill>
                <a:latin typeface="Times New Roman"/>
              </a:rPr>
              <a:t>Preceding Symb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89000" y="5742000"/>
            <a:ext cx="455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ultipath will cause preceding symbol to”bleed” into current symbol. Guard interval absorbs this inter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3D21-5041-47AA-AA83-EF46FCC9691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846000" y="685800"/>
            <a:ext cx="7444080" cy="471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4764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2 OFDM for High Rate:  Receiver Structu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8360" y="3006720"/>
            <a:ext cx="619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347840" y="2844720"/>
            <a:ext cx="974520" cy="40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i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j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98480" y="2941560"/>
            <a:ext cx="155520" cy="155520"/>
          </a:xfrm>
          <a:prstGeom prst="flowChartSummingJunct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865080" y="3097080"/>
            <a:ext cx="0" cy="81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17400" y="3911760"/>
            <a:ext cx="506520" cy="344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N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9600" y="4299120"/>
            <a:ext cx="95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requency Cor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695600" y="3873600"/>
            <a:ext cx="121104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rrier/Tim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r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954080" y="3254040"/>
            <a:ext cx="0" cy="61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1125360" y="4083120"/>
            <a:ext cx="570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39960" y="3019320"/>
            <a:ext cx="407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325600" y="3030480"/>
            <a:ext cx="681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994120" y="2695680"/>
            <a:ext cx="777960" cy="69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uar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r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81400" y="2770200"/>
            <a:ext cx="901800" cy="507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E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2 t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 rot="5400000">
            <a:off x="4510800" y="1923120"/>
            <a:ext cx="233280" cy="1212840"/>
          </a:xfrm>
          <a:custGeom>
            <a:avLst/>
            <a:gdLst>
              <a:gd name="textAreaLeft" fmla="*/ 149040 w 233280"/>
              <a:gd name="textAreaRight" fmla="*/ 233640 w 233280"/>
              <a:gd name="textAreaTop" fmla="*/ 59760 h 1212840"/>
              <a:gd name="textAreaBottom" fmla="*/ 1153080 h 121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10"/>
                  <a:pt x="10800" y="3420"/>
                </a:cubicBezTo>
                <a:lnTo>
                  <a:pt x="10800" y="7380"/>
                </a:lnTo>
                <a:cubicBezTo>
                  <a:pt x="10800" y="9090"/>
                  <a:pt x="5400" y="10800"/>
                  <a:pt x="0" y="10800"/>
                </a:cubicBezTo>
                <a:cubicBezTo>
                  <a:pt x="5400" y="10800"/>
                  <a:pt x="10800" y="12510"/>
                  <a:pt x="10800" y="14220"/>
                </a:cubicBezTo>
                <a:lnTo>
                  <a:pt x="10800" y="18180"/>
                </a:lnTo>
                <a:cubicBezTo>
                  <a:pt x="10800" y="1989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89320" y="1650960"/>
            <a:ext cx="2719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requency Domain Equaliz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each tone by inverse gain &amp; phase of the 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2926800">
            <a:off x="2548440" y="2239200"/>
            <a:ext cx="569880" cy="222120"/>
          </a:xfrm>
          <a:prstGeom prst="rightArrow">
            <a:avLst>
              <a:gd name="adj1" fmla="val 50000"/>
              <a:gd name="adj2" fmla="val 6414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593720" y="1405080"/>
            <a:ext cx="1258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to know “when” a symbol 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773520" y="3019320"/>
            <a:ext cx="3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081760" y="3006720"/>
            <a:ext cx="593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78640" y="2722680"/>
            <a:ext cx="1288800" cy="70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oft-Deci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n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symbol to bi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02360" y="3043080"/>
            <a:ext cx="382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386480" y="2859120"/>
            <a:ext cx="1144800" cy="36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-interlea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427880" y="3790800"/>
            <a:ext cx="1144800" cy="370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-pun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916760" y="3228840"/>
            <a:ext cx="0" cy="55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708440" y="3848040"/>
            <a:ext cx="1176480" cy="531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tract 4 Pil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81560" y="3006720"/>
            <a:ext cx="0" cy="841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978680" y="4157640"/>
            <a:ext cx="0" cy="668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737320" y="4937040"/>
            <a:ext cx="1052280" cy="470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iterb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461360" y="4840200"/>
            <a:ext cx="1065240" cy="61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6791400" y="5133960"/>
            <a:ext cx="668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2906640" y="4105440"/>
            <a:ext cx="1819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390840" y="5010120"/>
            <a:ext cx="1181160" cy="32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-Scramb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4572000" y="5159520"/>
            <a:ext cx="1168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2820600" y="5172120"/>
            <a:ext cx="56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14120" y="4976640"/>
            <a:ext cx="9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To M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85760" y="2401920"/>
            <a:ext cx="78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From A-to-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AA3C-945E-4A74-B980-6848F0B90D0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155600" y="685800"/>
            <a:ext cx="6775560" cy="471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4764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3 OFDM for High Rate:  Summar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803160" y="4029120"/>
          <a:ext cx="7645680" cy="196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4029120"/>
                    <a:ext cx="764568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1386000" y="1695600"/>
          <a:ext cx="6159240" cy="1879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86000" y="1695600"/>
                    <a:ext cx="615924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F7CC-5115-45DF-9394-1932B9EE677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liance Matrix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595520" y="1706400"/>
          <a:ext cx="5776920" cy="398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1706400"/>
                    <a:ext cx="5776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9BFD-84AB-4C2E-A2C1-4433EB5A59C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liance Matrix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595520" y="1706400"/>
          <a:ext cx="5753160" cy="433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1706400"/>
                    <a:ext cx="575316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3F02-F316-41F1-8E60-56B8C49221C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liance Matrix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2228760" y="1171440"/>
          <a:ext cx="5078520" cy="520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8760" y="1171440"/>
                    <a:ext cx="5078520" cy="52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8BE0-0C5A-4186-8FA5-1B22ED2A0C2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liance Matrix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760400" y="1422360"/>
          <a:ext cx="5618160" cy="444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0" y="1422360"/>
                    <a:ext cx="5618160" cy="44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EE2A-A257-4C4A-883E-38135E57855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0120" y="685800"/>
            <a:ext cx="7864560" cy="544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0 Why go to higher rates at 2.4GHz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802.11b has been very success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existing Infra-structure &amp; customer famili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sumer demands for higher data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 multi-media for home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uperior Range and Performance i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4 GHz will have better range than 5 GHz for same pow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 for antenna divers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GHz won’t be as clean as promised (802.15.3, 802.16 co-exi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eployment of 802.11a is s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5562720"/>
            <a:ext cx="7696080" cy="5331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05120" y="5573880"/>
            <a:ext cx="71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portunity exists now for 802.11b to expand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FFA6-664B-4ACF-B1A9-7045235867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0 Keys for Successful High Rate Syste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erformance vs. Complexity must be attra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WGN performance is important to maintain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6240" indent="-203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lies Error correcting code for higher rate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ust to multi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6240" indent="-203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CK is inherently robust &amp; need to maintain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ime to market must be sh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s &amp; FCC will drive time to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aintain backward compat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asy to extend to higher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y stop at 22 Mbp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6D38-07F1-4523-9D87-69A0528970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0 Waveforms for High Rate Exten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deword Modulation </a:t>
            </a:r>
            <a:r>
              <a:rPr b="1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CCK-like exte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formation is transmitted by codeword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ach group of n bits select one of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code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ock coding with inherent multipath protec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ymbol Modulation </a:t>
            </a:r>
            <a:r>
              <a:rPr b="1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PBCC-like exte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ded bits used to select constellatio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AM or PSK with convolutional or block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ard modulation for satellite communica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ulti-Code Modulation </a:t>
            </a:r>
            <a:r>
              <a:rPr b="1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OFDM &amp; DS-CD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ded bits are sent in parallel using orthogonal basis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d in OFDM and in synchronous DS-CDMA (e.g, downlink of IS-95 cellul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C689-AF81-4891-B77A-5BDBC609F8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1 Codeword Modul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urrent CCK systems </a:t>
            </a:r>
            <a:r>
              <a:rPr b="1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8 chip code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 Mbps: Each codeword sends 8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 bits used to select one of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64 code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 bits used to QPSK modulate code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eiver must correlate for 64 codewords &amp; determine QPSK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s a fast correlator structure akin to fast Walsh and F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tal codeword size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256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xtension of CCK is possible to 22 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ach codeword sends 16 un-coded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tal codeword size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65536 code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s very large correlator -- Some simplification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Example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V. S. Somayazulu, et. al. , “</a:t>
            </a: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Proposal for extension of the IEEE 802.11b PHY to higher rates (&gt;20Mbps)”, IEEE 802.11-00/069, May 2000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6BDD-ADD3-4241-9CC1-82806DDEF72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1 Codeword Modulation: Summa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63244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1000"/>
          </a:bodyPr>
          <a:p>
            <a:pPr marL="140400" indent="-140400"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1700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Backward Compatibil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1700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Simple Rake Receiver for multipath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1700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Re-use of some existing baseband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1700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Low Peak to 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44960" indent="-93600"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PAR &gt; 1 due to pulse shaping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-1404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1700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oesn’t scale easily to highe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1700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dding FEC would only increase number of code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44960" indent="-9360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AWGN performance &amp; range would be li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50A8-05D9-4A24-82D2-97A6B7F02D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62120" y="685800"/>
            <a:ext cx="7516800" cy="446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2 Symbol Modul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3680" y="3429000"/>
            <a:ext cx="8613720" cy="29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urrent PBCC systems </a:t>
            </a:r>
            <a:r>
              <a:rPr b="1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 information bit per symbol @ 11 Mbp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te 1/2 Convolutional Code is used for AWGN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xtension of PBCC is possible to higher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:  Use 8-PSK &amp; Rate 2/3 punctured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PSK gives 33 Mbps co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te 2/3 gives 22 Mbps information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uld use block code instead of 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1480" y="2019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5880" y="1822320"/>
            <a:ext cx="76212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n,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79920" y="1600200"/>
            <a:ext cx="1238040" cy="81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p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bits to PS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 QA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8120" y="1598760"/>
            <a:ext cx="907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ate = 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444760" y="2006280"/>
            <a:ext cx="1216080" cy="4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11840" y="2006640"/>
            <a:ext cx="76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67480" y="1773360"/>
            <a:ext cx="965160" cy="43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lse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42040" y="1928880"/>
            <a:ext cx="155520" cy="155520"/>
          </a:xfrm>
          <a:prstGeom prst="flowChartSummingJunct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34080" y="2011320"/>
            <a:ext cx="505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15120" y="1709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632720" y="1565280"/>
          <a:ext cx="566640" cy="29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720" y="1565280"/>
                    <a:ext cx="566640" cy="2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7297560" y="19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99440" y="127620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rrier Mod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13680" y="1701720"/>
            <a:ext cx="33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597040" y="2087640"/>
          <a:ext cx="792360" cy="66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7040" y="2087640"/>
                    <a:ext cx="79236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5035680" y="2103480"/>
          <a:ext cx="442800" cy="33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5680" y="2103480"/>
                    <a:ext cx="44280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5867280" y="2728800"/>
          <a:ext cx="197640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67280" y="2728800"/>
                    <a:ext cx="19764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6778800" y="2227320"/>
            <a:ext cx="136440" cy="495360"/>
          </a:xfrm>
          <a:prstGeom prst="upArrow">
            <a:avLst>
              <a:gd name="adj1" fmla="val 50000"/>
              <a:gd name="adj2" fmla="val 90765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605D-5076-497B-A5B1-E8DC264752C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685800"/>
            <a:ext cx="800100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2 Symbol Modulation: Examp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95280" y="3429000"/>
            <a:ext cx="7467840" cy="2209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1523880"/>
            <a:ext cx="59436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480" y="1828800"/>
            <a:ext cx="89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te 1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ter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182880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7080" y="1599120"/>
            <a:ext cx="64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6200" y="2209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7280" y="1599120"/>
            <a:ext cx="64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27560" y="198000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-P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1828800"/>
            <a:ext cx="7621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0" y="2209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0" y="159912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34200" y="1903680"/>
            <a:ext cx="95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n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: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1828800"/>
            <a:ext cx="9907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2209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87480" y="1599120"/>
            <a:ext cx="64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3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160" y="205632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Transmi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41864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74600" y="3778560"/>
            <a:ext cx="78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-P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m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81080" y="3733920"/>
            <a:ext cx="76212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5320" y="342828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2680" y="3503880"/>
            <a:ext cx="45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1600200"/>
            <a:ext cx="2667240" cy="129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5720" y="2558880"/>
            <a:ext cx="87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00"/>
                </a:solidFill>
                <a:latin typeface="Times New Roman"/>
              </a:rPr>
              <a:t>Rate 2/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33120" y="3687840"/>
            <a:ext cx="52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32400" y="3657600"/>
            <a:ext cx="6094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41880" y="4038480"/>
            <a:ext cx="420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82200" y="35046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5960" y="3808800"/>
            <a:ext cx="117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un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: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02320" y="37339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95120" y="35046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4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95160" y="3733920"/>
            <a:ext cx="89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te 1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ter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73920" y="3733920"/>
            <a:ext cx="8380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1200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13080" y="3503880"/>
            <a:ext cx="64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4532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92480" y="4037760"/>
            <a:ext cx="479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 MH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3808800"/>
            <a:ext cx="122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ear Equali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03640" y="3657600"/>
            <a:ext cx="9144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00400" y="4800600"/>
            <a:ext cx="9144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4875480"/>
            <a:ext cx="122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R 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1952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65760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9408-6808-40EA-BF67-9BC9E490661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1T15:31:01Z</dcterms:created>
  <dc:creator>Steve Halford and Mark Webster</dc:creator>
  <dc:description/>
  <dc:language>en-US</dc:language>
  <cp:lastModifiedBy>Harry Worstell</cp:lastModifiedBy>
  <cp:lastPrinted>2000-05-04T15:07:54Z</cp:lastPrinted>
  <dcterms:modified xsi:type="dcterms:W3CDTF">2000-11-06T22:08:49Z</dcterms:modified>
  <cp:revision>78</cp:revision>
  <dc:subject/>
  <dc:title>389 Overview of OFDM for a High Rate Extension</dc:title>
</cp:coreProperties>
</file>