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A5D-A2A0-489F-9225-F4BAB73B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407-76B4-40FA-8CA8-F535BF7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BAD-A990-469B-B80B-363AC721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30B-62DC-4A0E-ABC6-12E9C158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B33-81B9-4B30-A395-F0E8A29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E1B-FE06-4FE1-A5F4-607A01ED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509-05FB-46A0-B26A-776D5D8E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1EF-D9A8-41D7-8BCD-011F325A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29D-1C9C-4B10-9188-A45C27C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5C5-2B2E-4F6B-86B0-97128431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A20-C6C2-4793-BCCA-C1C4312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747-4B00-43E9-B67E-1803A84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Halford and  Mark Web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6EE311-9135-4853-A6F3-30E3C7730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verview of OFDM for a High Rate Exten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040" y="307008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view and Outline of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C81-7324-4F78-B463-3BB3DCB632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56168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WGN Performance is ver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alizer complexity can be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Equalizer requires a matrix inverse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 equalizer required for goo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ive equalizers may not converge quick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linear Equalizers:  MLSE offers optimal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 impulse response estimat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combined with decoder (Joint ML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will not scale easily with increasing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ity increases exponentially with delay spread &amp;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d state vers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optimal &amp; sensitive to estim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B10-1FD2-412A-9765-8B15357BB3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8040" y="1766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7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8120" y="1842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25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037-8986-465F-85F6-69085E4A979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ell-known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AWGN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SK Versions:  Low Peak-to-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C provides some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qualizer complexity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inear equalizer needs to be 25 taps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 easy to extend receiver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482-35D6-47E8-A978-0B7BB461B5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1440" y="685800"/>
            <a:ext cx="5959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ulti-code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26760"/>
            <a:ext cx="8915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is transmitted by modulating multiple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are summed and transmitt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 both time and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create independent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d in IS-95 for 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83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076640"/>
            <a:ext cx="990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out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8600" y="4165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8600" y="55213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6609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334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8355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5200" y="4686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468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365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36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0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240" y="459756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06640" y="38098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3120" y="44956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1280" y="518940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241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1480" y="4241880"/>
            <a:ext cx="59688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271920" y="4756320"/>
            <a:ext cx="269280" cy="276480"/>
            <a:chOff x="6271920" y="4756320"/>
            <a:chExt cx="269280" cy="276480"/>
          </a:xfrm>
        </p:grpSpPr>
        <p:sp>
          <p:nvSpPr>
            <p:cNvPr id="184" name=""/>
            <p:cNvSpPr/>
            <p:nvPr/>
          </p:nvSpPr>
          <p:spPr>
            <a:xfrm>
              <a:off x="6292800" y="4779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1920" y="4756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15000" y="49150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21480" y="4978080"/>
            <a:ext cx="60300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27640" y="49150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600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4640" y="48927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4714920"/>
            <a:ext cx="64800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82080" y="48229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4120" y="490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5516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051760" y="4095720"/>
          <a:ext cx="38088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1760" y="4095720"/>
                    <a:ext cx="3808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37600" y="488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15280" y="37926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07320" y="357984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1320" y="447516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9400" y="515448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F89-327E-4EF5-B04E-0D2011A319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74640" y="685800"/>
            <a:ext cx="7802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Receiver Conside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eiver must separate each codeword prior to det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bank of correlators  to separate data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 modulation after correlator for each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words with fast correlator structure redu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CCK, Walsh words, and complex expon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840" y="467820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3479760"/>
            <a:ext cx="1719360" cy="25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8440" y="3970440"/>
            <a:ext cx="792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9798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5720" y="54133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8440" y="46800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65280" y="3760920"/>
            <a:ext cx="876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8000" y="4446720"/>
            <a:ext cx="85860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5253120"/>
            <a:ext cx="8748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81240" y="569736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rrelator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30720" y="394344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14880" y="4650840"/>
            <a:ext cx="682560" cy="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48000" y="541980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" y="421488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9120" y="369720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9120" y="444024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9120" y="5214960"/>
            <a:ext cx="977760" cy="44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4040" y="3562200"/>
            <a:ext cx="990360" cy="224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in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5244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0760" y="39178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0120" y="46688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5435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85680" y="4214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EF8-6E51-4507-B80A-9E9CCCA22A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2880" y="685800"/>
            <a:ext cx="610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Codeword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2240" y="1263600"/>
            <a:ext cx="86900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 is determined by codeword se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thogonal codeword give zer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rthogonal codewords generate “noise” due t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s the AWGN performance significa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360" y="3046320"/>
            <a:ext cx="4008600" cy="340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8280" y="30481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lsh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960" y="3429000"/>
            <a:ext cx="34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sh Sequences are well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 +/-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in IS-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rrelator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5232240"/>
            <a:ext cx="41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s peak-to-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ity is destroyed b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equalize to re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4920" y="4832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blem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3983040"/>
            <a:ext cx="1230480" cy="480960"/>
          </a:xfrm>
          <a:prstGeom prst="rightArrow">
            <a:avLst>
              <a:gd name="adj1" fmla="val 50000"/>
              <a:gd name="adj2" fmla="val 6396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13280" y="2976480"/>
            <a:ext cx="37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 sequences lose orthogonality in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2400" y="390528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70320" y="478152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equences are not eigenfunctions of the multipath chann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363-69DF-4D28-9D70-065888C077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79480" y="2554200"/>
            <a:ext cx="7421400" cy="24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2880" y="685800"/>
            <a:ext cx="626760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Multipath &amp; Orthog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520" y="1362240"/>
            <a:ext cx="865368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the channel is known, can design functions to retain orthog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ly a “hot topic” for researchers in CDMA &amp;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actical for wireless 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38040" y="2508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9080" y="3086280"/>
            <a:ext cx="72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Exponentials are eigenfunctions of linear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eigenfunctions for an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zer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ath causes a change in magnitude &amp; phase only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of complex exponentials are orthogonal frequency is 1/(symbol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T &amp; IFFT provide for fast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760" y="5529240"/>
            <a:ext cx="974520" cy="358920"/>
          </a:xfrm>
          <a:prstGeom prst="rightArrow">
            <a:avLst>
              <a:gd name="adj1" fmla="val 50000"/>
              <a:gd name="adj2" fmla="val 67879"/>
            </a:avLst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6040" y="546408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uses complex exponentials as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9D1-6BFB-42A0-A60A-6C041B7252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CM using OFDM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295280"/>
            <a:ext cx="79074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ood AWGN performance via error correctio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multipath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qualizer is greatly simplifi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qualizer complexity is the same for all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isting Wireless LAN standard (802.11a) provides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duces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ak to average ratio requires more PA back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block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y increase gate count due to memory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quency roll-off not as fast as symbol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5DB-B721-4E13-81CB-7C99AD8903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 at 2.4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6800" y="1387440"/>
            <a:ext cx="829152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802.11a standard as a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ed by Task Group A as best waveform for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ain all mandatory and optional PH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lerates the standards process by re-using existing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d Access Points could provide smooth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e sample rate from 20 MHz to 22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lock rate with existing 11 Mbp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ain the same channe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: 25 MHz center frequency spacing, 3 channels in 9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existing long &amp; short preamble for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sil will comply with all IEEE pat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572-3989-4ED2-9335-EA4A869DC8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685800"/>
            <a:ext cx="8258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685800"/>
            <a:ext cx="83170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mit information using orthogonal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ers/Codewords generated efficiently using 64 pt. I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8 ton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 tones for pilo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s good method for carrier, timing, &amp; AG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aining 12 orthogonal tones are null (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1520" y="5857920"/>
            <a:ext cx="55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986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764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54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432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0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7874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65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43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21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54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032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020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3876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565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43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212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09904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768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9878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1657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435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214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6992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4316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2100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2064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7640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26720" y="448344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43.7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9880" y="458820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0800" y="5090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6240" y="59472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986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992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17920" y="415800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7.8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431172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98640" y="431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33240" y="5144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81A-4980-4B1D-95BD-1906238559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9240" y="1308240"/>
            <a:ext cx="8559720" cy="49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6F9-2A09-4AF1-BAAD-C33BF33F8C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85800"/>
            <a:ext cx="7715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ach data tone is symbol mod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Modulation is standard BPSK, QPSK, 16-QAM, or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rate 1/2, k = 7 convolutional code for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ncture code to rate 2/3 and 3/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lot tones are modulated with a BPS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 is determined by the data scra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45960" y="4132440"/>
          <a:ext cx="8040960" cy="22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132440"/>
                    <a:ext cx="80409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E65-941F-4712-BF40-7608BC3F11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95360" y="685800"/>
            <a:ext cx="8123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55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24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d Information is interleaved over one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eaved after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s adjacent “bits” on non-adjacent sub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 is also scrambled prior to co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056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0" y="3787920"/>
            <a:ext cx="87768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2040" y="4032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3718080"/>
            <a:ext cx="110016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vol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k = 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4720" y="4048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8640" y="3809880"/>
            <a:ext cx="9144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40320" y="4062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1040" y="3759120"/>
            <a:ext cx="103824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5680" y="3699000"/>
            <a:ext cx="129672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its to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1080" y="4071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8160" y="4929120"/>
            <a:ext cx="74160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-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1640" y="369108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53560" y="44784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705720" y="52578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2716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epends on data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97560" y="4784760"/>
            <a:ext cx="1187280" cy="93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33840" y="523728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2600" y="499284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RF sub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593-5638-40A2-87C1-CDDF01CBF4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20880" y="685800"/>
            <a:ext cx="720864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Symbol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560" y="1389240"/>
            <a:ext cx="88693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 the 64 pt. IFFT is cyclically extended by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of 80 samples -- Any 64 pts valid for de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16 are used to “absorb” multipath from preceding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6800" y="4071960"/>
            <a:ext cx="106704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3840" y="4071960"/>
            <a:ext cx="396216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348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580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8640" y="42757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8720" y="41976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6800" y="5072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3840" y="507204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6800" y="392904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80920" y="51328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75720" y="363276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3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36160" y="332712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64 + 16 = 80 samples @ 22 MHz = 3.63637 u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4184640" y="5084640"/>
            <a:ext cx="172800" cy="1176120"/>
          </a:xfrm>
          <a:custGeom>
            <a:avLst/>
            <a:gdLst>
              <a:gd name="textAreaLeft" fmla="*/ 110520 w 172800"/>
              <a:gd name="textAreaRight" fmla="*/ 173160 w 172800"/>
              <a:gd name="textAreaTop" fmla="*/ 30600 h 1176120"/>
              <a:gd name="textAreaBottom" fmla="*/ 114552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760" y="4075200"/>
            <a:ext cx="3306600" cy="857160"/>
          </a:xfrm>
          <a:prstGeom prst="rect">
            <a:avLst/>
          </a:prstGeom>
          <a:solidFill>
            <a:srgbClr val="c0c0c0">
              <a:alpha val="50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15280" y="43480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imes New Roman"/>
              </a:rPr>
              <a:t>Preceding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9000" y="5742000"/>
            <a:ext cx="455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path will cause preceding symbol to”bleed” into current symbol. Guard interval absorbs this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B91-CE03-4F22-8A76-674385655C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46000" y="685800"/>
            <a:ext cx="744408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Receiver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360" y="30067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7840" y="2844720"/>
            <a:ext cx="9745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8480" y="2941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65080" y="3097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400" y="3911760"/>
            <a:ext cx="50652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N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9600" y="4299120"/>
            <a:ext cx="9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95600" y="3873600"/>
            <a:ext cx="1211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/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54080" y="3254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25360" y="4083120"/>
            <a:ext cx="570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39960" y="301932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25600" y="3030480"/>
            <a:ext cx="68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94120" y="2695680"/>
            <a:ext cx="77796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81400" y="2770200"/>
            <a:ext cx="901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2 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 rot="5400000">
            <a:off x="4510800" y="1923120"/>
            <a:ext cx="233280" cy="1212840"/>
          </a:xfrm>
          <a:custGeom>
            <a:avLst/>
            <a:gdLst>
              <a:gd name="textAreaLeft" fmla="*/ 149040 w 233280"/>
              <a:gd name="textAreaRight" fmla="*/ 233640 w 233280"/>
              <a:gd name="textAreaTop" fmla="*/ 59760 h 1212840"/>
              <a:gd name="textAreaBottom" fmla="*/ 11530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0"/>
                  <a:pt x="10800" y="3420"/>
                </a:cubicBezTo>
                <a:lnTo>
                  <a:pt x="10800" y="7380"/>
                </a:lnTo>
                <a:cubicBezTo>
                  <a:pt x="10800" y="9090"/>
                  <a:pt x="5400" y="10800"/>
                  <a:pt x="0" y="10800"/>
                </a:cubicBezTo>
                <a:cubicBezTo>
                  <a:pt x="5400" y="10800"/>
                  <a:pt x="10800" y="12510"/>
                  <a:pt x="10800" y="14220"/>
                </a:cubicBezTo>
                <a:lnTo>
                  <a:pt x="10800" y="18180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9320" y="1650960"/>
            <a:ext cx="271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Domain Equaliz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tone by inverse gain &amp; phase of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926800">
            <a:off x="2548440" y="2239200"/>
            <a:ext cx="569880" cy="222120"/>
          </a:xfrm>
          <a:prstGeom prst="rightArrow">
            <a:avLst>
              <a:gd name="adj1" fmla="val 50000"/>
              <a:gd name="adj2" fmla="val 641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3720" y="1405080"/>
            <a:ext cx="12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to know “when” a symbol 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73520" y="301932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1760" y="300672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2722680"/>
            <a:ext cx="1288800" cy="70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-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symbol to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02360" y="304308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2859120"/>
            <a:ext cx="1144800" cy="36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27880" y="3790800"/>
            <a:ext cx="1144800" cy="3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16760" y="3228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08440" y="3848040"/>
            <a:ext cx="117648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ract 4 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81560" y="3006720"/>
            <a:ext cx="0" cy="84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78680" y="41576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37320" y="4937040"/>
            <a:ext cx="105228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terb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61360" y="4840200"/>
            <a:ext cx="106524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91400" y="513396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06640" y="410544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010120"/>
            <a:ext cx="11811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72000" y="5159520"/>
            <a:ext cx="116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20600" y="517212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4120" y="49766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5760" y="2401920"/>
            <a:ext cx="7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rom A-to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996-5E49-4F02-AC74-E1D87A4DA74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55600" y="685800"/>
            <a:ext cx="677556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OFDM for High Rate:  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803160" y="4032360"/>
          <a:ext cx="7583760" cy="194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4032360"/>
                    <a:ext cx="75837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86000" y="1695600"/>
          <a:ext cx="6159240" cy="187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695600"/>
                    <a:ext cx="61592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DC3-C73B-4231-8AD5-61F76DB050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95520" y="1706400"/>
          <a:ext cx="5776920" cy="39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76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CF3-D51A-4F2E-AE8B-28A1E21624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95520" y="1706400"/>
          <a:ext cx="5753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53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86B-FB4D-443F-BA4B-4FBF074EE9A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28760" y="1171440"/>
          <a:ext cx="5078520" cy="52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171440"/>
                    <a:ext cx="507852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D42-935F-45FE-B9E3-BB7D6C4C52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760400" y="1422360"/>
          <a:ext cx="5618160" cy="444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22360"/>
                    <a:ext cx="561816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073-7492-40CE-8787-DAA0821EE29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0120" y="685800"/>
            <a:ext cx="7864560" cy="54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 Why go to higher rates at 2.4GHz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b has been very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xisting Infra-structure &amp; customer famili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umer demands for higher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ulti-media for hom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ior Range and Performance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will have better range than 5 GHz for same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for antenna d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won’t be as clean as promised (802.15.3, 802.16 co-ex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ployment of 802.11a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5120" y="557388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exists now for 802.11b to expan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3FE-D260-4CAE-8CF5-F3C661E203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Keys for Successful High Rate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formance vs. Complexity must b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GN performance is important to mainta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ies Error correcting code for higher r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 to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K is inherently robust &amp; need to mainta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me to market must be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&amp; FCC will drive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ntain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extend to highe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 stop at 20 Mb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AEE-4CD3-472C-99ED-CFDFBC5A31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Waveforms for High Rate Ex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deword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CCK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is transmitted by codewor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group of n bits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 coding with inherent multipath prot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mbol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PBCC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used to select constel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 or PSK with convolutional or blo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modulation for satellite commun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lti-Code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DM &amp; DS-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are sent in parallel using orthogonal basi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in OFDM and in synchronous DS-CDMA (e.g, downlink of IS-95 cell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5E2-B951-4D35-BBDF-BBD2121AFB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CCK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 chip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Mbps: Each codeword sends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bits used to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64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bits used to QPSK modulate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must correlate for 64 codewords &amp; determine QPS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a fast correlator structure akin to fast Walsh and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CCK is possible to 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codeword sends 16 un-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65536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 very large correlator -- Some simplification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. S. Somayazulu, et. al. , “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Proposal for extension of the IEEE 802.11b PHY to higher rates (&gt;20Mbps)”, IEEE 802.11-00/069, May 2000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D77-F1B5-4AF8-9937-8A1984F741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Backward Compat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mple Rake Receiver for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e-use of some existing baseb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Low Peak to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esn’t scale easily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ing FEC would only increase number of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WGN performance &amp; range would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C72-61C6-402E-B9B6-0DB2495551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685800"/>
            <a:ext cx="751680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680" y="3429000"/>
            <a:ext cx="8613720" cy="29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PBCC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information bit per symbol @ 11 Mbp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1/2 Convolutional Code is used for AWG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PBCC is possible to highe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Use 8-PSK &amp; Rate 2/3 puncture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PSK gives 33 Mbps co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2/3 gives 22 Mbps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ld use block code instead of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80" y="2019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5880" y="1822320"/>
            <a:ext cx="7621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,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9920" y="1600200"/>
            <a:ext cx="123804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its to P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 Q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598760"/>
            <a:ext cx="90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ate =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4760" y="2006280"/>
            <a:ext cx="121608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1840" y="200664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67480" y="1773360"/>
            <a:ext cx="965160" cy="43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l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040" y="192888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080" y="20113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5120" y="170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720" y="1565280"/>
          <a:ext cx="566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720" y="1565280"/>
                    <a:ext cx="566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97560" y="19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99440" y="12762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13680" y="170172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7040" y="2087640"/>
          <a:ext cx="7923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2087640"/>
                    <a:ext cx="792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035680" y="2103480"/>
          <a:ext cx="44280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5680" y="2103480"/>
                    <a:ext cx="442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2728800"/>
          <a:ext cx="19764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2728800"/>
                    <a:ext cx="197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778800" y="2227320"/>
            <a:ext cx="136440" cy="495360"/>
          </a:xfrm>
          <a:prstGeom prst="upArrow">
            <a:avLst>
              <a:gd name="adj1" fmla="val 50000"/>
              <a:gd name="adj2" fmla="val 90765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C19-6FAC-47B0-8927-FF44A032F6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3429000"/>
            <a:ext cx="746784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5238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480" y="182880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8288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70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72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7560" y="1980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82880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5991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4200" y="1903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82880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74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20563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8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4600" y="377856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733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5320" y="342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2680" y="3503880"/>
            <a:ext cx="4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600200"/>
            <a:ext cx="266724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5720" y="25588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Rate 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3120" y="3687840"/>
            <a:ext cx="52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2400" y="3657600"/>
            <a:ext cx="609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1880" y="403848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220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5960" y="380880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02320" y="37339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512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160" y="373392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73920" y="37339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3080" y="350388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5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2480" y="4037760"/>
            <a:ext cx="4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0880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657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4800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87548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 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7B1-3C29-40A9-847D-351CC1252D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31:01Z</dcterms:created>
  <dc:creator>Steve Halford and Mark Webster</dc:creator>
  <dc:description/>
  <dc:language>en-US</dc:language>
  <cp:lastModifiedBy>Harry Worstell</cp:lastModifiedBy>
  <cp:lastPrinted>2000-05-04T15:07:54Z</cp:lastPrinted>
  <dcterms:modified xsi:type="dcterms:W3CDTF">2000-11-07T21:51:09Z</dcterms:modified>
  <cp:revision>82</cp:revision>
  <dc:subject/>
  <dc:title>389 Overview of OFDM for a High Rate Extension</dc:title>
</cp:coreProperties>
</file>