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285A-DABA-4FC2-AEBF-00C60632A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B771-78F2-45A9-BD05-7C35C3F6F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30BC-D01E-44A7-AADA-74BA29D9E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4163-BF7D-40F9-A5DD-86050A998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7E38-E0FF-4AB1-B226-7CE5FFFAF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89A4-1B15-410D-B23B-53EEBC02D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5954-453E-4708-83B1-2D0013D05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35D9-0E21-4D1A-8A60-54999A758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BBF5-A125-40DB-97DC-40913B73B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8A68-6425-4EF2-A48E-8446DCAA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A535-0DAE-48E8-87B7-48124CC6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5BFD-F959-4BB8-A67A-DA84BFD6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90720"/>
            <a:ext cx="119052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 Webster and Steve Halford, Inters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5023E1A-C8B8-4644-9F83-2542DADF73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3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Reuse of 802.11b Preambles with HRb OFD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rk Webster and Steve Half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sil Corp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B5D4-3067-4997-9DD7-31C9964709F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mpatibility with 802.11b SIF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attern HRb after 802.11a’s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40240" y="1920960"/>
            <a:ext cx="736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802.11a OFDM Uses Last-Symbol Data Exten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Propose doing something similar for HR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19320" y="5410080"/>
            <a:ext cx="12189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38280" y="541008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657600" y="541008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76920" y="5410080"/>
            <a:ext cx="12189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5880" y="541008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st 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1932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43828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7200" y="5973840"/>
            <a:ext cx="7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4 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59436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43828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57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666160" y="5973840"/>
            <a:ext cx="7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4 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438280" y="59436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57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7692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85480" y="5973840"/>
            <a:ext cx="7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4 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657600" y="59436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7692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588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04800" y="5973840"/>
            <a:ext cx="7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4 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76920" y="59436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588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152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323760" y="5973840"/>
            <a:ext cx="7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4 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5880" y="59436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34480" y="2876400"/>
            <a:ext cx="2811240" cy="222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2.11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Rate Mbps         Bytes/Symbol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                           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                           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                           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8                            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4                           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6                           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8                           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4                           2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09680" y="288144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6600" y="4343400"/>
            <a:ext cx="761040" cy="213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51680" y="2865600"/>
            <a:ext cx="3771360" cy="916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802.11a Has a Mismatch betw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.  Packet length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2.  Data Rate &amp; Number of 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20680" y="4184640"/>
            <a:ext cx="460764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OFDM Symbol Contains Multiple Data B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Data bytes may not fill last OFDM 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Last symbol extended with scrambled ze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795D-C2B5-4662-B1F1-79EB411123B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mpatibility with 802.11b SI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191120" y="3581280"/>
            <a:ext cx="21333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3880" y="3429000"/>
            <a:ext cx="172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HRb Sig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w/o Exten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801320" y="3654360"/>
            <a:ext cx="86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Rb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76720" y="3581280"/>
            <a:ext cx="9144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362320" y="3581280"/>
            <a:ext cx="9144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91120" y="411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781680" y="411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03000" y="3962520"/>
            <a:ext cx="688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9436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4191120" y="4267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91120" y="4724280"/>
            <a:ext cx="25905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324480" y="4724280"/>
            <a:ext cx="4572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4724280"/>
            <a:ext cx="9144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62320" y="4724280"/>
            <a:ext cx="9144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9112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78168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03000" y="5257800"/>
            <a:ext cx="688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943600" y="5410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4191120" y="5410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4240" y="4692600"/>
            <a:ext cx="157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HRb Sig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w/ Exten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6324480" y="32497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77120" y="3249720"/>
            <a:ext cx="3045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646600" y="2590920"/>
            <a:ext cx="1971360" cy="5806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Packet Energy N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Integer # of use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444040" y="3581280"/>
            <a:ext cx="83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439000" y="4724280"/>
            <a:ext cx="83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82120" y="3581280"/>
            <a:ext cx="83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77440" y="4724280"/>
            <a:ext cx="83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1320" y="4830840"/>
            <a:ext cx="86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Rb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423600" y="5761080"/>
            <a:ext cx="688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343400" y="5791320"/>
            <a:ext cx="1371600" cy="457200"/>
          </a:xfrm>
          <a:custGeom>
            <a:avLst/>
            <a:gdLst>
              <a:gd name="textAreaLeft" fmla="*/ 457200 w 1371600"/>
              <a:gd name="textAreaRight" fmla="*/ 1175040 w 1371600"/>
              <a:gd name="textAreaTop" fmla="*/ 263520 h 457200"/>
              <a:gd name="textAreaBottom" fmla="*/ 391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29000" y="533412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629400" y="4495680"/>
            <a:ext cx="137088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094160" y="4133880"/>
            <a:ext cx="114840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W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87200" y="1616040"/>
            <a:ext cx="576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his Signal Extension 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Also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Prov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On-the-Air Packet-Length Consist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AF92-B008-474C-B98E-D213DF825DA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NTERSIL’s OFDM Proposal Achieves Compatibility with 802.11b SIF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81280" y="4419720"/>
            <a:ext cx="25909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4386240"/>
            <a:ext cx="99036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64640" y="4191120"/>
            <a:ext cx="87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802.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HR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OFD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192200" y="4492800"/>
            <a:ext cx="100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OFDM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392960" y="446256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16292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324120" y="4191120"/>
            <a:ext cx="615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172200" y="4114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310080" y="3767040"/>
            <a:ext cx="5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715000" y="4419720"/>
            <a:ext cx="4572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71500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571500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457960" y="3079800"/>
            <a:ext cx="988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g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~ 6 use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666880" y="4419720"/>
            <a:ext cx="9144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743920" y="4419720"/>
            <a:ext cx="83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752480" y="4419720"/>
            <a:ext cx="9144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829520" y="4419720"/>
            <a:ext cx="83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581280" y="4952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172200" y="4952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493520" y="4952880"/>
            <a:ext cx="688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895480" y="50292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814120" y="5532480"/>
            <a:ext cx="688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334120" y="5105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3581280" y="5105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81480" y="38098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733920" y="5486400"/>
            <a:ext cx="1371600" cy="457200"/>
          </a:xfrm>
          <a:custGeom>
            <a:avLst/>
            <a:gdLst>
              <a:gd name="textAreaLeft" fmla="*/ 457200 w 1371600"/>
              <a:gd name="textAreaRight" fmla="*/ 1175040 w 1371600"/>
              <a:gd name="textAreaTop" fmla="*/ 263520 h 457200"/>
              <a:gd name="textAreaBottom" fmla="*/ 391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050720" y="2971800"/>
            <a:ext cx="1209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333cc"/>
                </a:solidFill>
                <a:uFillTx/>
                <a:latin typeface="Arial"/>
              </a:rPr>
              <a:t>Start 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333cc"/>
                </a:solidFill>
                <a:uFillTx/>
                <a:latin typeface="Arial"/>
              </a:rPr>
              <a:t>Flush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FF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De-interleav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FEC De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059840" y="1752480"/>
            <a:ext cx="30272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cc0000"/>
                </a:solidFill>
                <a:uFillTx/>
                <a:latin typeface="Arial"/>
              </a:rPr>
              <a:t>Maintain 802.11b ai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Create flush-processing margin</a:t>
            </a:r>
            <a:br>
              <a:rPr sz="1400"/>
            </a:b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   by packet signal extens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Extend to integer # of usecs</a:t>
            </a:r>
            <a:br>
              <a:rPr sz="1400"/>
            </a:b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   consistent with length field</a:t>
            </a:r>
            <a:br>
              <a:rPr sz="1400"/>
            </a:b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   in Barker preamble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Maintains CCA ener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DC15-53EF-4D21-B257-6A127376AC6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LME-TXTIME.Confirm Primitive Calculation for Long/Short Pream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0720" y="3349800"/>
            <a:ext cx="80139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f5f5f"/>
                </a:solidFill>
                <a:latin typeface="Times New Roman"/>
              </a:rPr>
              <a:t>TXTIME (usecs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f5f5f"/>
                </a:solidFill>
                <a:latin typeface="Times New Roman"/>
              </a:rPr>
              <a:t>PreambleLength +PLCPHeaderTime +  Ceiling( OfdmSync 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f5f5f"/>
                </a:solidFill>
                <a:latin typeface="Times New Roman"/>
              </a:rPr>
              <a:t>+ OfdmSigField + 4 *(16 + 8*LENGTH + 6 )/ N </a:t>
            </a:r>
            <a:r>
              <a:rPr b="1" i="1" lang="en-US" sz="2400" spc="-1" strike="noStrike" baseline="-25000">
                <a:solidFill>
                  <a:srgbClr val="5f5f5f"/>
                </a:solidFill>
                <a:latin typeface="Times New Roman"/>
              </a:rPr>
              <a:t>DBPS</a:t>
            </a:r>
            <a:r>
              <a:rPr b="1" i="1" lang="en-US" sz="2400" spc="-1" strike="noStrike">
                <a:solidFill>
                  <a:srgbClr val="5f5f5f"/>
                </a:solidFill>
                <a:latin typeface="Times New Roman"/>
              </a:rPr>
              <a:t> )*20/2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f5f5f"/>
                </a:solidFill>
                <a:latin typeface="Times New Roman"/>
              </a:rPr>
              <a:t>+ SignalExtens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1523880" y="4873320"/>
            <a:ext cx="1526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4267080" y="4492440"/>
            <a:ext cx="1526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5943600" y="4492800"/>
            <a:ext cx="4572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7162920" y="456840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10320" y="5226120"/>
            <a:ext cx="127332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Flu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Mar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98120" y="5102280"/>
            <a:ext cx="1101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Length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SDU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Oct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956480" y="5178600"/>
            <a:ext cx="1192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Number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Data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er OFD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556680" y="5330880"/>
            <a:ext cx="1793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Clock 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Conver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802.11a:  20 M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HRb:  22 M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739920" y="3044880"/>
            <a:ext cx="118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FEC Flu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5943240" y="342576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3581280" y="3044880"/>
            <a:ext cx="13716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093280" y="2419200"/>
            <a:ext cx="1724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Scrambler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&amp; Full-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Service Fie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35680" y="2286000"/>
            <a:ext cx="40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Representative Calc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4B0C-02ED-453A-9FDE-E2DBCDE26EB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143000" y="2438280"/>
            <a:ext cx="7086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NTERSIL’s HRb OFDM Proposal Reus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802.11b’s Long/Short Preamble/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966B-EB0B-4FE8-8EE1-D275F9A10135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Rb Long/Short Preamble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4471920"/>
            <a:ext cx="1295280" cy="57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581280" y="4471920"/>
            <a:ext cx="762120" cy="57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343400" y="4471920"/>
            <a:ext cx="2971800" cy="57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566160" y="4453920"/>
            <a:ext cx="77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8 BIT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@ 2 Mb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594520" y="4453920"/>
            <a:ext cx="88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EAM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2 BIT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@ 1 Mb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881240" y="4453920"/>
            <a:ext cx="142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D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LECTABL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@ 2, 5.5 OR 11 Mb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2714760"/>
            <a:ext cx="2514600" cy="57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200400" y="2714760"/>
            <a:ext cx="1143000" cy="57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343400" y="2714760"/>
            <a:ext cx="2971800" cy="57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13520" y="2696400"/>
            <a:ext cx="77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8 BIT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@ 1 Mb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451520" y="2696400"/>
            <a:ext cx="88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EAM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44 BIT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@ 1 Mb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811040" y="2696400"/>
            <a:ext cx="1561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D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LECTABL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@ 1, 2, 5.5 OR 11 Mb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5080" y="2229480"/>
            <a:ext cx="34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802.11b LONG PREAM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92280" y="4015440"/>
            <a:ext cx="35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802.11b SHORT PREAM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86000" y="51436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5800" y="34290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830680" y="5134680"/>
            <a:ext cx="8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96 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026800" y="342036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192 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01040" y="5516640"/>
            <a:ext cx="401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1 and 2 Mbps uses 11 chip BARKER cod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5.5 and 11 Mbps uses 8 chip CCK cod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Chipping is at 11 MHz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865480" y="37177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ata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5790960" y="4114800"/>
            <a:ext cx="53316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 flipV="1">
            <a:off x="5790960" y="3328920"/>
            <a:ext cx="53316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19560" y="1537560"/>
            <a:ext cx="549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CURRENT 802.11b PREAM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4828-DCE3-456D-A18E-1F39527F18F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2286000" y="4929120"/>
            <a:ext cx="1295280" cy="57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581280" y="4929120"/>
            <a:ext cx="762120" cy="57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566160" y="4911120"/>
            <a:ext cx="77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8 BIT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@ 2 Mb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594520" y="4911120"/>
            <a:ext cx="88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EAM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2 BIT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@ 1 Mb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85800" y="2786040"/>
            <a:ext cx="2514600" cy="57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200400" y="2786040"/>
            <a:ext cx="1143000" cy="57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029200" y="2786040"/>
            <a:ext cx="2971800" cy="57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413520" y="2768040"/>
            <a:ext cx="77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8 BIT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@ 1 Mb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451520" y="2768040"/>
            <a:ext cx="88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EAM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44 BIT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@ 1 Mb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5840" y="2272320"/>
            <a:ext cx="385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802.11 HRb LONG PREAM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73040" y="4487040"/>
            <a:ext cx="40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802.11 HRb SHORT PREAM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35002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830680" y="5591160"/>
            <a:ext cx="8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96 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026800" y="349092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192 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697080" y="404604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ata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6629040" y="4357800"/>
            <a:ext cx="609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 flipV="1">
            <a:off x="6629040" y="3357720"/>
            <a:ext cx="60948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786040"/>
            <a:ext cx="685800" cy="57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390200" y="2829960"/>
            <a:ext cx="554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Arial"/>
              </a:rPr>
              <a:t>OF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Arial"/>
              </a:rPr>
              <a:t>SY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346640" y="4929120"/>
            <a:ext cx="682560" cy="57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390200" y="4973040"/>
            <a:ext cx="554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Arial"/>
              </a:rPr>
              <a:t>OF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Arial"/>
              </a:rPr>
              <a:t>SY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19720" y="3500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5572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286000" y="55720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203360" y="3520440"/>
            <a:ext cx="95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10.9 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203360" y="5591880"/>
            <a:ext cx="95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10.9 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4114440" y="2428920"/>
            <a:ext cx="609480" cy="50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429000" y="5429160"/>
            <a:ext cx="60948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416480" y="1911600"/>
            <a:ext cx="2297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8000"/>
                </a:solidFill>
                <a:latin typeface="Arial"/>
              </a:rPr>
              <a:t>Service Field 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8000"/>
                </a:solidFill>
                <a:latin typeface="Arial"/>
              </a:rPr>
              <a:t>Denotes Switch to OFD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749240" y="5912280"/>
            <a:ext cx="2297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8000"/>
                </a:solidFill>
                <a:latin typeface="Arial"/>
              </a:rPr>
              <a:t>Service Field 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8000"/>
                </a:solidFill>
                <a:latin typeface="Arial"/>
              </a:rPr>
              <a:t>Denotes Switch to OFD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098680" y="2775600"/>
            <a:ext cx="2881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DU  SELECT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FDM Symbol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@ 6.6, 9.6, 13.2, 19.8, 26.4, 39.3, 52.8 or 59.4 Mbp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54080" y="859680"/>
            <a:ext cx="455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PREAMBLES for 802.11 HRb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Reuse 802.11b pream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3657600" y="3214800"/>
            <a:ext cx="76212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657600" y="4143240"/>
            <a:ext cx="990720" cy="85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029200" y="4929120"/>
            <a:ext cx="2971800" cy="57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050800" y="4918680"/>
            <a:ext cx="2881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DU  SELECT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FDM Symbol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@ 6.6, 9.6, 13.2, 19.8, 26.4, 39.3, 52.8 or 59.4 Mbp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670480" y="3840120"/>
            <a:ext cx="11469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Arial"/>
              </a:rPr>
              <a:t>Fine-Tu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Arial"/>
              </a:rPr>
              <a:t>SYN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BF16-1995-427D-B508-496CA7F8ABD6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4038480" y="2529000"/>
            <a:ext cx="1143000" cy="571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226760" y="2556720"/>
            <a:ext cx="82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H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48 BI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74280" y="2098440"/>
            <a:ext cx="2844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4 bits to denote </a:t>
            </a:r>
            <a:br>
              <a:rPr sz="1400"/>
            </a:b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   extended data r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4  bits of 5 to identify # bytes </a:t>
            </a:r>
            <a:br>
              <a:rPr sz="1400"/>
            </a:b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   in last OFDM symbo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371600" y="3743280"/>
            <a:ext cx="1143000" cy="571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594080" y="3771360"/>
            <a:ext cx="75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SIG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8 BI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514600" y="3743280"/>
            <a:ext cx="1143000" cy="571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689560" y="3771360"/>
            <a:ext cx="85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8 BI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657600" y="3743280"/>
            <a:ext cx="2286000" cy="571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293000" y="3771360"/>
            <a:ext cx="80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16 BI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43600" y="3743280"/>
            <a:ext cx="2286000" cy="571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579360" y="3771360"/>
            <a:ext cx="78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C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16 BI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1447560" y="3100320"/>
            <a:ext cx="2514600" cy="5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257800" y="3100320"/>
            <a:ext cx="2895480" cy="5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2286000" y="4314600"/>
            <a:ext cx="457200" cy="50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 flipV="1">
            <a:off x="4952520" y="4314600"/>
            <a:ext cx="381240" cy="50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828800" y="3100320"/>
            <a:ext cx="15228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279160" y="912960"/>
            <a:ext cx="442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Black"/>
              </a:rPr>
              <a:t>HRb SHORT/LONG-PREAM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Black"/>
              </a:rPr>
              <a:t>HEADER DET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6629040" y="3029040"/>
            <a:ext cx="304920" cy="71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402960" y="2691720"/>
            <a:ext cx="114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Arial"/>
              </a:rPr>
              <a:t>Unchan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58240" y="4873680"/>
            <a:ext cx="280980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1 bit to denote OFDM mod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1 bit of 5 to identify</a:t>
            </a:r>
            <a:br>
              <a:rPr sz="1400"/>
            </a:b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   # bytes in last OFDM symbo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695480" y="4691880"/>
            <a:ext cx="2508840" cy="11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Arial"/>
              </a:rPr>
              <a:t>Unchan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Arial"/>
              </a:rPr>
              <a:t>The Length Field is adequate, </a:t>
            </a:r>
            <a:br>
              <a:rPr sz="1200"/>
            </a:br>
            <a:r>
              <a:rPr b="1" lang="en-US" sz="1200" spc="-1" strike="noStrike">
                <a:solidFill>
                  <a:srgbClr val="008000"/>
                </a:solidFill>
                <a:latin typeface="Arial"/>
              </a:rPr>
              <a:t>   since measured in us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Arial"/>
              </a:rPr>
              <a:t>OFDM proposal uses PSDU </a:t>
            </a:r>
            <a:br>
              <a:rPr sz="1200"/>
            </a:br>
            <a:r>
              <a:rPr b="1" lang="en-US" sz="1200" spc="-1" strike="noStrike">
                <a:solidFill>
                  <a:srgbClr val="008000"/>
                </a:solidFill>
                <a:latin typeface="Arial"/>
              </a:rPr>
              <a:t>   length in an integer number</a:t>
            </a:r>
            <a:br>
              <a:rPr sz="1200"/>
            </a:br>
            <a:r>
              <a:rPr b="1" lang="en-US" sz="1200" spc="-1" strike="noStrike">
                <a:solidFill>
                  <a:srgbClr val="008000"/>
                </a:solidFill>
                <a:latin typeface="Arial"/>
              </a:rPr>
              <a:t>   of us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612D-209F-4789-B4FD-179E2E7ED838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ignal Field Bit Defin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62120" y="1897200"/>
            <a:ext cx="914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23680" y="193032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676520" y="1897200"/>
            <a:ext cx="914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738080" y="193032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590920" y="1897200"/>
            <a:ext cx="914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652480" y="193032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05320" y="1897200"/>
            <a:ext cx="914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566880" y="193032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419720" y="1897200"/>
            <a:ext cx="914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481280" y="193032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334120" y="1897200"/>
            <a:ext cx="914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5680" y="193032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248520" y="1897200"/>
            <a:ext cx="914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310080" y="193032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162920" y="1897200"/>
            <a:ext cx="914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224480" y="193032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46160" y="1446840"/>
            <a:ext cx="309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802.11b Signal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751760" y="3275640"/>
            <a:ext cx="531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New 802.11 HRb OFDM Signal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62120" y="373680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23680" y="377028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676520" y="373680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38080" y="377028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590920" y="373680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652480" y="377028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05320" y="373680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566880" y="377028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419720" y="373680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481280" y="377028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334120" y="373680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395680" y="377028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248520" y="373680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310080" y="377028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162920" y="373680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224480" y="377028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416240" y="2371680"/>
            <a:ext cx="647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ata Rate Mbps =   0.1 Mbps x ( b</a:t>
            </a:r>
            <a:r>
              <a:rPr b="1" lang="en-US" sz="1800" spc="-1" strike="noStrike" baseline="-25000">
                <a:solidFill>
                  <a:srgbClr val="cc0000"/>
                </a:solidFill>
                <a:latin typeface="Arial"/>
              </a:rPr>
              <a:t>7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b</a:t>
            </a:r>
            <a:r>
              <a:rPr b="1" lang="en-US" sz="18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b</a:t>
            </a:r>
            <a:r>
              <a:rPr b="1" lang="en-US" sz="1800" spc="-1" strike="noStrike" baseline="-25000">
                <a:solidFill>
                  <a:srgbClr val="cc0000"/>
                </a:solidFill>
                <a:latin typeface="Arial"/>
              </a:rPr>
              <a:t>5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b</a:t>
            </a:r>
            <a:r>
              <a:rPr b="1" lang="en-US" sz="1800" spc="-1" strike="noStrike" baseline="-25000">
                <a:solidFill>
                  <a:srgbClr val="cc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b</a:t>
            </a:r>
            <a:r>
              <a:rPr b="1" lang="en-US" sz="1800" spc="-1" strike="noStrike" baseline="-25000">
                <a:solidFill>
                  <a:srgbClr val="cc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b</a:t>
            </a:r>
            <a:r>
              <a:rPr b="1" lang="en-US" sz="18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b</a:t>
            </a:r>
            <a:r>
              <a:rPr b="1" lang="en-US" sz="1800" spc="-1" strike="noStrike" baseline="-25000">
                <a:solidFill>
                  <a:srgbClr val="cc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b</a:t>
            </a:r>
            <a:r>
              <a:rPr b="1" lang="en-US" sz="1800" spc="-1" strike="noStrike" baseline="-25000">
                <a:solidFill>
                  <a:srgbClr val="cc00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)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 base</a:t>
            </a:r>
            <a:r>
              <a:rPr b="1" lang="en-US" sz="18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202840" y="4518000"/>
            <a:ext cx="83448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6.6 M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13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19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26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39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52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59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081240" y="4518000"/>
            <a:ext cx="58752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b0-b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1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0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0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1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1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0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0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133720" y="4419720"/>
            <a:ext cx="1600200" cy="19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133720" y="47242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048120" y="44197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511080" y="2711520"/>
            <a:ext cx="216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.5 Mbps maxim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19720" y="4121280"/>
            <a:ext cx="860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st Sy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it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334120" y="4124160"/>
            <a:ext cx="860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st Sy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it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248520" y="4127400"/>
            <a:ext cx="860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st Sy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it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162920" y="4130640"/>
            <a:ext cx="860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st Sy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it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rot="16200000">
            <a:off x="2476440" y="2863440"/>
            <a:ext cx="228600" cy="2743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9FFD-7574-4A6B-99ED-963D9BC8124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rvice Field Bit Defin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808560" y="2712960"/>
            <a:ext cx="86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62120" y="2332080"/>
            <a:ext cx="9144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62120" y="233208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823680" y="236520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722960" y="2712960"/>
            <a:ext cx="86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676520" y="2332080"/>
            <a:ext cx="9144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676520" y="233208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738080" y="236520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591640" y="2712960"/>
            <a:ext cx="974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ck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ock 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 = n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 = Lock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590920" y="2332080"/>
            <a:ext cx="9144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590920" y="233208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52480" y="236520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465000" y="2712960"/>
            <a:ext cx="1029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d. Selec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on 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 = C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 = PB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505320" y="2332080"/>
            <a:ext cx="9144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505320" y="233208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566880" y="236520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466160" y="2712960"/>
            <a:ext cx="86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419720" y="2332080"/>
            <a:ext cx="9144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419720" y="233208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481280" y="236520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380560" y="2712960"/>
            <a:ext cx="86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334120" y="2332080"/>
            <a:ext cx="9144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334120" y="233208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395680" y="236520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294960" y="2712960"/>
            <a:ext cx="86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248520" y="2332080"/>
            <a:ext cx="9144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248520" y="233208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310080" y="236520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135200" y="2712960"/>
            <a:ext cx="910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t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162920" y="2332080"/>
            <a:ext cx="9144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162920" y="233208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224480" y="236520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62120" y="4465800"/>
            <a:ext cx="9144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62120" y="4465800"/>
            <a:ext cx="914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823680" y="449892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676520" y="4465800"/>
            <a:ext cx="9144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676520" y="4465800"/>
            <a:ext cx="914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738080" y="449892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4465800"/>
            <a:ext cx="9144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4465800"/>
            <a:ext cx="914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652480" y="449892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505320" y="4465800"/>
            <a:ext cx="9144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505320" y="4465800"/>
            <a:ext cx="914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566880" y="449892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380560" y="4849920"/>
            <a:ext cx="86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419720" y="4465800"/>
            <a:ext cx="9144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419720" y="4465800"/>
            <a:ext cx="914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481280" y="449892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334120" y="4465800"/>
            <a:ext cx="9144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334120" y="4465800"/>
            <a:ext cx="914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395680" y="449892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294960" y="4846680"/>
            <a:ext cx="86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248520" y="4465800"/>
            <a:ext cx="9144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248520" y="4465800"/>
            <a:ext cx="914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310080" y="449892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162920" y="4465800"/>
            <a:ext cx="9144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162920" y="4465800"/>
            <a:ext cx="914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224480" y="449892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21800" y="4846680"/>
            <a:ext cx="1029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d. Selec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on 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 = n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 = OF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065320" y="5840280"/>
            <a:ext cx="463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Locked Timing/Carrier Clocks Manda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762280" y="167544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802.11b Service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667880" y="3885120"/>
            <a:ext cx="54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New 802.11 HRb OFDM Service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162920" y="4849920"/>
            <a:ext cx="860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st Sy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it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722960" y="4865760"/>
            <a:ext cx="86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591640" y="4865760"/>
            <a:ext cx="974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ck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ock 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 = n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 = Lock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465000" y="4865760"/>
            <a:ext cx="1029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d. Selec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on 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 = C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 = PB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466160" y="4865760"/>
            <a:ext cx="86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9EA7-E89A-44DA-B711-6144EDDB7A7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802.11b Backward Compatibility Requi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327400"/>
            <a:ext cx="7772400" cy="341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t maintain all 802.11b signaling timeli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t reuse long pream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reuse short preamble op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t maintain SIFS, PIFS, DIFS, EI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t maintain slot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t maintain CCA reaction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imal MAC impa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SIL’s HRb PHY proposal meets all these requir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3FA8-B5F2-4C52-9592-02D9736DE62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solve Last-OFDM-Symbol Number-of-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676880" y="1314360"/>
            <a:ext cx="517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OFDM Symbol Contains Multiple Data 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Data bytes may not fill last OFDM symb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Last symbol extended with scrambled z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747520" y="2300400"/>
            <a:ext cx="2811240" cy="222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2.11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Rate Mbps         Bytes/Symbol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.6                            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.9                            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2                            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.8                            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6.4                           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9.6                           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2.8                           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9.4                           2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114800" y="2301840"/>
            <a:ext cx="0" cy="221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219320" y="5276880"/>
            <a:ext cx="12189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438280" y="527688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657600" y="527688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876920" y="5276880"/>
            <a:ext cx="12189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095880" y="527688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Last 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219320" y="4971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438280" y="4971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446120" y="4743360"/>
            <a:ext cx="95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64 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219320" y="51246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438280" y="4971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657600" y="4971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665080" y="4743360"/>
            <a:ext cx="95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64 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438280" y="51246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657600" y="4971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876920" y="4971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884400" y="4743360"/>
            <a:ext cx="95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64 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657600" y="51246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876920" y="4971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095880" y="4971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103720" y="4743360"/>
            <a:ext cx="95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64 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876920" y="51246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095880" y="4971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315200" y="4971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322680" y="4743360"/>
            <a:ext cx="95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64 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095880" y="51246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315200" y="5276880"/>
            <a:ext cx="457200" cy="30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858000" y="4210200"/>
            <a:ext cx="761760" cy="19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789240" y="3905280"/>
            <a:ext cx="114840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3658320" y="5123880"/>
            <a:ext cx="289440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755880" y="5810400"/>
            <a:ext cx="202464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How M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Information Byte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648320" y="4210200"/>
            <a:ext cx="380880" cy="38088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5029200" y="3295800"/>
            <a:ext cx="83808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872680" y="2530440"/>
            <a:ext cx="2229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5 bits Needed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solve 0 thru 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Bytes in Last 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or 59.4 Mb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D2CD-A21F-43A1-8C26-0490023BD60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s Some Type of OFDM SYNC Desirab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286000" y="5046840"/>
            <a:ext cx="1295280" cy="57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581280" y="5046840"/>
            <a:ext cx="762120" cy="57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566160" y="5028480"/>
            <a:ext cx="77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8 BIT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@ 2 Mb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594520" y="5028480"/>
            <a:ext cx="88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EAM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2 BIT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@ 1 Mb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5800" y="2903400"/>
            <a:ext cx="2514600" cy="57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200400" y="2903400"/>
            <a:ext cx="1143000" cy="57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029200" y="2903400"/>
            <a:ext cx="2971800" cy="57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413520" y="2885400"/>
            <a:ext cx="77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8 BIT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@ 1 Mb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451520" y="2885400"/>
            <a:ext cx="88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EAM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44 BIT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@ 1 Mb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65840" y="2389680"/>
            <a:ext cx="385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802.11 HRb LONG PREAM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73040" y="4604400"/>
            <a:ext cx="40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802.11 HRb SHORT PREAM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85800" y="36180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830680" y="5709600"/>
            <a:ext cx="8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96 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026800" y="360936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192 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697080" y="416376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ata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6629040" y="4475160"/>
            <a:ext cx="609480" cy="57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 flipV="1">
            <a:off x="6629040" y="3475080"/>
            <a:ext cx="60948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343400" y="2903400"/>
            <a:ext cx="685800" cy="57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363920" y="2917080"/>
            <a:ext cx="74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OF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SYNC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346640" y="5046840"/>
            <a:ext cx="682560" cy="57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363920" y="5060160"/>
            <a:ext cx="74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OF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SYNC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419720" y="3618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343400" y="56894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286000" y="568944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303800" y="3637800"/>
            <a:ext cx="75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? 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303800" y="5709600"/>
            <a:ext cx="75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? 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098680" y="2892960"/>
            <a:ext cx="2881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DU  SELECT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FDM Symbol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@ 6.6, 9.6, 13.2, 19.8, 26.4, 39.3, 52.8 or 59.4 Mbp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029200" y="5046840"/>
            <a:ext cx="2971800" cy="57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050800" y="5036040"/>
            <a:ext cx="2881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DU  SELECT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FDM Symbol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@ 6.6, 9.6, 13.2, 19.8, 26.4, 39.3, 52.8 or 59.4 Mbp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4724280" y="2335320"/>
            <a:ext cx="4572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801320" y="190512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Fine Tune Dem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B8AD-0018-4270-94FB-E6F82291AE6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unction of 802.11a OFDM SY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505320" y="2889360"/>
            <a:ext cx="441936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5181480" y="2401920"/>
            <a:ext cx="533520" cy="48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191120" y="2888640"/>
            <a:ext cx="230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D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LECTABL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@ 6, 9, 12, 18, 24, 36, 48 or 54 Mb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819520" y="2889360"/>
            <a:ext cx="688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767320" y="2918520"/>
            <a:ext cx="833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SIG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447920" y="2889360"/>
            <a:ext cx="13744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870560" y="2918520"/>
            <a:ext cx="62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OF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SY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447920" y="35751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751040" y="3574440"/>
            <a:ext cx="8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16 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819520" y="35751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818800" y="3574440"/>
            <a:ext cx="7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4 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3200400" y="2478240"/>
            <a:ext cx="380880" cy="41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228400" y="1537560"/>
            <a:ext cx="400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802.11a Packet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676520" y="4260960"/>
            <a:ext cx="21333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809880" y="4260960"/>
            <a:ext cx="21337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523880" y="3651120"/>
            <a:ext cx="152640" cy="53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895480" y="3651120"/>
            <a:ext cx="2971800" cy="549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676520" y="496260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021760" y="4975920"/>
            <a:ext cx="7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8 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612680" y="4975920"/>
            <a:ext cx="7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8 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287080" y="4336200"/>
            <a:ext cx="60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Sh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SY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420440" y="4336200"/>
            <a:ext cx="60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L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SY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272400" y="2217960"/>
            <a:ext cx="15915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i="1" lang="en-US" sz="1400" spc="-1" strike="noStrike">
                <a:solidFill>
                  <a:srgbClr val="008000"/>
                </a:solidFill>
                <a:latin typeface="Arial"/>
              </a:rPr>
              <a:t>Data 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i="1" lang="en-US" sz="1400" spc="-1" strike="noStrike">
                <a:solidFill>
                  <a:srgbClr val="008000"/>
                </a:solidFill>
                <a:latin typeface="Arial"/>
              </a:rPr>
              <a:t># bytes of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249520" y="2279160"/>
            <a:ext cx="14533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0000"/>
                </a:solidFill>
                <a:latin typeface="Arial"/>
              </a:rPr>
              <a:t>Data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675080" y="5245200"/>
            <a:ext cx="18964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gnal Det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arse Frequ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ing Sync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(FFT alignme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809880" y="49626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882600" y="5245200"/>
            <a:ext cx="200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e Frequ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nnel 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4397-EB4D-4697-AF75-A8AB78F6747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s a SSYNC Desirable for Barker-to-OFDM Transi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292760" y="2666880"/>
            <a:ext cx="4548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What is SSYNC used for in 802.11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GC pull-in, e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oarse frequency estim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ignal Det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ime synchronization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   (FFT align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5029200" y="353376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409440" y="2887560"/>
            <a:ext cx="17640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Necess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HRb OFD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/S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am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3581280" y="321624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3581280" y="38257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DC25-81A4-476C-ADF6-810BCEEBBA7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s a SSYNC Desirable for Barker-to-OFDM Transi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85800" y="3276720"/>
            <a:ext cx="274320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891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057400" y="3352680"/>
            <a:ext cx="8380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911160" y="3352680"/>
            <a:ext cx="990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120040" y="3386160"/>
            <a:ext cx="782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u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873240" y="3767040"/>
            <a:ext cx="857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lti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809880" y="3733920"/>
            <a:ext cx="1143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904320" y="3386160"/>
            <a:ext cx="1020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02.11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ng/Sh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am/H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89548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920880" y="4114800"/>
            <a:ext cx="990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914760" y="4148280"/>
            <a:ext cx="817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905120" y="441972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276360" y="4038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H="1" flipV="1">
            <a:off x="3124080" y="38095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124080" y="3886200"/>
            <a:ext cx="30456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2779560" y="1828800"/>
            <a:ext cx="761760" cy="152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780280" y="1828800"/>
            <a:ext cx="761040" cy="152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627280" y="2590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160800" y="2514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146040" y="2548080"/>
            <a:ext cx="76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0     fre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933920" y="1828800"/>
            <a:ext cx="884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T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535640" y="5105520"/>
            <a:ext cx="761760" cy="7617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390920" y="5867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924440" y="5791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909680" y="5824440"/>
            <a:ext cx="76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0     fre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657960" y="5108400"/>
            <a:ext cx="884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T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086200" y="2743200"/>
            <a:ext cx="205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versity loss for OF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962160" y="6019920"/>
            <a:ext cx="227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ulse shape for preamb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857240" y="1600200"/>
            <a:ext cx="2743200" cy="1523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581280" y="4876920"/>
            <a:ext cx="2743200" cy="1523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 rot="8814000">
            <a:off x="3152520" y="4647240"/>
            <a:ext cx="228600" cy="6858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V="1" rot="546000">
            <a:off x="3076200" y="3047760"/>
            <a:ext cx="181080" cy="380880"/>
          </a:xfrm>
          <a:prstGeom prst="downArrow">
            <a:avLst>
              <a:gd name="adj1" fmla="val 50000"/>
              <a:gd name="adj2" fmla="val 52584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334120" y="3471840"/>
            <a:ext cx="243828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891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629400" y="3776760"/>
            <a:ext cx="990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690240" y="3809880"/>
            <a:ext cx="884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tim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952880" y="4081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486400" y="3776760"/>
            <a:ext cx="8380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547240" y="3809880"/>
            <a:ext cx="7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u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324480" y="4081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905120" y="36576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076480" y="4114800"/>
            <a:ext cx="8380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176560" y="42400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315880" y="4343400"/>
            <a:ext cx="29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1933920" y="3961800"/>
            <a:ext cx="4564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851760" y="5456160"/>
            <a:ext cx="1357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Timing Al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Barker-to-OF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Tran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257800" y="19051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486400" y="1066680"/>
            <a:ext cx="990720" cy="1371600"/>
          </a:xfrm>
          <a:custGeom>
            <a:avLst/>
            <a:gdLst/>
            <a:ahLst/>
            <a:rect l="l" t="t" r="r" b="b"/>
            <a:pathLst>
              <a:path w="624" h="864">
                <a:moveTo>
                  <a:pt x="0" y="528"/>
                </a:moveTo>
                <a:lnTo>
                  <a:pt x="48" y="432"/>
                </a:lnTo>
                <a:lnTo>
                  <a:pt x="96" y="672"/>
                </a:lnTo>
                <a:lnTo>
                  <a:pt x="192" y="0"/>
                </a:lnTo>
                <a:lnTo>
                  <a:pt x="384" y="288"/>
                </a:lnTo>
                <a:lnTo>
                  <a:pt x="480" y="864"/>
                </a:lnTo>
                <a:lnTo>
                  <a:pt x="624" y="528"/>
                </a:ln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880240" y="31240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184800" y="2286000"/>
            <a:ext cx="1067040" cy="1066680"/>
          </a:xfrm>
          <a:custGeom>
            <a:avLst/>
            <a:gdLst/>
            <a:ahLst/>
            <a:rect l="l" t="t" r="r" b="b"/>
            <a:pathLst>
              <a:path w="672" h="672">
                <a:moveTo>
                  <a:pt x="0" y="528"/>
                </a:moveTo>
                <a:lnTo>
                  <a:pt x="96" y="672"/>
                </a:lnTo>
                <a:lnTo>
                  <a:pt x="144" y="336"/>
                </a:lnTo>
                <a:lnTo>
                  <a:pt x="336" y="0"/>
                </a:lnTo>
                <a:lnTo>
                  <a:pt x="432" y="336"/>
                </a:lnTo>
                <a:lnTo>
                  <a:pt x="480" y="192"/>
                </a:lnTo>
                <a:lnTo>
                  <a:pt x="672" y="528"/>
                </a:ln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135840" y="1371600"/>
            <a:ext cx="110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rker C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719760" y="1676520"/>
            <a:ext cx="44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405560" y="2895480"/>
            <a:ext cx="44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758640" y="2209680"/>
            <a:ext cx="106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DM C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5029200" y="2285640"/>
            <a:ext cx="3049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5181480" y="2666880"/>
            <a:ext cx="1676160" cy="243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4B31-C673-45FF-A277-3F4362F110C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s an SSYNC Desirable for Barker-to-OFDM Transition?   . . . .    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059840" y="2260440"/>
            <a:ext cx="7024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ropose using SSYN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Enables different pulse-shaping options in transmitter.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  (Performance enhance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llows independent guard interval alignment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  (Performance enhance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Only 4 usecs needed (5 short syncs) 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  for sufficient SN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22B4-31E7-47B2-A4BE-9ED4CE887F2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mparing 802.11a SSYNC to Long/Short Preamble HRb SSY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438280" y="3352680"/>
            <a:ext cx="3810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809160" y="3428280"/>
            <a:ext cx="7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8 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578760" y="2361600"/>
            <a:ext cx="130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802.11a SSY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438280" y="2666880"/>
            <a:ext cx="38124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819520" y="2666880"/>
            <a:ext cx="3808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200400" y="2666880"/>
            <a:ext cx="3808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581280" y="2666880"/>
            <a:ext cx="38124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962520" y="2666880"/>
            <a:ext cx="3808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343400" y="2666880"/>
            <a:ext cx="3808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724280" y="2666880"/>
            <a:ext cx="38124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105520" y="2666880"/>
            <a:ext cx="3808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486400" y="2666880"/>
            <a:ext cx="3808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867280" y="2666880"/>
            <a:ext cx="38124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352680" y="53341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950640" y="5409360"/>
            <a:ext cx="7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4 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633400" y="4342680"/>
            <a:ext cx="316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802.11 HRb Long/Short Preamble SSY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321000" y="4648320"/>
            <a:ext cx="3808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701880" y="4648320"/>
            <a:ext cx="38124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083120" y="4648320"/>
            <a:ext cx="3808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464000" y="4648320"/>
            <a:ext cx="3808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844880" y="4648320"/>
            <a:ext cx="38124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514600" y="4114800"/>
            <a:ext cx="3581280" cy="16765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905120" y="2133720"/>
            <a:ext cx="4952880" cy="16761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F271-24B0-4531-A8DD-D09ED880057F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s an LSYNC Desirable for Barker-to-OFDM Transi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066680" y="2851200"/>
            <a:ext cx="539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What is LSYNC used for in 802.11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Fine frequency esti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FEQ design (CIR estim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5381640" y="346536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761880" y="2819520"/>
            <a:ext cx="17640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Necess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HRb OFD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/S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am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8F6F-A6F4-4179-8D45-1DEB38D2944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2057400" y="2438280"/>
            <a:ext cx="236232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891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429000" y="2743200"/>
            <a:ext cx="8380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209680" y="2743200"/>
            <a:ext cx="838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008000" y="685440"/>
            <a:ext cx="6840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hannel Estimation:  Comparing 802.11b’s and 802.11a’s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491640" y="2776680"/>
            <a:ext cx="782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u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863960" y="2776680"/>
            <a:ext cx="857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lti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800600" y="2743200"/>
            <a:ext cx="1143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267080" y="3048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269440" y="2776680"/>
            <a:ext cx="743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02.11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g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048120" y="3048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324480" y="2438280"/>
            <a:ext cx="129564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891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477120" y="2743200"/>
            <a:ext cx="990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537600" y="2776680"/>
            <a:ext cx="884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tim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943600" y="3048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057400" y="4876920"/>
            <a:ext cx="236232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891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209680" y="5181480"/>
            <a:ext cx="838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863960" y="5214960"/>
            <a:ext cx="857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lti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800600" y="5181480"/>
            <a:ext cx="1143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048120" y="54864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268360" y="5214960"/>
            <a:ext cx="735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02.11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g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324480" y="4876920"/>
            <a:ext cx="243864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891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620120" y="5181480"/>
            <a:ext cx="990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680600" y="5214960"/>
            <a:ext cx="884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tim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943600" y="5486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4199040" y="1523880"/>
            <a:ext cx="761040" cy="152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199400" y="1523880"/>
            <a:ext cx="761040" cy="152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259160" y="3962520"/>
            <a:ext cx="762120" cy="7617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046400" y="2286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579920" y="2209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565160" y="2243160"/>
            <a:ext cx="76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0     fre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14800" y="4724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648320" y="4648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633560" y="4681440"/>
            <a:ext cx="76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0     fre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477120" y="5181480"/>
            <a:ext cx="8380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537600" y="5214960"/>
            <a:ext cx="7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u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31520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>
            <a:off x="6858000" y="457200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552000" y="4300560"/>
            <a:ext cx="1555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Affects Sub-carr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353040" y="1523880"/>
            <a:ext cx="884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T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381840" y="3965400"/>
            <a:ext cx="884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T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572000" y="2514600"/>
            <a:ext cx="152280" cy="380880"/>
          </a:xfrm>
          <a:prstGeom prst="upArrow">
            <a:avLst>
              <a:gd name="adj1" fmla="val 50000"/>
              <a:gd name="adj2" fmla="val 625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572000" y="4952880"/>
            <a:ext cx="152280" cy="381240"/>
          </a:xfrm>
          <a:prstGeom prst="upArrow">
            <a:avLst>
              <a:gd name="adj1" fmla="val 50000"/>
              <a:gd name="adj2" fmla="val 625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091120" y="1557360"/>
            <a:ext cx="14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Root Nyquist L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106960" y="406872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Fl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59720" y="278280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2.1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60440" y="519444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2.11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4297-6EC2-4FB0-A9B6-A4F90DB66F3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Rb Channel Estimation:  OPTION with Barker/OFDM CIR Discontinu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266840" y="3048120"/>
            <a:ext cx="2743200" cy="1752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891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38440" y="3200400"/>
            <a:ext cx="8380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492200" y="3200400"/>
            <a:ext cx="990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701080" y="3233880"/>
            <a:ext cx="782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u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454280" y="3614760"/>
            <a:ext cx="857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lti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390920" y="3581280"/>
            <a:ext cx="1143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485360" y="3233880"/>
            <a:ext cx="1020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02.11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ng/Sh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am/H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47652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501920" y="3962520"/>
            <a:ext cx="990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495800" y="3995640"/>
            <a:ext cx="817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486160" y="426708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3857400" y="3886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 flipV="1">
            <a:off x="3705120" y="365724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3705120" y="3733920"/>
            <a:ext cx="30456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5084640" y="1828800"/>
            <a:ext cx="761760" cy="152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085360" y="1828800"/>
            <a:ext cx="761040" cy="152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932360" y="2590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465880" y="2514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451120" y="2548080"/>
            <a:ext cx="76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0     fre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239000" y="1828800"/>
            <a:ext cx="884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T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116680" y="5029200"/>
            <a:ext cx="76176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971960" y="57913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505480" y="5715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490720" y="5748480"/>
            <a:ext cx="76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0     fre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239000" y="5032440"/>
            <a:ext cx="884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T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391280" y="2743200"/>
            <a:ext cx="205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versity loss for OF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543200" y="5943600"/>
            <a:ext cx="227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ulse shape for preamb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162320" y="1600200"/>
            <a:ext cx="2743200" cy="1523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162320" y="4800600"/>
            <a:ext cx="2743200" cy="1523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V="1" rot="8814000">
            <a:off x="3628800" y="4494600"/>
            <a:ext cx="228600" cy="6858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 rot="1733400">
            <a:off x="3705120" y="2513520"/>
            <a:ext cx="228600" cy="6858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915160" y="3319560"/>
            <a:ext cx="243828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891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210440" y="3624120"/>
            <a:ext cx="990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271280" y="3657600"/>
            <a:ext cx="884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tim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533920" y="39290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067440" y="3624120"/>
            <a:ext cx="8380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128280" y="3657600"/>
            <a:ext cx="7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u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905520" y="39290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H="1">
            <a:off x="6829560" y="297180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056720" y="2743200"/>
            <a:ext cx="1555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Affects Sub-carr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486160" y="3505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44240" y="5257800"/>
            <a:ext cx="3364200" cy="1008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This option requires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separate channel estim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for OFD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7BE7-246C-49C1-9D35-E0A65DDAB99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2640" y="2437920"/>
            <a:ext cx="6840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SIL’s HRb OFDM Meets the 802.11b 10 usec SIFS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9704-865D-417D-B7A7-537063D4D36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s an LSYNC Desirable for Barker-to-OFDM Transition?   . . . .    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914040" y="1981080"/>
            <a:ext cx="6893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Propose using LSY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Enables different pulse-shaping options in transmitter.</a:t>
            </a:r>
            <a:br>
              <a:rPr sz="1800"/>
            </a:b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  (Performance enhancem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Provides freedom from maintaining strict gain/phase </a:t>
            </a:r>
            <a:br>
              <a:rPr sz="1800"/>
            </a:b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  continuity in transmitter.  (Simplific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Frees receiver from maintaining strict gain/phase continuity</a:t>
            </a:r>
            <a:br>
              <a:rPr sz="1800"/>
            </a:b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  during transition.   (Simplific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Allows reuse of 802.11a channel estimation algorithms.</a:t>
            </a:r>
            <a:br>
              <a:rPr sz="1800"/>
            </a:b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  (Re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Avoids total dependence upon channel estimation using</a:t>
            </a:r>
            <a:br>
              <a:rPr sz="1800"/>
            </a:b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  Barker codes.   (Simplific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Allows independent guard interval alignment without</a:t>
            </a:r>
            <a:br>
              <a:rPr sz="1800"/>
            </a:b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  extra compensation circuit.   (Simplific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8 usecs still needed for SNR enhancem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A503-ACE8-4576-9E8F-1F8EA00DFE00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arrier 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ain +/- 25 PPM transmit or receive accura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ng and short preambles provide plenty of time for carrier recovery before OFDM portion of packet occu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sentially no performance lo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D124-D252-4B7D-8D11-3F60F97ED7D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iming 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sil proposes mandatory use of locked oscillators for all 802.11 HRb radi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ing offset then becomes a trivial tracking of the carrier offs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ither polyphase filtering or FFT time-stepping can be u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sentially no performance lo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12FD-01E5-4CFE-852B-5CC07349AFE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ntenna D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802.11b preambles are sufficiently long to support antenna diversity with low-complexity AGC’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D959-49C3-4B5E-A3DA-CF8EDDFDE39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ummary of Proposed Packet Structure Reusing 802.11b Long/Short Pream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133720" y="4950000"/>
            <a:ext cx="1295280" cy="57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413800" y="4931640"/>
            <a:ext cx="945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EAM/HD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2 BIT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@ 1 Mb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85800" y="2722680"/>
            <a:ext cx="2743200" cy="57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343400" y="2722680"/>
            <a:ext cx="2971800" cy="57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168560" y="28569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EAMBLE/HEA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65840" y="2208960"/>
            <a:ext cx="385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802.11 HRb LONG PREAM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73040" y="4423320"/>
            <a:ext cx="40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802.11 HRb SHORT PREAM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85800" y="3436920"/>
            <a:ext cx="2743200" cy="12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436840" y="5765040"/>
            <a:ext cx="8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96 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526760" y="342828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192 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011280" y="398268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ata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5943240" y="4294080"/>
            <a:ext cx="609480" cy="57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H="1" flipV="1">
            <a:off x="5943240" y="3294000"/>
            <a:ext cx="60948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429000" y="3449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133720" y="5735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427200" y="3479040"/>
            <a:ext cx="95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10.9 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412880" y="2711880"/>
            <a:ext cx="2881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DU  SELECT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FDM Symbol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@ 6.6, 9.6, 13.2, 19.8, 26.4, 39.3, 52.8 or 59.4 Mbp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343400" y="4935600"/>
            <a:ext cx="2971800" cy="57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365000" y="4924800"/>
            <a:ext cx="2881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DU  SELECT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FDM Symbol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@ 6.6, 9.6, 13.2, 19.8, 26.4, 39.3, 52.8 or 59.4 Mbp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429000" y="2725560"/>
            <a:ext cx="914400" cy="57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539160" y="2739240"/>
            <a:ext cx="62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OF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SY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429000" y="4957920"/>
            <a:ext cx="914400" cy="57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539160" y="4971240"/>
            <a:ext cx="62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OF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SY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429000" y="5735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427200" y="5765040"/>
            <a:ext cx="95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10.9 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7315200" y="3449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085880" y="347904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~6 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315200" y="2725560"/>
            <a:ext cx="380880" cy="571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7089120" y="2263680"/>
            <a:ext cx="91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g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t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315200" y="565956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7085880" y="568872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~6 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315200" y="4935600"/>
            <a:ext cx="380880" cy="571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089120" y="4473720"/>
            <a:ext cx="91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g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t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B25B-7F8E-49CC-9F41-F3EC882F0C15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roughput Impact  (100 byte pack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9" name=""/>
          <p:cNvGraphicFramePr/>
          <p:nvPr/>
        </p:nvGraphicFramePr>
        <p:xfrm>
          <a:off x="1905120" y="1730520"/>
          <a:ext cx="5715000" cy="380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730520"/>
                    <a:ext cx="5715000" cy="38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1" name=""/>
          <p:cNvSpPr/>
          <p:nvPr/>
        </p:nvSpPr>
        <p:spPr>
          <a:xfrm flipV="1">
            <a:off x="5410080" y="47242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3962520" y="464796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034240" y="5608800"/>
            <a:ext cx="805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802.11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Lo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Pream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899080" y="5638680"/>
            <a:ext cx="805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802.11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Shor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Pream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4114800" y="4647960"/>
            <a:ext cx="0" cy="99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3505320" y="518148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690360" y="5638680"/>
            <a:ext cx="95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802.11 H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Shor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Pream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V="1">
            <a:off x="5562720" y="47242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798520" y="5608800"/>
            <a:ext cx="95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802.11 H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Lo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Pream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562720" y="5257800"/>
            <a:ext cx="38088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E6DD-E1C0-44A3-B57C-EF99C0F07BCF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1" name=""/>
          <p:cNvGraphicFramePr/>
          <p:nvPr/>
        </p:nvGraphicFramePr>
        <p:xfrm>
          <a:off x="1676520" y="1832040"/>
          <a:ext cx="5715000" cy="380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832040"/>
                    <a:ext cx="5715000" cy="38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roughput Impact  (1000 byte pack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V="1">
            <a:off x="3581280" y="477036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2971800" y="469404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305520" y="5684760"/>
            <a:ext cx="805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802.11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Lo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Pream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832400" y="5684760"/>
            <a:ext cx="805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802.11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Shor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Pream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3048120" y="4694040"/>
            <a:ext cx="0" cy="99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2514600" y="522756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515680" y="5684760"/>
            <a:ext cx="95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802.11 H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Shor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Pream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V="1">
            <a:off x="3656160" y="477036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999960" y="5684760"/>
            <a:ext cx="95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802.11 H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Lo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Pream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656160" y="5303880"/>
            <a:ext cx="38088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F659-F4A0-4042-83AE-BB59DC518422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mpatibility with 802.11b SIF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Using Existing Short/Long Pream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6880" y="3381480"/>
            <a:ext cx="289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mmon Probl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for HRb Propos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9880" y="2895480"/>
            <a:ext cx="762120" cy="1828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951080" y="3365640"/>
            <a:ext cx="30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802.11b SIFS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of 10 usecs may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 bit too sh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EE66-05DB-486F-92E8-325E2A068D5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mpatibility with 802.11b SIF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Using Existing Short/Long Pream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09680" y="3429000"/>
            <a:ext cx="34290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629400" y="3429000"/>
            <a:ext cx="99072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09680" y="4538520"/>
            <a:ext cx="29718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629400" y="4538520"/>
            <a:ext cx="99072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6386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2940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90960" y="3276720"/>
            <a:ext cx="615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32004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76920" y="2852640"/>
            <a:ext cx="5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81480" y="4157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629400" y="4157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633640" y="4386240"/>
            <a:ext cx="615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81480" y="4309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49840" y="3962520"/>
            <a:ext cx="5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40600" y="335592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802.11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40960" y="44766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802.11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OFD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5680" y="350532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05680" y="464508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9440" y="461484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9440" y="35053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58400" y="5245200"/>
            <a:ext cx="2681640" cy="10674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tra 6 usecs required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-interle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oder flu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28800" y="1797120"/>
            <a:ext cx="7078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802.11b SIFS time of 10 usecs is too short for the m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sophisticated 802.11a which has a 16 usecs SIFS.   </a:t>
            </a:r>
            <a:r>
              <a:rPr b="1" lang="en-US" sz="2000" spc="-1" strike="noStrike" u="sng">
                <a:solidFill>
                  <a:srgbClr val="008000"/>
                </a:solidFill>
                <a:uFillTx/>
                <a:latin typeface="Arial"/>
              </a:rPr>
              <a:t>Wh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AC64-6E8B-4F35-A7AD-9C1F118D460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mpatibility with 802.11b SIF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Using Existing Short/Long Pream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116080" y="2525760"/>
            <a:ext cx="138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2.11 DS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FS 10 use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81080" y="2286000"/>
            <a:ext cx="160020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020840" y="2525760"/>
            <a:ext cx="138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2.11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FS 10 use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2286000"/>
            <a:ext cx="160020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25960" y="2525760"/>
            <a:ext cx="138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2.11 HR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FS 10 use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2286000"/>
            <a:ext cx="160020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581280" y="2819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355920" y="213372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Inher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261040" y="213372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Inher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43200" y="4724280"/>
            <a:ext cx="685800" cy="4572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2362320" y="35053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62320" y="5181480"/>
            <a:ext cx="533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43400" y="4572000"/>
            <a:ext cx="685800" cy="6094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19920" y="4267080"/>
            <a:ext cx="685800" cy="914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24680" y="3914640"/>
            <a:ext cx="132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Complexity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Latenc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2819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74120" y="5638680"/>
            <a:ext cx="406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0000"/>
                </a:solidFill>
                <a:latin typeface="Arial"/>
              </a:rPr>
              <a:t>Note:  Can trade latency for increased design </a:t>
            </a:r>
            <a:br>
              <a:rPr sz="1400"/>
            </a:br>
            <a:r>
              <a:rPr b="1" i="1" lang="en-US" sz="1400" spc="-1" strike="noStrike">
                <a:solidFill>
                  <a:srgbClr val="cc0000"/>
                </a:solidFill>
                <a:latin typeface="Arial"/>
              </a:rPr>
              <a:t>           complexity and higher speed clock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6400440" y="35812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3505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95480" y="3581280"/>
            <a:ext cx="15264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537240" y="513864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40040" y="5210280"/>
            <a:ext cx="157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Recei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Sophist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9B53-C38B-4400-8263-476E1BB15F1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828800" y="3733920"/>
            <a:ext cx="6400800" cy="2438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mpatibility with 802.11b SI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5480" y="4495680"/>
            <a:ext cx="2211840" cy="9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vanc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deword Transfo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nded C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vanced Gold co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324840" y="4038480"/>
            <a:ext cx="1743840" cy="1159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quali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FT/FE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terbi Equaliz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near equaliz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F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581640" y="3892680"/>
            <a:ext cx="224388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-interlea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bat impulse no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5240" y="4495680"/>
            <a:ext cx="1588680" cy="7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terbi (flus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ed Solom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90040" y="5334120"/>
            <a:ext cx="2364120" cy="7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tched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nnel matched 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itened matched 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30280" y="1928880"/>
            <a:ext cx="138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2.11 DS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FS 10 use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95280" y="1689120"/>
            <a:ext cx="160020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39960" y="1928880"/>
            <a:ext cx="138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2.11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FS 10 use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1689120"/>
            <a:ext cx="160020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49640" y="1928880"/>
            <a:ext cx="138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2.11 HR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FS 10 use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15000" y="1689120"/>
            <a:ext cx="160020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95480" y="222264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22226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46440" y="15858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Inher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88160" y="16128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Inher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8347400">
            <a:off x="5360760" y="2663280"/>
            <a:ext cx="762120" cy="9144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03680" y="2894040"/>
            <a:ext cx="223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0000"/>
                </a:solidFill>
                <a:latin typeface="Arial"/>
              </a:rPr>
              <a:t>HRb Propos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0000"/>
                </a:solidFill>
                <a:latin typeface="Arial"/>
              </a:rPr>
              <a:t>Have More Advanc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0000"/>
                </a:solidFill>
                <a:latin typeface="Arial"/>
              </a:rPr>
              <a:t>Demodula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8023-BD16-43E5-8C63-C57B12EC83D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mpatibility with 802.11b SI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25840" y="2878200"/>
            <a:ext cx="743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IFSTime = aRxRFDelay + aRxPLCPDelay + aMACPrcDelay + aRxTxTurnaround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325908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9160" y="2116080"/>
            <a:ext cx="30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IFS TIME BU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3259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35160" y="4070520"/>
            <a:ext cx="3178080" cy="15541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x PLCP Delay Impacted b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EC 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Deinterlea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Equaliz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Codeword trans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ading/Writing Data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2BCA-1934-4A95-AFFC-5BCF9276FE1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chieving Compatibility with 802.11b SIFS with Signal Ext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81280" y="4800600"/>
            <a:ext cx="25909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62920" y="4767120"/>
            <a:ext cx="99036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4640" y="4572000"/>
            <a:ext cx="87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802.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HR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Sig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91840" y="4873680"/>
            <a:ext cx="86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HRb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392960" y="484344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72200" y="4343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162920" y="4343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24120" y="4572000"/>
            <a:ext cx="615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72200" y="4495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10080" y="4148280"/>
            <a:ext cx="5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15000" y="4800600"/>
            <a:ext cx="4572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15000" y="4343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72200" y="4343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571500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500080" y="3627360"/>
            <a:ext cx="910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g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t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51320" y="1701720"/>
            <a:ext cx="34142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c0000"/>
                </a:solidFill>
                <a:uFillTx/>
                <a:latin typeface="Arial"/>
              </a:rPr>
              <a:t>Maintain 802.11b air 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Create flush-processing margin</a:t>
            </a:r>
            <a:br>
              <a:rPr sz="1600"/>
            </a:b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   via packet signal exten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Extend to integer # of usecs</a:t>
            </a:r>
            <a:br>
              <a:rPr sz="1600"/>
            </a:b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   consistent with length field</a:t>
            </a:r>
            <a:br>
              <a:rPr sz="1600"/>
            </a:b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   in Barker preamble 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Maintains CCA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61240" y="1906560"/>
            <a:ext cx="15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ropo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mm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4800600"/>
            <a:ext cx="9144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52480" y="4800600"/>
            <a:ext cx="9144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58128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7220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93520" y="5334120"/>
            <a:ext cx="688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95480" y="541008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14120" y="5837400"/>
            <a:ext cx="688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4120" y="5486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3581280" y="5486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181480" y="4191120"/>
            <a:ext cx="4572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1754280"/>
            <a:ext cx="609480" cy="1447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33920" y="5791320"/>
            <a:ext cx="1371600" cy="457200"/>
          </a:xfrm>
          <a:custGeom>
            <a:avLst/>
            <a:gdLst>
              <a:gd name="textAreaLeft" fmla="*/ 457200 w 1371600"/>
              <a:gd name="textAreaRight" fmla="*/ 1175040 w 1371600"/>
              <a:gd name="textAreaTop" fmla="*/ 263520 h 457200"/>
              <a:gd name="textAreaBottom" fmla="*/ 391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176720" y="3673440"/>
            <a:ext cx="10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Flu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29520" y="4800600"/>
            <a:ext cx="83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43920" y="4800600"/>
            <a:ext cx="83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C65D-40D8-451A-9B4E-7C9349DDDF0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1:38:26Z</dcterms:created>
  <dc:creator>Mark Webster and Steve Halford</dc:creator>
  <dc:description/>
  <dc:language>en-US</dc:language>
  <cp:lastModifiedBy>Harry Worstell</cp:lastModifiedBy>
  <cp:lastPrinted>2000-05-04T15:07:54Z</cp:lastPrinted>
  <dcterms:modified xsi:type="dcterms:W3CDTF">2000-11-06T22:09:38Z</dcterms:modified>
  <cp:revision>41</cp:revision>
  <dc:subject/>
  <dc:title>Reuse of 802.11b Prembles with HRb OFDM</dc:title>
</cp:coreProperties>
</file>