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2D3-3FA1-4984-9976-2A4471EF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E4B-BC1A-40F9-9055-3BF89177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147-C246-423D-9479-83741DE4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843-FC1A-442A-90E3-BA1103A8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504-6D31-4F0D-9DDF-0E2CF30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632-FF6C-4416-B29E-E67078A1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59D-317F-4327-91B2-5414D7A8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4E4-4DCB-4E8D-A1EB-3D768CD2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BE5-C5EF-4518-8DDE-70CCA5AF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67F-0125-460E-9750-1C8541EB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656-C36D-4244-B829-2429750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903-7ED0-49DD-A996-9D2B67E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1BAB9A-40ED-4CD8-AEB9-DB58DDCB3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ltra-Short Preambl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ption for 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8CA-DFCF-48C4-8E05-F898D3AFC6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of Why Preamble Cannot be Shorten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by counter-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281400"/>
            <a:ext cx="16765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28140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28140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23360" y="3263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41920" y="3263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8440" y="326304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560" y="272628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9495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0800" y="402516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72 usecs 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628720" y="3149280"/>
            <a:ext cx="381240" cy="2438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281400"/>
            <a:ext cx="76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1240" y="3263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7200" y="4559400"/>
            <a:ext cx="4197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1st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 Ass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2nd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 matched filter design and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ow for start-up transient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 and Coherent AGC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ce SFD 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ful long/short SFD flags high-rate PHY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3680" y="1825560"/>
            <a:ext cx="5740200" cy="73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KEY CONCEP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A particular implementation may consume all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 preamble/SFD to perform signal detection, especially if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not short-preamble cap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48200" y="4925880"/>
            <a:ext cx="35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eceiver has acquired (lock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 Barker cod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ata is being demod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4876920"/>
            <a:ext cx="53316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8600" y="39618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4 use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8BF-0FAC-4044-BFC8-F74CA043BD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uetoot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81400" y="5105520"/>
            <a:ext cx="69552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504800" y="4191120"/>
          <a:ext cx="1636920" cy="18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4800" y="4191120"/>
                    <a:ext cx="16369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431000" y="3809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b W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9640" y="3511440"/>
          <a:ext cx="1195560" cy="52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9640" y="3511440"/>
                    <a:ext cx="1195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V="1">
            <a:off x="3429000" y="3733920"/>
            <a:ext cx="1905120" cy="761760"/>
          </a:xfrm>
          <a:prstGeom prst="lightningBol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3600" y="525780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ing-a-Ma-J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1400" y="1676520"/>
            <a:ext cx="53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Point can hear laptop f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ptop can hear Access Point f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ptop sees low-level Bluetooth inter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ence of SFD flags non-802.11b sig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should 802.11b defer to Bluetoo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3480" y="31384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b W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351960" y="4876920"/>
            <a:ext cx="68580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D14-B746-43D6-ADD6-3B3A0725BE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ine 802.11b CCA Constitu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A time spec at &lt; 15 us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A has 3 op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 Energy Dete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 Carrier Sen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Energy Detect plus Carrier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ed equipment configuration &amp; re-configura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Carrier S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Energy Det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802.11b specify behavior if neither short or long preamble SFD’s are obser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D7E-9107-4705-979B-90C4234F88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Carrier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760" y="1574640"/>
            <a:ext cx="777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3 PMD_CS.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imitive, which is generated by the PMD, shall ind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 PLCP layer that the receiver has acquired (locked)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ker code and data is being demod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3.1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imitive, which is generated by the PMD, shall ind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 PLCP layer that the receiver has acquired (lock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rker code and data is being demod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1040" y="18622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54960" y="5246640"/>
            <a:ext cx="4932360" cy="91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ction time not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rker sequence shorter than the 802.11b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short preamble may be miss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657600" y="4965840"/>
            <a:ext cx="4572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933960" y="4508640"/>
            <a:ext cx="228600" cy="761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B7D-8696-43A0-9EB5-29D1601066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Energy De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9760" y="1539720"/>
            <a:ext cx="81939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4 PMD_ED.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4.1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ptional primitive may be generated by the PMD to prov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ication that the receiver has detected RF energy indic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MD_RSSI primitive that is above a predefined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440" y="3781440"/>
            <a:ext cx="803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4.3 When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imitive is generated by the PHY sublayer when the 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ceiving RF energy from any source that exceed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_THRESHOLD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79480" y="5673600"/>
            <a:ext cx="319788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poofed by Bluet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poofed by uWave Ov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7C6-B8FB-442E-B4D8-23BB98773D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Clear Channel Assessment (C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200" y="2174760"/>
            <a:ext cx="73861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4.8.4 C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High Rate PHY shall provide the capability to perform CCA according to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st one of the following three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CA Mode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1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ergy above threshold. CCA shall report a busy medium up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tecting any energy above the ED thresho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CA Mode 4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arrier Sense with timer. CCA shall start a timer whose du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3.65 ms and report a busy medium only upon the detection of a High Rate PH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. CCA shall report an idle medium after the timer expires and no High 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signal is detected. The 3.65 ms timeout is the duration of the longest 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5 Mbit/s PSD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0280" y="5597640"/>
            <a:ext cx="426924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ction time not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GC’d pull-in time must be allot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666520" y="5316120"/>
            <a:ext cx="38124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960" y="171756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hoose 1 of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07F-012F-4EE0-9391-0ABD9F34D4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CCA 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5520" y="1517760"/>
            <a:ext cx="7430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4.8.4 CCA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CA Mode 5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 combination of Carrier Sense and energy above threshold. C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ll report busy at least while a High Rate PPDU with energy above the 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eshold is being received at the antenna.  The energy detection status shall 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iven by the PMD primitive, PMD_ED. The carrier sense status shall be given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MD_CS. The status of PMD_ED and PMD_CS is used in the PLCP converg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dure to indicate activity to the MAC through the PHY interface prim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-CCA.indic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960" y="4429080"/>
            <a:ext cx="689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energy detection status shall be given by the PMD primitive, PMD_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arrier sense status shall be given by PMD_CS.  The status of PMD_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PMD_CS is used in the PLCP convergence procedure to indicate activ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the MAC through the PHY interface primitive PHY-CCA.indic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busy channel shall be indicated by PHY-CCA.indicate of class BU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ear channel shall be indicated by PHY-CCA.indicate of class ID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0280" y="3710160"/>
            <a:ext cx="426924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ction time not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GC’d pull-in time must be allot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666520" y="3580920"/>
            <a:ext cx="38124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AEE-D64C-4E3E-93C6-BBC8144062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1:  Energy De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41972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44197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120" y="42670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19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10080" y="38433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9200" y="4495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2960" y="44956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556272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5627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720" y="568332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0666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5400" y="365436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5200" y="2890800"/>
            <a:ext cx="22669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 Packet O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con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2890800"/>
            <a:ext cx="226836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 Packet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733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52520" y="37339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510552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4000" y="1828800"/>
            <a:ext cx="52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 Detect is successful for both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ut, spoofed by Bluetooth, uWave Ove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7400" y="4572000"/>
            <a:ext cx="14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ERGY DE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9BE-B4AC-47F9-94D2-2FE19BA5C8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2:  Carrier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457200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57200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120" y="44197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10080" y="3995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9200" y="4648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2960" y="46483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71500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6080" y="583560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066680" y="28191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5400" y="380700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91080" y="3146400"/>
            <a:ext cx="2017080" cy="73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As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 Packet On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80280" y="3146400"/>
            <a:ext cx="2018520" cy="73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As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 Packet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ent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38862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638320" y="38862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8840" y="1568520"/>
            <a:ext cx="67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rrier Sense not always successful for both CCA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t, spoofed by Bluetooth, uWave Ove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8560" y="2286000"/>
            <a:ext cx="231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BARKER Correlation may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be  valid until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1.  AGC 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2.  Diversity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228600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BARKER Correlation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not de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1. C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2. PB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5105520"/>
            <a:ext cx="3962520" cy="228600"/>
          </a:xfrm>
          <a:prstGeom prst="rightArrow">
            <a:avLst>
              <a:gd name="adj1" fmla="val 50000"/>
              <a:gd name="adj2" fmla="val 4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8440" y="529128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A Mode 2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457200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560" y="398952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S Excee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648320"/>
            <a:ext cx="0" cy="10666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2616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32400" y="37623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S 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4A0-39B6-4922-AA4A-D3D2A2B5E7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2:  Carrier Sense 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449748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449748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4116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4116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4120" y="434484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4268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10080" y="39211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9200" y="4573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2960" y="45734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564048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5640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92720" y="576108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066680" y="274464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5400" y="373212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2600" y="1905120"/>
            <a:ext cx="45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issing Long and Short SFD Indicates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Invalid 802.11b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ehavior not specified in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495680" y="381168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38800" y="3278160"/>
            <a:ext cx="246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ssing Long/Short  SF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ear 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4268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560" y="365904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cee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503064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360" y="521640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A Mode 2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97480"/>
            <a:ext cx="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497480"/>
            <a:ext cx="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0BF-BFD8-4150-A948-5097B9945A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ambles Shorter than 802.11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it possible to run preambles shorter than 802.11b’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egree of 802.11b backward compatibility is guarant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coexistence behavi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of non-friendly inter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ubmission examines these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ew optional ultra-short preamble for HRb OFDM is propo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tibility with 802.11b is descri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A26-2A0C-4290-ACC9-1488DEBEFD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clusion:  Can Save Maybe Only 24 usecs of Barker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129120"/>
            <a:ext cx="16765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312912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12912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23360" y="31107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4680" y="311076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8440" y="311076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4560" y="242460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379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0800" y="387288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72 usecs 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2628720" y="2997000"/>
            <a:ext cx="380880" cy="2438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129120"/>
            <a:ext cx="76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1240" y="31107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08600" y="388548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4 use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07200" y="4406760"/>
            <a:ext cx="4197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1st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 Ass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2nd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 matched filter design and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ow for start-up transient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 and Coherent AGC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ce SFD 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ful long/short SFD flags high-rate PHY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2971800"/>
            <a:ext cx="838440" cy="838080"/>
          </a:xfrm>
          <a:prstGeom prst="noSmoking">
            <a:avLst>
              <a:gd name="adj" fmla="val 12500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572000" y="2057400"/>
            <a:ext cx="12182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64280" y="1781280"/>
            <a:ext cx="277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Needed fo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CCA Mode 1, 4 or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must convey hea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information someh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48200" y="4773600"/>
            <a:ext cx="294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significant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9C2-34B5-445E-84FB-5EC5638B16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w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guaranteed coexistence under general 802.11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design new mechanisms into HRb for better performance in the fu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roughput is king, propose an ultra-short pream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xistence is possible if 802.11b equipment uses CCA mode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as an o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A96-1405-431F-89DB-7A087D0F22D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posed Ultra-Short Pream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~25 usecs of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3386160"/>
            <a:ext cx="37339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43840" y="238140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790960" y="2971800"/>
            <a:ext cx="15228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0120" y="3367800"/>
            <a:ext cx="314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6.6, 9.9, 13.2, 19.8, 26.4, 39.6, 52.8 or 59.4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386160"/>
            <a:ext cx="68904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76800" y="342828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84920" y="2440440"/>
            <a:ext cx="159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at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# bytes 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386160"/>
            <a:ext cx="24415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91560" y="339984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4038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3680" y="40680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029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7320" y="40680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3.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809880" y="3048120"/>
            <a:ext cx="152640" cy="3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2320" y="539316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t coexistent with 802.11b unless CCA Mode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s used for all equi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4572000"/>
            <a:ext cx="2514600" cy="6429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91520" y="344412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2 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s Rep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390840"/>
            <a:ext cx="228600" cy="57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94000" y="236088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72400" y="2895480"/>
            <a:ext cx="15228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080" y="403776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~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5AB-36A2-435C-9CA9-095390A252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ltra-Short Preambl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905120" y="1730520"/>
          <a:ext cx="571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30520"/>
                    <a:ext cx="571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 flipV="1">
            <a:off x="541008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987720" y="464796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971800" y="44197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3424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56640" y="56386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Ultra-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1044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3FF-6FAA-4968-92F0-C94813ABC96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ltra-Short Preambl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600200" y="1828800"/>
          <a:ext cx="556272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56272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 flipV="1">
            <a:off x="3429000" y="47239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19520" y="46479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422440" y="44197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8488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1480" y="56386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Ultra-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7200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5334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54100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199-75D1-4578-9D58-35F1F8C6C4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1:  Energy Detect by 802.11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quired for Ultra-Short Preamble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441972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44197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4120" y="42670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419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10080" y="38433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9200" y="4495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92960" y="44956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556272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55627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92720" y="568332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0666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400" y="365436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510552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280" y="2438280"/>
            <a:ext cx="414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dentical to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existent with 802.11b if 802.11b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equipment uses CCA Mod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7400" y="4572000"/>
            <a:ext cx="14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ERGY DE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20C-B089-4F8C-A1E2-511B8172D61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ier Recovery and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ier recovery performance same as 802.11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ed oscillators mand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ty same as 802.11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62D-6CDA-4908-8D4C-38A051F9F8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oint 802.11b-and-OFDM-only Detection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8840" y="35654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352680"/>
            <a:ext cx="6094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1120" y="2766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11160" y="383868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-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2743200"/>
            <a:ext cx="12193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3809880"/>
            <a:ext cx="14479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124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4343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3124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733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1160" y="337644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3276720"/>
            <a:ext cx="13716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505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380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29200" y="4343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635-5E05-4A8B-908E-DA0E8770742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reless Medium is a Shared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ireless medium is sh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stations exist in a cell, only one can transmit 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s create a packet-error near probability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den nodes can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b deferral mechanisms ensure “the many” remain silent while “the one” transm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nteroperability and coexistence, HRb proposals must provide deferral mechan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rral mechanisms allow a transmitter to seize-the-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400-4C02-4BA1-A448-8B70D4EBC7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Deferra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-to-LOWEST NETWORK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F Poin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llocation Vector (NAV)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FS, PIFS, DIFS and E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ful Header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Channel Assessment (C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017-C4DC-48F7-A3B2-6677F3BBAD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ambles Shorter than 802.11b’s Short Preamble Sacrifice Deferra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270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-to-LOWEST NETWORK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F Poin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llocation Vector (NAV)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FS, PIFS, DIFS and EI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ful Header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Channel Assessment (C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9718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42900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34340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819160" y="4952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8040" y="5410080"/>
            <a:ext cx="245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 CCA Sacrific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A70-5CAA-4E0D-B0FB-B0AD1AC1BC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 Aspects of 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419112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41911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120" y="40384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10080" y="36147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9200" y="4267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2960" y="42670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33412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53341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92720" y="545472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066680" y="24382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5400" y="342576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2320" y="1905120"/>
            <a:ext cx="2531880" cy="91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Packet On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 con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85480" y="1905120"/>
            <a:ext cx="2531880" cy="91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Packet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8954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52880" y="28195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159-799A-4825-8302-D5A4649AFF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w Short Can the Barker Codes Be And Still be 802.11b CCA Compl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2589120"/>
            <a:ext cx="129564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2589120"/>
            <a:ext cx="76176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5891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18440" y="257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6800" y="257112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33520" y="257112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560" y="190404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260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3400" y="32760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7480" y="4038480"/>
            <a:ext cx="57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there a shorter Barker sequence that guarant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eful CCA for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eployed 802.11b equipmen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en the SFD/header is not det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99480" y="5510160"/>
            <a:ext cx="282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f.  OFDM in the 2.4 GHz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Jan Boer, Lucent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Doc.: IEEE 802.11-00/1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B64-5CE4-4EFE-B6DA-29BD1FF2A2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’s Minimal In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Handle 802.11b Signals Prope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544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665440"/>
            <a:ext cx="76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266544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18440" y="264708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920" y="264708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3520" y="264708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960" y="181188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3526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3400" y="335196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68452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3960" y="26661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7040" y="3962520"/>
            <a:ext cx="56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Long Preamble On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the presence a short preamble and de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nstraint is the length of short pream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of SFD, header and data is not requi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320" y="5334120"/>
            <a:ext cx="65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Short Preamble O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the long or short preamble, demod header and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is not spec’d for missing SFD or h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3160" y="175248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AC Defer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4880" y="175248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67080" y="2057400"/>
            <a:ext cx="7617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638680" y="2057400"/>
            <a:ext cx="7617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CC6-AFF8-4DB7-82EB-254FB39D0E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orter than 802.11b’s Short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589120"/>
            <a:ext cx="129528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2589120"/>
            <a:ext cx="76176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25891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18440" y="257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1920" y="257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3520" y="257112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17359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276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3400" y="32760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&lt; 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608200"/>
            <a:ext cx="76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3960" y="259020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006800"/>
            <a:ext cx="62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Long Preamble On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guarant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deployed equipment defers prop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105520"/>
            <a:ext cx="62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Short Preamble O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is not spec’d for missing SFD or h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ng SFD is indicative of a non-802.11b sig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guarant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deployed equipment defers prop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23160" y="167652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 Defer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4880" y="167652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267080" y="1981080"/>
            <a:ext cx="7617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38680" y="1981080"/>
            <a:ext cx="7617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123720" y="2743200"/>
            <a:ext cx="381600" cy="380880"/>
            <a:chOff x="3123720" y="2743200"/>
            <a:chExt cx="381600" cy="380880"/>
          </a:xfrm>
        </p:grpSpPr>
        <p:sp>
          <p:nvSpPr>
            <p:cNvPr id="128" name=""/>
            <p:cNvSpPr/>
            <p:nvPr/>
          </p:nvSpPr>
          <p:spPr>
            <a:xfrm>
              <a:off x="312408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2372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486400" y="2666880"/>
            <a:ext cx="380880" cy="380880"/>
            <a:chOff x="5486400" y="2666880"/>
            <a:chExt cx="380880" cy="380880"/>
          </a:xfrm>
        </p:grpSpPr>
        <p:sp>
          <p:nvSpPr>
            <p:cNvPr id="131" name=""/>
            <p:cNvSpPr/>
            <p:nvPr/>
          </p:nvSpPr>
          <p:spPr>
            <a:xfrm>
              <a:off x="54864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4864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2666880"/>
            <a:ext cx="380880" cy="380880"/>
            <a:chOff x="3886200" y="2666880"/>
            <a:chExt cx="380880" cy="380880"/>
          </a:xfrm>
        </p:grpSpPr>
        <p:sp>
          <p:nvSpPr>
            <p:cNvPr id="134" name=""/>
            <p:cNvSpPr/>
            <p:nvPr/>
          </p:nvSpPr>
          <p:spPr>
            <a:xfrm>
              <a:off x="38862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8862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869-E6BE-4517-80DF-D8EB7C446F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Mark Webster</dc:creator>
  <dc:description/>
  <dc:language>en-US</dc:language>
  <cp:lastModifiedBy>Harry Worstell</cp:lastModifiedBy>
  <cp:lastPrinted>2000-05-04T15:07:54Z</cp:lastPrinted>
  <dcterms:modified xsi:type="dcterms:W3CDTF">2000-11-06T22:10:38Z</dcterms:modified>
  <cp:revision>53</cp:revision>
  <dc:subject/>
  <dc:title>Ultra-Short Preamble Option for HRb OFDM</dc:title>
</cp:coreProperties>
</file>