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10.wmf" ContentType="image/x-wmf"/>
  <Override PartName="/ppt/media/image2.png" ContentType="image/png"/>
  <Override PartName="/ppt/media/image5.wmf" ContentType="image/x-wmf"/>
  <Override PartName="/ppt/media/image25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4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F4828-52AB-470D-8292-CACAE5D52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FEBE0-5AD7-4F52-984C-27A75F1E3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5EE2A-E488-4E80-AFA4-457C97622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D923A-05A8-4BFC-972D-1A8A76098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7953A-32E1-44B5-906B-42AA587CD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191AD-0EB5-4C35-9D6B-1EB2D8638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9FC9D-836E-40FA-9861-EE608CAA9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3CB47-375A-4C70-80F5-3B115485B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E89F6-B444-4CE6-9040-A1A4B0FA5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C1286-01AD-4912-A1E0-5D48B420E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88B43-7A0F-48CF-848A-7843ABEC5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CC21E-56A9-4077-B769-9A5B2D923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90720"/>
            <a:ext cx="1190520" cy="42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November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ul Chiuchiolo and Mark Webster, Inters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113AC732-2684-4835-9749-C20494FB46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0/39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Power Amp Effects </a:t>
            </a:r>
            <a:br>
              <a:rPr sz="4400"/>
            </a:b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for HRb OFD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aul Chiuchiolo and Mark Webs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tersil Corp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724E2-2C4D-4A30-BD36-C77B74922C02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SD for PA Input with QPSK Subcarri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1370160" y="1671480"/>
            <a:ext cx="6087960" cy="456588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 flipH="1">
            <a:off x="6095880" y="2362320"/>
            <a:ext cx="2742480" cy="1065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466760" y="2133720"/>
            <a:ext cx="1284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quival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02.11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B3713-C6A1-4B0B-8DF7-C6BB927A1F55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SD for PA Output with QPSK Subcarri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1370160" y="1671480"/>
            <a:ext cx="6087960" cy="4565880"/>
          </a:xfrm>
          <a:prstGeom prst="rect">
            <a:avLst/>
          </a:prstGeom>
          <a:ln w="0">
            <a:noFill/>
          </a:ln>
        </p:spPr>
      </p:pic>
      <p:grpSp>
        <p:nvGrpSpPr>
          <p:cNvPr id="218" name=""/>
          <p:cNvGrpSpPr/>
          <p:nvPr/>
        </p:nvGrpSpPr>
        <p:grpSpPr>
          <a:xfrm>
            <a:off x="5560200" y="3124080"/>
            <a:ext cx="3256200" cy="3278880"/>
            <a:chOff x="5560200" y="3124080"/>
            <a:chExt cx="3256200" cy="3278880"/>
          </a:xfrm>
        </p:grpSpPr>
        <p:sp>
          <p:nvSpPr>
            <p:cNvPr id="219" name=""/>
            <p:cNvSpPr/>
            <p:nvPr/>
          </p:nvSpPr>
          <p:spPr>
            <a:xfrm flipH="1" flipV="1">
              <a:off x="6857640" y="4190760"/>
              <a:ext cx="60948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560200" y="6095880"/>
              <a:ext cx="135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ackoff=16.0d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465680" y="3124080"/>
              <a:ext cx="126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ackoff=3.7d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465680" y="4114800"/>
              <a:ext cx="126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ackoff=4.7d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V="1">
              <a:off x="5943600" y="5105520"/>
              <a:ext cx="15228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H="1">
              <a:off x="6324120" y="3276720"/>
              <a:ext cx="11430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465680" y="4648320"/>
              <a:ext cx="126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ackoff=8.2d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 flipH="1" flipV="1">
              <a:off x="6857640" y="4647960"/>
              <a:ext cx="6858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465320" y="5029200"/>
              <a:ext cx="135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ackoff=12.0d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flipH="1" flipV="1">
              <a:off x="6019560" y="4495320"/>
              <a:ext cx="152388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9" name=""/>
          <p:cNvSpPr/>
          <p:nvPr/>
        </p:nvSpPr>
        <p:spPr>
          <a:xfrm>
            <a:off x="5639760" y="2286000"/>
            <a:ext cx="84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 =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521480" y="1955880"/>
            <a:ext cx="996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Backoff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from Fu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atu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11381-F750-4E6C-939A-78093B99192E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SD for PA Output with QPSK Subcarri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1370160" y="1671480"/>
            <a:ext cx="6087960" cy="4565880"/>
          </a:xfrm>
          <a:prstGeom prst="rect">
            <a:avLst/>
          </a:prstGeom>
          <a:ln w="0">
            <a:noFill/>
          </a:ln>
        </p:spPr>
      </p:pic>
      <p:grpSp>
        <p:nvGrpSpPr>
          <p:cNvPr id="233" name=""/>
          <p:cNvGrpSpPr/>
          <p:nvPr/>
        </p:nvGrpSpPr>
        <p:grpSpPr>
          <a:xfrm>
            <a:off x="5560200" y="3124080"/>
            <a:ext cx="3256200" cy="3278880"/>
            <a:chOff x="5560200" y="3124080"/>
            <a:chExt cx="3256200" cy="3278880"/>
          </a:xfrm>
        </p:grpSpPr>
        <p:sp>
          <p:nvSpPr>
            <p:cNvPr id="234" name=""/>
            <p:cNvSpPr/>
            <p:nvPr/>
          </p:nvSpPr>
          <p:spPr>
            <a:xfrm flipH="1" flipV="1">
              <a:off x="6857640" y="4114440"/>
              <a:ext cx="6094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560200" y="6095880"/>
              <a:ext cx="135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ackoff=16.0d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465680" y="3124080"/>
              <a:ext cx="126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ackoff=3.4d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465680" y="4114800"/>
              <a:ext cx="126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ackoff=4.6d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flipV="1">
              <a:off x="5943600" y="548640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 flipH="1">
              <a:off x="6705720" y="3276720"/>
              <a:ext cx="76176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465680" y="4648320"/>
              <a:ext cx="126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ackoff=8.1d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 flipH="1" flipV="1">
              <a:off x="6629400" y="4571640"/>
              <a:ext cx="9144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465320" y="5029200"/>
              <a:ext cx="135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ackoff=12.0d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flipH="1" flipV="1">
              <a:off x="5943240" y="4647960"/>
              <a:ext cx="160020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4" name=""/>
          <p:cNvSpPr/>
          <p:nvPr/>
        </p:nvSpPr>
        <p:spPr>
          <a:xfrm>
            <a:off x="5782680" y="2362320"/>
            <a:ext cx="84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 =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21480" y="1955880"/>
            <a:ext cx="996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Backoff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from Fu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atu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39BBF-DC17-4598-8E8B-E31BCC0FA7FB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SD for PA Input with 16-QAM Subcarri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1370160" y="1671480"/>
            <a:ext cx="6087960" cy="456588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 flipH="1">
            <a:off x="6095880" y="2362320"/>
            <a:ext cx="2742480" cy="1065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7466760" y="2133720"/>
            <a:ext cx="1284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quival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02.11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8D165-563B-4E86-955E-D32977CC3815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SD for PA Output with 16-QAM Subcarri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1370160" y="1671480"/>
            <a:ext cx="6087960" cy="4565880"/>
          </a:xfrm>
          <a:prstGeom prst="rect">
            <a:avLst/>
          </a:prstGeom>
          <a:ln w="0">
            <a:noFill/>
          </a:ln>
        </p:spPr>
      </p:pic>
      <p:grpSp>
        <p:nvGrpSpPr>
          <p:cNvPr id="252" name=""/>
          <p:cNvGrpSpPr/>
          <p:nvPr/>
        </p:nvGrpSpPr>
        <p:grpSpPr>
          <a:xfrm>
            <a:off x="5560200" y="3124080"/>
            <a:ext cx="3256200" cy="3278880"/>
            <a:chOff x="5560200" y="3124080"/>
            <a:chExt cx="3256200" cy="3278880"/>
          </a:xfrm>
        </p:grpSpPr>
        <p:sp>
          <p:nvSpPr>
            <p:cNvPr id="253" name=""/>
            <p:cNvSpPr/>
            <p:nvPr/>
          </p:nvSpPr>
          <p:spPr>
            <a:xfrm flipH="1" flipV="1">
              <a:off x="6857640" y="4190760"/>
              <a:ext cx="60948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560200" y="6095880"/>
              <a:ext cx="135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ackoff=16.0d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465680" y="3124080"/>
              <a:ext cx="126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ackoff=3.7d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465680" y="4114800"/>
              <a:ext cx="126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ackoff=4.7d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 flipV="1">
              <a:off x="5943600" y="5105520"/>
              <a:ext cx="15228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 flipH="1">
              <a:off x="6324120" y="3276720"/>
              <a:ext cx="11430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465680" y="4648320"/>
              <a:ext cx="126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ackoff=8.2d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flipH="1" flipV="1">
              <a:off x="6857640" y="4647960"/>
              <a:ext cx="6858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465320" y="5029200"/>
              <a:ext cx="135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ackoff=12.0d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 flipV="1">
              <a:off x="6019560" y="4495320"/>
              <a:ext cx="152388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3" name=""/>
          <p:cNvSpPr/>
          <p:nvPr/>
        </p:nvSpPr>
        <p:spPr>
          <a:xfrm>
            <a:off x="5792400" y="2362320"/>
            <a:ext cx="84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 =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7521480" y="1955880"/>
            <a:ext cx="996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Backoff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from Fu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atu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EEA13-5F70-41B5-8F8D-93A01F1C0AB2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SD for PA Output with 16-QAM Subcarri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1370160" y="1671480"/>
            <a:ext cx="6087960" cy="4565880"/>
          </a:xfrm>
          <a:prstGeom prst="rect">
            <a:avLst/>
          </a:prstGeom>
          <a:ln w="0">
            <a:noFill/>
          </a:ln>
        </p:spPr>
      </p:pic>
      <p:grpSp>
        <p:nvGrpSpPr>
          <p:cNvPr id="267" name=""/>
          <p:cNvGrpSpPr/>
          <p:nvPr/>
        </p:nvGrpSpPr>
        <p:grpSpPr>
          <a:xfrm>
            <a:off x="5560200" y="3124080"/>
            <a:ext cx="3256200" cy="3278880"/>
            <a:chOff x="5560200" y="3124080"/>
            <a:chExt cx="3256200" cy="3278880"/>
          </a:xfrm>
        </p:grpSpPr>
        <p:sp>
          <p:nvSpPr>
            <p:cNvPr id="268" name=""/>
            <p:cNvSpPr/>
            <p:nvPr/>
          </p:nvSpPr>
          <p:spPr>
            <a:xfrm flipH="1" flipV="1">
              <a:off x="6857640" y="4114440"/>
              <a:ext cx="6094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560200" y="6095880"/>
              <a:ext cx="135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ackoff=16.0d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7465680" y="3124080"/>
              <a:ext cx="126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ackoff=3.4d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7465680" y="4114800"/>
              <a:ext cx="126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ackoff=4.6d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5943600" y="548640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>
              <a:off x="6705720" y="3276720"/>
              <a:ext cx="76176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465680" y="4648320"/>
              <a:ext cx="126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ackoff=8.1d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H="1" flipV="1">
              <a:off x="6629400" y="4571640"/>
              <a:ext cx="9144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465320" y="5029200"/>
              <a:ext cx="135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ackoff=12.0d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flipH="1" flipV="1">
              <a:off x="5943240" y="4647960"/>
              <a:ext cx="160020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8" name=""/>
          <p:cNvSpPr/>
          <p:nvPr/>
        </p:nvSpPr>
        <p:spPr>
          <a:xfrm>
            <a:off x="5782680" y="2362320"/>
            <a:ext cx="84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 =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521480" y="1955880"/>
            <a:ext cx="996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Backoff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from Fu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atu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254C8-06BF-42C1-B105-680C9632A2C9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SD for PA Input with 64-QAM Subcarri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1370160" y="1671480"/>
            <a:ext cx="6087960" cy="4565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 flipH="1">
            <a:off x="6095880" y="2362320"/>
            <a:ext cx="2742480" cy="1065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7466760" y="2133720"/>
            <a:ext cx="1284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quival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02.11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DBEA4-4531-4ED4-91A1-AE36BECD9596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SD for PA Output with 64-QAM Subcarri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1"/>
          <a:stretch/>
        </p:blipFill>
        <p:spPr>
          <a:xfrm>
            <a:off x="1370160" y="1671480"/>
            <a:ext cx="6087960" cy="4565880"/>
          </a:xfrm>
          <a:prstGeom prst="rect">
            <a:avLst/>
          </a:prstGeom>
          <a:ln w="0">
            <a:noFill/>
          </a:ln>
        </p:spPr>
      </p:pic>
      <p:grpSp>
        <p:nvGrpSpPr>
          <p:cNvPr id="286" name=""/>
          <p:cNvGrpSpPr/>
          <p:nvPr/>
        </p:nvGrpSpPr>
        <p:grpSpPr>
          <a:xfrm>
            <a:off x="5560200" y="3124080"/>
            <a:ext cx="3256200" cy="3278880"/>
            <a:chOff x="5560200" y="3124080"/>
            <a:chExt cx="3256200" cy="3278880"/>
          </a:xfrm>
        </p:grpSpPr>
        <p:sp>
          <p:nvSpPr>
            <p:cNvPr id="287" name=""/>
            <p:cNvSpPr/>
            <p:nvPr/>
          </p:nvSpPr>
          <p:spPr>
            <a:xfrm flipH="1" flipV="1">
              <a:off x="6857640" y="4190760"/>
              <a:ext cx="60948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5560200" y="6095880"/>
              <a:ext cx="135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ackoff=16.0d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7465680" y="3124080"/>
              <a:ext cx="126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ackoff=3.7d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7465680" y="4114800"/>
              <a:ext cx="126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ackoff=4.7d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5943600" y="5105520"/>
              <a:ext cx="15228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 flipH="1">
              <a:off x="6324120" y="3276720"/>
              <a:ext cx="11430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465680" y="4648320"/>
              <a:ext cx="126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ackoff=8.2d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 flipH="1" flipV="1">
              <a:off x="6857640" y="4647960"/>
              <a:ext cx="6858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465320" y="5029200"/>
              <a:ext cx="135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ackoff=12.0d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 flipH="1" flipV="1">
              <a:off x="6019560" y="4495320"/>
              <a:ext cx="152388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7" name=""/>
          <p:cNvSpPr/>
          <p:nvPr/>
        </p:nvSpPr>
        <p:spPr>
          <a:xfrm>
            <a:off x="5716080" y="2362320"/>
            <a:ext cx="84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 =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7521480" y="1955880"/>
            <a:ext cx="996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Backoff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from Fu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atu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B8B4E-CAF5-42A2-9525-D83DA46EF41D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" descr=""/>
          <p:cNvPicPr/>
          <p:nvPr/>
        </p:nvPicPr>
        <p:blipFill>
          <a:blip r:embed="rId1"/>
          <a:stretch/>
        </p:blipFill>
        <p:spPr>
          <a:xfrm>
            <a:off x="1371600" y="1676520"/>
            <a:ext cx="6087960" cy="4565520"/>
          </a:xfrm>
          <a:prstGeom prst="rect">
            <a:avLst/>
          </a:prstGeom>
          <a:ln w="0">
            <a:noFill/>
          </a:ln>
        </p:spPr>
      </p:pic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SD for PA Output with 64-QAM Subcarri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5560200" y="3124080"/>
            <a:ext cx="3256200" cy="3278880"/>
            <a:chOff x="5560200" y="3124080"/>
            <a:chExt cx="3256200" cy="3278880"/>
          </a:xfrm>
        </p:grpSpPr>
        <p:sp>
          <p:nvSpPr>
            <p:cNvPr id="302" name=""/>
            <p:cNvSpPr/>
            <p:nvPr/>
          </p:nvSpPr>
          <p:spPr>
            <a:xfrm flipH="1" flipV="1">
              <a:off x="6857640" y="4114440"/>
              <a:ext cx="6094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5560200" y="6095880"/>
              <a:ext cx="135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ackoff=16.0d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465680" y="3124080"/>
              <a:ext cx="126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ackoff=3.4d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7465680" y="4114800"/>
              <a:ext cx="126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ackoff=4.6d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5943600" y="548640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flipH="1">
              <a:off x="6705720" y="3276720"/>
              <a:ext cx="76176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465680" y="4648320"/>
              <a:ext cx="126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ackoff=8.1d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 flipH="1" flipV="1">
              <a:off x="6629400" y="4571640"/>
              <a:ext cx="9144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7465320" y="5029200"/>
              <a:ext cx="135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ackoff=12.0d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 flipV="1">
              <a:off x="5943240" y="4647960"/>
              <a:ext cx="160020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2" name=""/>
          <p:cNvSpPr/>
          <p:nvPr/>
        </p:nvSpPr>
        <p:spPr>
          <a:xfrm>
            <a:off x="5782680" y="2362320"/>
            <a:ext cx="84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 =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521480" y="1955880"/>
            <a:ext cx="996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Backoff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from Fu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atu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44391-EA78-47A6-95E5-77BDE479D720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1370160" y="1671480"/>
            <a:ext cx="6087960" cy="4565880"/>
          </a:xfrm>
          <a:prstGeom prst="rect">
            <a:avLst/>
          </a:prstGeom>
          <a:ln w="0">
            <a:noFill/>
          </a:ln>
        </p:spPr>
      </p:pic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ER for 6.6 Mbps with p=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2480" y="6095880"/>
            <a:ext cx="2239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ckoff from full saturatio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V="1">
            <a:off x="2438280" y="5638680"/>
            <a:ext cx="7621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32080" y="22860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000 by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ack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7521480" y="1955880"/>
            <a:ext cx="996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Backoff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from Fu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atu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26B22-D3F3-4447-9F2F-921B9A00A1BD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Non-Ideal PA Effects for OFD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85800" y="1371600"/>
            <a:ext cx="808992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pectral characteristics of PA input/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PSK, QPSK, 16-QAM, 64-Q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ver-sample rate of 4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ulse shaping requirements same as 802.11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ER with P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A Output Backo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ackoff from full satu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APP model used with p=2 and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Good approximation of existing amplifi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6.6, 13.2, 26.4 and 59.4 Mbps, 1000 byt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versample rate of 4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stimate subcarrier amp/phz over packet (non-idea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2DDF9-E6E0-43CB-A673-3E525F292C1F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" descr=""/>
          <p:cNvPicPr/>
          <p:nvPr/>
        </p:nvPicPr>
        <p:blipFill>
          <a:blip r:embed="rId1"/>
          <a:stretch/>
        </p:blipFill>
        <p:spPr>
          <a:xfrm>
            <a:off x="1370160" y="1671480"/>
            <a:ext cx="6087960" cy="4565880"/>
          </a:xfrm>
          <a:prstGeom prst="rect">
            <a:avLst/>
          </a:prstGeom>
          <a:ln w="0">
            <a:noFill/>
          </a:ln>
        </p:spPr>
      </p:pic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ER for 6.6 Mbps with p=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22480" y="6095880"/>
            <a:ext cx="2239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ckoff from full saturatio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2438280" y="5638680"/>
            <a:ext cx="7621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7521480" y="1955880"/>
            <a:ext cx="996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Backoff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from Fu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atu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32080" y="22860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000 by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ack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B2B21-8629-4469-AA7F-F875B3834938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ER for 13.2 Mbps with p=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7" name="" descr=""/>
          <p:cNvPicPr/>
          <p:nvPr/>
        </p:nvPicPr>
        <p:blipFill>
          <a:blip r:embed="rId1"/>
          <a:stretch/>
        </p:blipFill>
        <p:spPr>
          <a:xfrm>
            <a:off x="1370160" y="1671480"/>
            <a:ext cx="6087960" cy="4565880"/>
          </a:xfrm>
          <a:prstGeom prst="rect">
            <a:avLst/>
          </a:prstGeom>
          <a:ln w="0">
            <a:noFill/>
          </a:ln>
        </p:spPr>
      </p:pic>
      <p:sp>
        <p:nvSpPr>
          <p:cNvPr id="328" name=""/>
          <p:cNvSpPr/>
          <p:nvPr/>
        </p:nvSpPr>
        <p:spPr>
          <a:xfrm>
            <a:off x="7521480" y="1955880"/>
            <a:ext cx="996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Backoff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from Fu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atu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32080" y="22860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000 by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ack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D6460-70EF-46D9-8810-491416DE29F9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ER for 13.2 Mbps with p=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1" name="" descr=""/>
          <p:cNvPicPr/>
          <p:nvPr/>
        </p:nvPicPr>
        <p:blipFill>
          <a:blip r:embed="rId1"/>
          <a:stretch/>
        </p:blipFill>
        <p:spPr>
          <a:xfrm>
            <a:off x="1370160" y="1671480"/>
            <a:ext cx="6087960" cy="4565880"/>
          </a:xfrm>
          <a:prstGeom prst="rect">
            <a:avLst/>
          </a:prstGeom>
          <a:ln w="0">
            <a:noFill/>
          </a:ln>
        </p:spPr>
      </p:pic>
      <p:sp>
        <p:nvSpPr>
          <p:cNvPr id="332" name=""/>
          <p:cNvSpPr/>
          <p:nvPr/>
        </p:nvSpPr>
        <p:spPr>
          <a:xfrm>
            <a:off x="7521480" y="1955880"/>
            <a:ext cx="996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Backoff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from Fu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atu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32080" y="22860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000 by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ack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30C3A-7433-4AB9-AFA0-134799FAB09E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ER for 26.4 Mbps with p=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1370160" y="1671480"/>
            <a:ext cx="6087960" cy="456588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7521480" y="1955880"/>
            <a:ext cx="996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Backoff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from Fu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atu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32080" y="22860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000 by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ack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50AD5-17B5-4D87-8724-CA2094BA5C63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ER for 26.4 Mbps with p=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1370160" y="1671480"/>
            <a:ext cx="6087960" cy="456588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/>
          <p:nvPr/>
        </p:nvSpPr>
        <p:spPr>
          <a:xfrm>
            <a:off x="7521480" y="1955880"/>
            <a:ext cx="996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Backoff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from Fu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atu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32080" y="22860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000 by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ack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E0E52-8B9F-43F6-86BD-BBB6975DD530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ER for 59.4 Mbps with p=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3" name="" descr=""/>
          <p:cNvPicPr/>
          <p:nvPr/>
        </p:nvPicPr>
        <p:blipFill>
          <a:blip r:embed="rId1"/>
          <a:stretch/>
        </p:blipFill>
        <p:spPr>
          <a:xfrm>
            <a:off x="1370160" y="1671480"/>
            <a:ext cx="6087960" cy="4565880"/>
          </a:xfrm>
          <a:prstGeom prst="rect">
            <a:avLst/>
          </a:prstGeom>
          <a:ln w="0">
            <a:noFill/>
          </a:ln>
        </p:spPr>
      </p:pic>
      <p:sp>
        <p:nvSpPr>
          <p:cNvPr id="344" name=""/>
          <p:cNvSpPr/>
          <p:nvPr/>
        </p:nvSpPr>
        <p:spPr>
          <a:xfrm>
            <a:off x="7521480" y="1955880"/>
            <a:ext cx="996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Backoff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from Fu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atu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532080" y="22860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000 by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ack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B9B40-A35D-4578-A30E-B75B288771E5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ER for 59.4 Mbps with p=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1"/>
          <a:stretch/>
        </p:blipFill>
        <p:spPr>
          <a:xfrm>
            <a:off x="1370160" y="1671480"/>
            <a:ext cx="6087960" cy="4565880"/>
          </a:xfrm>
          <a:prstGeom prst="rect">
            <a:avLst/>
          </a:prstGeom>
          <a:ln w="0">
            <a:noFill/>
          </a:ln>
        </p:spPr>
      </p:pic>
      <p:sp>
        <p:nvSpPr>
          <p:cNvPr id="348" name=""/>
          <p:cNvSpPr/>
          <p:nvPr/>
        </p:nvSpPr>
        <p:spPr>
          <a:xfrm>
            <a:off x="7521480" y="1955880"/>
            <a:ext cx="996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Backoff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from Fu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atu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32080" y="22860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000 by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ack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94E5A-B192-449D-BDEC-74B6171849BB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SNR Degradation Tab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1" name=""/>
          <p:cNvGraphicFramePr/>
          <p:nvPr/>
        </p:nvGraphicFramePr>
        <p:xfrm>
          <a:off x="1730520" y="1752480"/>
          <a:ext cx="6270480" cy="4111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30520" y="1752480"/>
                    <a:ext cx="6270480" cy="411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3" name=""/>
          <p:cNvSpPr/>
          <p:nvPr/>
        </p:nvSpPr>
        <p:spPr>
          <a:xfrm>
            <a:off x="608400" y="329256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000 by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ack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61C94-6449-465E-9BD4-392F99916848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Conclus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 the lower data rates up to 13.2 Mbps, PA back-off is the same as 802.11b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ck-off PA more at higher data ra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=3 is slightly better than p=2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FDM is competi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E547D-8D63-4DF4-8038-0D8FBB395304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APP Power Amplifier (PA) Model (Amplitude out/in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304920" y="3048120"/>
          <a:ext cx="2361960" cy="109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3048120"/>
                    <a:ext cx="2361960" cy="109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971800" y="1981080"/>
            <a:ext cx="5484960" cy="4111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1BE29-E147-4FF8-B1DF-979EF7BEAAF5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APP Power Amplifier (PA) Model 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dB out/in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970360" y="1982880"/>
            <a:ext cx="5259240" cy="411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5" name=""/>
          <p:cNvGraphicFramePr/>
          <p:nvPr/>
        </p:nvGraphicFramePr>
        <p:xfrm>
          <a:off x="304920" y="2362320"/>
          <a:ext cx="2361960" cy="1093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2362320"/>
                    <a:ext cx="2361960" cy="109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/>
          <p:nvPr/>
        </p:nvSpPr>
        <p:spPr>
          <a:xfrm flipV="1">
            <a:off x="2362320" y="4343040"/>
            <a:ext cx="91440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007280" y="5106960"/>
            <a:ext cx="167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Output fr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Full Satu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AECC9-3F1C-4B80-B8A2-581A00072F75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685800" y="8380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1 dB Compression Point </a:t>
            </a:r>
            <a:br>
              <a:rPr sz="3200"/>
            </a:b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s. Full Satu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609480" y="2514600"/>
            <a:ext cx="3886200" cy="2817720"/>
            <a:chOff x="609480" y="2514600"/>
            <a:chExt cx="3886200" cy="2817720"/>
          </a:xfrm>
        </p:grpSpPr>
        <p:sp>
          <p:nvSpPr>
            <p:cNvPr id="61" name=""/>
            <p:cNvSpPr/>
            <p:nvPr/>
          </p:nvSpPr>
          <p:spPr>
            <a:xfrm>
              <a:off x="1136520" y="2949480"/>
              <a:ext cx="3259080" cy="2310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136520" y="5260680"/>
              <a:ext cx="3259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136520" y="5027400"/>
              <a:ext cx="3259080" cy="2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136520" y="4795560"/>
              <a:ext cx="3259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136520" y="4563720"/>
              <a:ext cx="3259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136520" y="4331880"/>
              <a:ext cx="3259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136520" y="4100400"/>
              <a:ext cx="32590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136520" y="3877920"/>
              <a:ext cx="3259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136520" y="3646080"/>
              <a:ext cx="3259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136520" y="3412800"/>
              <a:ext cx="3259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136520" y="3180960"/>
              <a:ext cx="3259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136520" y="2949480"/>
              <a:ext cx="3259080" cy="231084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136520" y="2949480"/>
              <a:ext cx="1440" cy="2310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095120" y="5260680"/>
              <a:ext cx="41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095120" y="5027400"/>
              <a:ext cx="41400" cy="2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095120" y="4795560"/>
              <a:ext cx="41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095120" y="4563720"/>
              <a:ext cx="41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095120" y="4331880"/>
              <a:ext cx="41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095120" y="4100400"/>
              <a:ext cx="4140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095120" y="3877920"/>
              <a:ext cx="41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095120" y="3646080"/>
              <a:ext cx="41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095120" y="3412800"/>
              <a:ext cx="41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095120" y="3180960"/>
              <a:ext cx="41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095120" y="2949480"/>
              <a:ext cx="4140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136520" y="2949480"/>
              <a:ext cx="32590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V="1">
              <a:off x="1136520" y="2949120"/>
              <a:ext cx="1440" cy="39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flipV="1">
              <a:off x="1498320" y="2949120"/>
              <a:ext cx="1800" cy="39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V="1">
              <a:off x="1861920" y="2949120"/>
              <a:ext cx="1440" cy="39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V="1">
              <a:off x="2225520" y="2949120"/>
              <a:ext cx="1440" cy="39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V="1">
              <a:off x="2587320" y="2949120"/>
              <a:ext cx="3240" cy="39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V="1">
              <a:off x="2941560" y="2949120"/>
              <a:ext cx="1440" cy="39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V="1">
              <a:off x="3303360" y="2949120"/>
              <a:ext cx="3240" cy="39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V="1">
              <a:off x="3668400" y="2949120"/>
              <a:ext cx="1800" cy="39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V="1">
              <a:off x="4032000" y="2949120"/>
              <a:ext cx="1440" cy="39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V="1">
              <a:off x="4395600" y="2949120"/>
              <a:ext cx="1440" cy="39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flipV="1">
              <a:off x="1136520" y="3454200"/>
              <a:ext cx="361800" cy="1079280"/>
            </a:xfrm>
            <a:prstGeom prst="line">
              <a:avLst/>
            </a:prstGeom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V="1">
              <a:off x="1498320" y="3180960"/>
              <a:ext cx="363600" cy="272880"/>
            </a:xfrm>
            <a:prstGeom prst="line">
              <a:avLst/>
            </a:prstGeom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 flipV="1">
              <a:off x="1861920" y="3081240"/>
              <a:ext cx="363600" cy="99360"/>
            </a:xfrm>
            <a:prstGeom prst="line">
              <a:avLst/>
            </a:prstGeom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flipV="1">
              <a:off x="2225520" y="3029760"/>
              <a:ext cx="361800" cy="50760"/>
            </a:xfrm>
            <a:prstGeom prst="line">
              <a:avLst/>
            </a:prstGeom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flipV="1">
              <a:off x="2587320" y="3000240"/>
              <a:ext cx="354240" cy="29520"/>
            </a:xfrm>
            <a:prstGeom prst="line">
              <a:avLst/>
            </a:prstGeom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flipV="1">
              <a:off x="2941560" y="2979000"/>
              <a:ext cx="361800" cy="20520"/>
            </a:xfrm>
            <a:prstGeom prst="line">
              <a:avLst/>
            </a:prstGeom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 flipV="1">
              <a:off x="3303360" y="2969640"/>
              <a:ext cx="365040" cy="9000"/>
            </a:xfrm>
            <a:prstGeom prst="line">
              <a:avLst/>
            </a:prstGeom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flipV="1">
              <a:off x="3668400" y="2958840"/>
              <a:ext cx="363600" cy="10800"/>
            </a:xfrm>
            <a:prstGeom prst="line">
              <a:avLst/>
            </a:prstGeom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032000" y="2958840"/>
              <a:ext cx="363600" cy="1080"/>
            </a:xfrm>
            <a:prstGeom prst="line">
              <a:avLst/>
            </a:prstGeom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136520" y="2949480"/>
              <a:ext cx="361800" cy="108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498320" y="2949480"/>
              <a:ext cx="363600" cy="108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861920" y="2949480"/>
              <a:ext cx="363600" cy="108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225520" y="2949480"/>
              <a:ext cx="361800" cy="108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587320" y="2949480"/>
              <a:ext cx="354240" cy="108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941560" y="2949480"/>
              <a:ext cx="361800" cy="108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303360" y="2949480"/>
              <a:ext cx="365040" cy="108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668400" y="2949480"/>
              <a:ext cx="363600" cy="108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032000" y="2949480"/>
              <a:ext cx="363600" cy="108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106280" y="4503600"/>
              <a:ext cx="60120" cy="59760"/>
            </a:xfrm>
            <a:custGeom>
              <a:avLst/>
              <a:gdLst/>
              <a:ahLst/>
              <a:rect l="l" t="t" r="r" b="b"/>
              <a:pathLst>
                <a:path w="36" h="36">
                  <a:moveTo>
                    <a:pt x="18" y="0"/>
                  </a:moveTo>
                  <a:lnTo>
                    <a:pt x="36" y="18"/>
                  </a:lnTo>
                  <a:lnTo>
                    <a:pt x="18" y="36"/>
                  </a:lnTo>
                  <a:lnTo>
                    <a:pt x="0" y="18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468080" y="3423960"/>
              <a:ext cx="60480" cy="60120"/>
            </a:xfrm>
            <a:custGeom>
              <a:avLst/>
              <a:gdLst/>
              <a:ahLst/>
              <a:rect l="l" t="t" r="r" b="b"/>
              <a:pathLst>
                <a:path w="36" h="36">
                  <a:moveTo>
                    <a:pt x="18" y="0"/>
                  </a:moveTo>
                  <a:lnTo>
                    <a:pt x="36" y="18"/>
                  </a:lnTo>
                  <a:lnTo>
                    <a:pt x="18" y="36"/>
                  </a:lnTo>
                  <a:lnTo>
                    <a:pt x="0" y="18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831680" y="3151080"/>
              <a:ext cx="60480" cy="59760"/>
            </a:xfrm>
            <a:custGeom>
              <a:avLst/>
              <a:gdLst/>
              <a:ahLst/>
              <a:rect l="l" t="t" r="r" b="b"/>
              <a:pathLst>
                <a:path w="36" h="36">
                  <a:moveTo>
                    <a:pt x="18" y="0"/>
                  </a:moveTo>
                  <a:lnTo>
                    <a:pt x="36" y="18"/>
                  </a:lnTo>
                  <a:lnTo>
                    <a:pt x="18" y="36"/>
                  </a:lnTo>
                  <a:lnTo>
                    <a:pt x="0" y="18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195280" y="3051000"/>
              <a:ext cx="60480" cy="59760"/>
            </a:xfrm>
            <a:custGeom>
              <a:avLst/>
              <a:gdLst/>
              <a:ahLst/>
              <a:rect l="l" t="t" r="r" b="b"/>
              <a:pathLst>
                <a:path w="36" h="36">
                  <a:moveTo>
                    <a:pt x="18" y="0"/>
                  </a:moveTo>
                  <a:lnTo>
                    <a:pt x="36" y="18"/>
                  </a:lnTo>
                  <a:lnTo>
                    <a:pt x="18" y="36"/>
                  </a:lnTo>
                  <a:lnTo>
                    <a:pt x="0" y="18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557080" y="3000240"/>
              <a:ext cx="61920" cy="59760"/>
            </a:xfrm>
            <a:custGeom>
              <a:avLst/>
              <a:gdLst/>
              <a:ahLst/>
              <a:rect l="l" t="t" r="r" b="b"/>
              <a:pathLst>
                <a:path w="36" h="36">
                  <a:moveTo>
                    <a:pt x="18" y="0"/>
                  </a:moveTo>
                  <a:lnTo>
                    <a:pt x="36" y="18"/>
                  </a:lnTo>
                  <a:lnTo>
                    <a:pt x="18" y="36"/>
                  </a:lnTo>
                  <a:lnTo>
                    <a:pt x="0" y="18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911320" y="2970000"/>
              <a:ext cx="60120" cy="59760"/>
            </a:xfrm>
            <a:custGeom>
              <a:avLst/>
              <a:gdLst/>
              <a:ahLst/>
              <a:rect l="l" t="t" r="r" b="b"/>
              <a:pathLst>
                <a:path w="36" h="36">
                  <a:moveTo>
                    <a:pt x="18" y="0"/>
                  </a:moveTo>
                  <a:lnTo>
                    <a:pt x="36" y="18"/>
                  </a:lnTo>
                  <a:lnTo>
                    <a:pt x="18" y="36"/>
                  </a:lnTo>
                  <a:lnTo>
                    <a:pt x="0" y="18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273120" y="2949480"/>
              <a:ext cx="61920" cy="59760"/>
            </a:xfrm>
            <a:custGeom>
              <a:avLst/>
              <a:gdLst/>
              <a:ahLst/>
              <a:rect l="l" t="t" r="r" b="b"/>
              <a:pathLst>
                <a:path w="36" h="36">
                  <a:moveTo>
                    <a:pt x="18" y="0"/>
                  </a:moveTo>
                  <a:lnTo>
                    <a:pt x="36" y="18"/>
                  </a:lnTo>
                  <a:lnTo>
                    <a:pt x="18" y="36"/>
                  </a:lnTo>
                  <a:lnTo>
                    <a:pt x="0" y="18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638160" y="2939760"/>
              <a:ext cx="60480" cy="60120"/>
            </a:xfrm>
            <a:custGeom>
              <a:avLst/>
              <a:gdLst/>
              <a:ahLst/>
              <a:rect l="l" t="t" r="r" b="b"/>
              <a:pathLst>
                <a:path w="36" h="36">
                  <a:moveTo>
                    <a:pt x="18" y="0"/>
                  </a:moveTo>
                  <a:lnTo>
                    <a:pt x="36" y="18"/>
                  </a:lnTo>
                  <a:lnTo>
                    <a:pt x="18" y="36"/>
                  </a:lnTo>
                  <a:lnTo>
                    <a:pt x="0" y="18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001760" y="2928600"/>
              <a:ext cx="60480" cy="60120"/>
            </a:xfrm>
            <a:custGeom>
              <a:avLst/>
              <a:gdLst/>
              <a:ahLst/>
              <a:rect l="l" t="t" r="r" b="b"/>
              <a:pathLst>
                <a:path w="36" h="36">
                  <a:moveTo>
                    <a:pt x="18" y="0"/>
                  </a:moveTo>
                  <a:lnTo>
                    <a:pt x="36" y="18"/>
                  </a:lnTo>
                  <a:lnTo>
                    <a:pt x="18" y="36"/>
                  </a:lnTo>
                  <a:lnTo>
                    <a:pt x="0" y="18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363920" y="2928600"/>
              <a:ext cx="61920" cy="60120"/>
            </a:xfrm>
            <a:custGeom>
              <a:avLst/>
              <a:gdLst/>
              <a:ahLst/>
              <a:rect l="l" t="t" r="r" b="b"/>
              <a:pathLst>
                <a:path w="36" h="36">
                  <a:moveTo>
                    <a:pt x="18" y="0"/>
                  </a:moveTo>
                  <a:lnTo>
                    <a:pt x="36" y="18"/>
                  </a:lnTo>
                  <a:lnTo>
                    <a:pt x="18" y="36"/>
                  </a:lnTo>
                  <a:lnTo>
                    <a:pt x="0" y="18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106280" y="2919240"/>
              <a:ext cx="49320" cy="50400"/>
            </a:xfrm>
            <a:prstGeom prst="rect">
              <a:avLst/>
            </a:prstGeom>
            <a:solidFill>
              <a:srgbClr val="ff00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468080" y="2919240"/>
              <a:ext cx="50760" cy="50400"/>
            </a:xfrm>
            <a:prstGeom prst="rect">
              <a:avLst/>
            </a:prstGeom>
            <a:solidFill>
              <a:srgbClr val="ff00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831680" y="2919240"/>
              <a:ext cx="50760" cy="50400"/>
            </a:xfrm>
            <a:prstGeom prst="rect">
              <a:avLst/>
            </a:prstGeom>
            <a:solidFill>
              <a:srgbClr val="ff00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195280" y="2919240"/>
              <a:ext cx="49320" cy="50400"/>
            </a:xfrm>
            <a:prstGeom prst="rect">
              <a:avLst/>
            </a:prstGeom>
            <a:solidFill>
              <a:srgbClr val="ff00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557080" y="2919240"/>
              <a:ext cx="51120" cy="50400"/>
            </a:xfrm>
            <a:prstGeom prst="rect">
              <a:avLst/>
            </a:prstGeom>
            <a:solidFill>
              <a:srgbClr val="ff00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911320" y="2919240"/>
              <a:ext cx="48960" cy="50400"/>
            </a:xfrm>
            <a:prstGeom prst="rect">
              <a:avLst/>
            </a:prstGeom>
            <a:solidFill>
              <a:srgbClr val="ff00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273120" y="2919240"/>
              <a:ext cx="50760" cy="50400"/>
            </a:xfrm>
            <a:prstGeom prst="rect">
              <a:avLst/>
            </a:prstGeom>
            <a:solidFill>
              <a:srgbClr val="ff00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638160" y="2919240"/>
              <a:ext cx="51120" cy="50400"/>
            </a:xfrm>
            <a:prstGeom prst="rect">
              <a:avLst/>
            </a:prstGeom>
            <a:solidFill>
              <a:srgbClr val="ff00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001760" y="2919240"/>
              <a:ext cx="50760" cy="50400"/>
            </a:xfrm>
            <a:prstGeom prst="rect">
              <a:avLst/>
            </a:prstGeom>
            <a:solidFill>
              <a:srgbClr val="ff00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363920" y="2919240"/>
              <a:ext cx="50760" cy="50400"/>
            </a:xfrm>
            <a:prstGeom prst="rect">
              <a:avLst/>
            </a:prstGeom>
            <a:solidFill>
              <a:srgbClr val="ff00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885240" y="5179680"/>
              <a:ext cx="183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1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950400" y="4946400"/>
              <a:ext cx="113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9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950400" y="4714560"/>
              <a:ext cx="113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950400" y="4482720"/>
              <a:ext cx="113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950400" y="4251240"/>
              <a:ext cx="113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950400" y="4019400"/>
              <a:ext cx="113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950400" y="3796920"/>
              <a:ext cx="113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950400" y="3565440"/>
              <a:ext cx="113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950400" y="3330360"/>
              <a:ext cx="113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950400" y="3100320"/>
              <a:ext cx="113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993240" y="28684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136160" y="26668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497960" y="26668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861560" y="26668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225160" y="26668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586960" y="26668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941200" y="26668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303000" y="26668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668040" y="26668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031640" y="26668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353840" y="266688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438640" y="2514600"/>
              <a:ext cx="843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"p" paramet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rot="16200000">
              <a:off x="269280" y="3996360"/>
              <a:ext cx="8326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Output Pow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rot="16200000">
              <a:off x="729360" y="3987360"/>
              <a:ext cx="255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(dB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895480" y="3581280"/>
              <a:ext cx="1600200" cy="9140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9" name=""/>
            <p:cNvGrpSpPr/>
            <p:nvPr/>
          </p:nvGrpSpPr>
          <p:grpSpPr>
            <a:xfrm>
              <a:off x="2981160" y="3657240"/>
              <a:ext cx="1465920" cy="672480"/>
              <a:chOff x="2981160" y="3657240"/>
              <a:chExt cx="1465920" cy="672480"/>
            </a:xfrm>
          </p:grpSpPr>
          <p:sp>
            <p:nvSpPr>
              <p:cNvPr id="160" name=""/>
              <p:cNvSpPr/>
              <p:nvPr/>
            </p:nvSpPr>
            <p:spPr>
              <a:xfrm>
                <a:off x="2981160" y="3790440"/>
                <a:ext cx="257400" cy="1080"/>
              </a:xfrm>
              <a:prstGeom prst="line">
                <a:avLst/>
              </a:prstGeom>
              <a:ln w="93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3046320" y="3761640"/>
                <a:ext cx="57240" cy="5688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18" y="0"/>
                    </a:moveTo>
                    <a:lnTo>
                      <a:pt x="36" y="18"/>
                    </a:lnTo>
                    <a:lnTo>
                      <a:pt x="18" y="36"/>
                    </a:lnTo>
                    <a:lnTo>
                      <a:pt x="0" y="18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3314160" y="3657240"/>
                <a:ext cx="1132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Output Power at 1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3320280" y="3818880"/>
                <a:ext cx="1035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dB Compression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3311640" y="3980880"/>
                <a:ext cx="319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2981160" y="4295160"/>
                <a:ext cx="257400" cy="108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3076560" y="4266720"/>
                <a:ext cx="47520" cy="4716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3321000" y="4161960"/>
                <a:ext cx="9975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Saturation Point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8" name=""/>
          <p:cNvSpPr/>
          <p:nvPr/>
        </p:nvSpPr>
        <p:spPr>
          <a:xfrm>
            <a:off x="5112360" y="3565440"/>
            <a:ext cx="3557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ere is 1 dB Compression Point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=2:    2 dB from Full Sat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=3:   1 dB from Full Sat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5DA6C-20DC-4969-9600-55C6D50B82E9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PA Back-off for 802.11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838080" y="2435400"/>
            <a:ext cx="4038840" cy="302868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600200" y="1933560"/>
            <a:ext cx="259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02.11 DSSS Bark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873600" y="5881680"/>
            <a:ext cx="16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02.11b ma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H="1" flipV="1">
            <a:off x="4038120" y="4016520"/>
            <a:ext cx="30492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163120" y="4191120"/>
            <a:ext cx="19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:  Rapp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 =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183280" y="2362320"/>
            <a:ext cx="2885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Must Back-off PA 3.7 dB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from full saturation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meet spectral mask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9AA9E-9A4C-4BD4-B829-AD1045948F98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1371600" y="1676520"/>
            <a:ext cx="6087960" cy="456552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SD for PA Input with BPSK Subcarri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466760" y="2133720"/>
            <a:ext cx="1284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quival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02.11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6095880" y="2362320"/>
            <a:ext cx="2742480" cy="1065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5105520" y="42670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682520" y="4729320"/>
            <a:ext cx="79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1 MH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4530B-7DDE-4FD1-9671-97B0E708A135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1371600" y="1671480"/>
            <a:ext cx="6087960" cy="456588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SD for PA Output with BPSK Subcarri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5560200" y="3124080"/>
            <a:ext cx="3256200" cy="3278880"/>
            <a:chOff x="5560200" y="3124080"/>
            <a:chExt cx="3256200" cy="3278880"/>
          </a:xfrm>
        </p:grpSpPr>
        <p:sp>
          <p:nvSpPr>
            <p:cNvPr id="185" name=""/>
            <p:cNvSpPr/>
            <p:nvPr/>
          </p:nvSpPr>
          <p:spPr>
            <a:xfrm flipH="1" flipV="1">
              <a:off x="6857640" y="4190760"/>
              <a:ext cx="60948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60200" y="6095880"/>
              <a:ext cx="135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ackoff=16.0d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65680" y="3124080"/>
              <a:ext cx="126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ackoff=3.7d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465680" y="4114800"/>
              <a:ext cx="126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ackoff=4.7d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5943600" y="5105520"/>
              <a:ext cx="15228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flipH="1">
              <a:off x="6324120" y="3276720"/>
              <a:ext cx="11430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465680" y="4648320"/>
              <a:ext cx="126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ackoff=8.2d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 flipV="1">
              <a:off x="6857640" y="4647960"/>
              <a:ext cx="6858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465320" y="5029200"/>
              <a:ext cx="135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ackoff=12.0d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flipV="1">
              <a:off x="6019560" y="4495320"/>
              <a:ext cx="152388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5792400" y="2362320"/>
            <a:ext cx="84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 =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521480" y="1955880"/>
            <a:ext cx="996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Backoff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from Fu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atu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0E05B-89D3-40D6-A68B-ADEF9CA4179F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SD for PA Output with BPSK Subcarri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1370160" y="1671480"/>
            <a:ext cx="6087960" cy="4565880"/>
          </a:xfrm>
          <a:prstGeom prst="rect">
            <a:avLst/>
          </a:prstGeom>
          <a:ln w="0">
            <a:noFill/>
          </a:ln>
        </p:spPr>
      </p:pic>
      <p:grpSp>
        <p:nvGrpSpPr>
          <p:cNvPr id="199" name=""/>
          <p:cNvGrpSpPr/>
          <p:nvPr/>
        </p:nvGrpSpPr>
        <p:grpSpPr>
          <a:xfrm>
            <a:off x="5560200" y="3124080"/>
            <a:ext cx="3256200" cy="3278880"/>
            <a:chOff x="5560200" y="3124080"/>
            <a:chExt cx="3256200" cy="3278880"/>
          </a:xfrm>
        </p:grpSpPr>
        <p:sp>
          <p:nvSpPr>
            <p:cNvPr id="200" name=""/>
            <p:cNvSpPr/>
            <p:nvPr/>
          </p:nvSpPr>
          <p:spPr>
            <a:xfrm flipH="1" flipV="1">
              <a:off x="6857640" y="4114440"/>
              <a:ext cx="6094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60200" y="6095880"/>
              <a:ext cx="135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ackoff=16.0d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465680" y="3124080"/>
              <a:ext cx="126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ackoff=3.4d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465680" y="4114800"/>
              <a:ext cx="126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ackoff=4.6d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5943600" y="548640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6705720" y="3276720"/>
              <a:ext cx="76176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465680" y="4648320"/>
              <a:ext cx="126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ackoff=8.1d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 flipH="1" flipV="1">
              <a:off x="6629400" y="4571640"/>
              <a:ext cx="9144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465320" y="5029200"/>
              <a:ext cx="135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ackoff=12.0d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 flipV="1">
              <a:off x="5943240" y="4647960"/>
              <a:ext cx="160020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5782680" y="2362320"/>
            <a:ext cx="84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 =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521480" y="1955880"/>
            <a:ext cx="996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Backoff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from Fu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atu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48743-07D6-4382-BF8F-257FCF35884C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30T21:38:26Z</dcterms:created>
  <dc:creator>Paul Chiuchiolo and Mark Webster</dc:creator>
  <dc:description/>
  <dc:language>en-US</dc:language>
  <cp:lastModifiedBy>Harry Worstell</cp:lastModifiedBy>
  <cp:lastPrinted>2000-05-04T15:07:54Z</cp:lastPrinted>
  <dcterms:modified xsi:type="dcterms:W3CDTF">2000-11-06T22:13:26Z</dcterms:modified>
  <cp:revision>21</cp:revision>
  <dc:subject/>
  <dc:title>Power Amp Effects for HRb OFDM</dc:title>
</cp:coreProperties>
</file>