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ABEB-3B0A-4B36-8E88-C853E5C2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75B1-AD93-4E6A-9F16-52F34394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141B-1722-4A2B-9C76-B6F1FE530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8974-553F-499F-AC0D-24299BE80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B3E9-BA27-4A46-B671-FAD69392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CE02-DAB4-4FFB-8F0F-144E9059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F8B0-0DAB-418B-AF8F-F6838AC3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5F49-053C-4AEF-8628-DAC0D474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5E04-D854-4662-BFC5-5EB10E8E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4B86-8A45-4C4A-87A5-FC0283A4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88BA-D8C1-40CF-AE08-DC33710B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AEBF-B58F-4F11-86C5-B44EFBC8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90720"/>
            <a:ext cx="11905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ul Chiuchiolo and Mark Webster, Inter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8244746-CB06-4155-9C02-830799DE4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9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hannelization for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HRb OFD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 Web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sil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D6E4-17CA-4118-BCCA-2CD9DD3515A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KEY CONCEPT:  OFDM Spectrum is Data-Rate 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37960" y="2293920"/>
            <a:ext cx="5172120" cy="38782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412240" y="1866960"/>
            <a:ext cx="29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pproximate 0.5 d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mplementation Lo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for 1000 byte 10% PER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WGN vs. PA Back-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72320" y="3297240"/>
            <a:ext cx="221544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 Rate       PA 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6 Mbps     3.7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.2             3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.4             4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9.4             8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361944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10280" y="331488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2240" y="5143680"/>
            <a:ext cx="305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ence, adjacent 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nterference level is OF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ata-rate depen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25A2-3919-4420-B91D-3A8F3F50200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802.11b Spectrum vs. HRb OFDM Spectrum at 3.7 dB PA Back-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57200" y="222876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48320" y="222876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99240" y="175248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802.11 DSSS Bar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5040" y="175248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HRb OF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4520" y="28414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2.11b m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3222720"/>
            <a:ext cx="914400" cy="12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657240" y="3222720"/>
            <a:ext cx="304920" cy="58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8280" y="5334120"/>
            <a:ext cx="678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QUESTION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How does the adjacent channel interference compa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6483-659B-4863-BD3C-61B229DE957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Simulation Description:  Tx Baseband Processor to Rx Baseband 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911320" y="3352680"/>
            <a:ext cx="3962520" cy="297180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1905120" y="1905120"/>
            <a:ext cx="5562360" cy="990360"/>
            <a:chOff x="1905120" y="1905120"/>
            <a:chExt cx="5562360" cy="990360"/>
          </a:xfrm>
        </p:grpSpPr>
        <p:sp>
          <p:nvSpPr>
            <p:cNvPr id="118" name=""/>
            <p:cNvSpPr/>
            <p:nvPr/>
          </p:nvSpPr>
          <p:spPr>
            <a:xfrm>
              <a:off x="1905120" y="1905120"/>
              <a:ext cx="2590560" cy="9903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33720" y="2057400"/>
              <a:ext cx="6094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35880" y="2133720"/>
              <a:ext cx="55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B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95480" y="2057400"/>
              <a:ext cx="60984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98000" y="220968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57600" y="2057400"/>
              <a:ext cx="6094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35720" y="220968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43200" y="24382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05320" y="24382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38680" y="1905120"/>
              <a:ext cx="1828800" cy="9903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67280" y="2057400"/>
              <a:ext cx="60984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869800" y="220968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29400" y="2057400"/>
              <a:ext cx="6094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07880" y="2133720"/>
              <a:ext cx="55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B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67080" y="24382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77120" y="24382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48320" y="2057400"/>
              <a:ext cx="7617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614840" y="2057400"/>
              <a:ext cx="794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R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 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525320" y="4114800"/>
            <a:ext cx="968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yp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a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486040" y="2819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2819520"/>
            <a:ext cx="9144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F77C-6220-4CF2-8B82-D6950053FE5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802.11 TX Signal Characterization: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Using DSSS Barker with 3.7 dB 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48320" y="348624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85800" y="3467160"/>
            <a:ext cx="3886200" cy="291456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1905120" y="2171880"/>
            <a:ext cx="5562360" cy="990360"/>
            <a:chOff x="1905120" y="2171880"/>
            <a:chExt cx="5562360" cy="990360"/>
          </a:xfrm>
        </p:grpSpPr>
        <p:sp>
          <p:nvSpPr>
            <p:cNvPr id="143" name=""/>
            <p:cNvSpPr/>
            <p:nvPr/>
          </p:nvSpPr>
          <p:spPr>
            <a:xfrm>
              <a:off x="1905120" y="2171880"/>
              <a:ext cx="2590560" cy="9903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33720" y="2324160"/>
              <a:ext cx="6094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35880" y="2400480"/>
              <a:ext cx="55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B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95480" y="2324160"/>
              <a:ext cx="60984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98000" y="247644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57600" y="2324160"/>
              <a:ext cx="6094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35720" y="2476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743200" y="27050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05320" y="27050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38680" y="2171880"/>
              <a:ext cx="1828800" cy="9903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67280" y="2324160"/>
              <a:ext cx="60984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69800" y="247644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29400" y="2324160"/>
              <a:ext cx="6094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7880" y="2400480"/>
              <a:ext cx="55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B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267080" y="27050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477120" y="27050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48320" y="2324160"/>
              <a:ext cx="7617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14840" y="2324160"/>
              <a:ext cx="794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R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 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581280" y="293364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19720" y="285768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0880" y="167652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S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574F-95BB-4E7D-AF13-29E01404FBE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802.11 Adjacent Channel Rejection: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Measured with 3.7 dB 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09480" y="3162240"/>
            <a:ext cx="3733920" cy="28004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648320" y="31622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059200" y="5943600"/>
            <a:ext cx="49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34.3 dB Adjacent Channel Re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295280" y="1790640"/>
            <a:ext cx="5562360" cy="990360"/>
            <a:chOff x="1295280" y="1790640"/>
            <a:chExt cx="5562360" cy="990360"/>
          </a:xfrm>
        </p:grpSpPr>
        <p:sp>
          <p:nvSpPr>
            <p:cNvPr id="169" name=""/>
            <p:cNvSpPr/>
            <p:nvPr/>
          </p:nvSpPr>
          <p:spPr>
            <a:xfrm>
              <a:off x="1295280" y="1790640"/>
              <a:ext cx="2590560" cy="9903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23880" y="1942920"/>
              <a:ext cx="6094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26040" y="2019240"/>
              <a:ext cx="55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B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85640" y="1942920"/>
              <a:ext cx="60984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88160" y="209520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7760" y="1942920"/>
              <a:ext cx="6094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25880" y="20952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33360" y="23238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95480" y="23238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28840" y="1790640"/>
              <a:ext cx="1828800" cy="9903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57440" y="1942920"/>
              <a:ext cx="60984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59960" y="209520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19560" y="1942920"/>
              <a:ext cx="6094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98040" y="2019240"/>
              <a:ext cx="55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B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57240" y="23238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67280" y="23238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8480" y="1942920"/>
              <a:ext cx="7617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05000" y="1942920"/>
              <a:ext cx="794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R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 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 flipH="1">
            <a:off x="4114800" y="2629080"/>
            <a:ext cx="8380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867280" y="2705040"/>
            <a:ext cx="76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50880" y="129528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S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52EF-85E6-4E00-A3EE-A57D3E0760E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802.11 HRb TX Signal Characterization: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Using OFDM with 3.7 dB 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648320" y="340992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33520" y="3409920"/>
            <a:ext cx="3886200" cy="2914560"/>
          </a:xfrm>
          <a:prstGeom prst="rect">
            <a:avLst/>
          </a:prstGeom>
          <a:ln w="0">
            <a:noFill/>
          </a:ln>
        </p:spPr>
      </p:pic>
      <p:grpSp>
        <p:nvGrpSpPr>
          <p:cNvPr id="193" name=""/>
          <p:cNvGrpSpPr/>
          <p:nvPr/>
        </p:nvGrpSpPr>
        <p:grpSpPr>
          <a:xfrm>
            <a:off x="1905120" y="2133720"/>
            <a:ext cx="5562360" cy="990360"/>
            <a:chOff x="1905120" y="2133720"/>
            <a:chExt cx="5562360" cy="990360"/>
          </a:xfrm>
        </p:grpSpPr>
        <p:sp>
          <p:nvSpPr>
            <p:cNvPr id="194" name=""/>
            <p:cNvSpPr/>
            <p:nvPr/>
          </p:nvSpPr>
          <p:spPr>
            <a:xfrm>
              <a:off x="1905120" y="2133720"/>
              <a:ext cx="2590560" cy="9903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133720" y="2286000"/>
              <a:ext cx="6094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35880" y="2362320"/>
              <a:ext cx="55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B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895480" y="2286000"/>
              <a:ext cx="60984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8000" y="243828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657600" y="2286000"/>
              <a:ext cx="6094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35720" y="243828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4320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053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638680" y="2133720"/>
              <a:ext cx="1828800" cy="9903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867280" y="2286000"/>
              <a:ext cx="60984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869800" y="243828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629400" y="2286000"/>
              <a:ext cx="6094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7880" y="2362320"/>
              <a:ext cx="55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B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67080" y="26668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771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48320" y="2286000"/>
              <a:ext cx="7617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14840" y="2286000"/>
              <a:ext cx="794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R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 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3581280" y="2895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19720" y="28195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0880" y="167652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S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96EC-A0AA-492A-8BEC-617F2CB5F3C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802.11 Adjacent Channel Rejection: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Empirically Measured with 3.7 dB 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914400" y="304812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648320" y="3067200"/>
            <a:ext cx="3581280" cy="2685960"/>
          </a:xfrm>
          <a:prstGeom prst="rect">
            <a:avLst/>
          </a:prstGeom>
          <a:ln w="0">
            <a:noFill/>
          </a:ln>
        </p:spPr>
      </p:pic>
      <p:grpSp>
        <p:nvGrpSpPr>
          <p:cNvPr id="218" name=""/>
          <p:cNvGrpSpPr/>
          <p:nvPr/>
        </p:nvGrpSpPr>
        <p:grpSpPr>
          <a:xfrm>
            <a:off x="1676520" y="1828800"/>
            <a:ext cx="5562360" cy="990360"/>
            <a:chOff x="1676520" y="1828800"/>
            <a:chExt cx="5562360" cy="990360"/>
          </a:xfrm>
        </p:grpSpPr>
        <p:sp>
          <p:nvSpPr>
            <p:cNvPr id="219" name=""/>
            <p:cNvSpPr/>
            <p:nvPr/>
          </p:nvSpPr>
          <p:spPr>
            <a:xfrm>
              <a:off x="1676520" y="1828800"/>
              <a:ext cx="2590560" cy="9903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05120" y="1981080"/>
              <a:ext cx="6094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07280" y="2057400"/>
              <a:ext cx="55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B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666880" y="1981080"/>
              <a:ext cx="60984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69400" y="213336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29000" y="1981080"/>
              <a:ext cx="6094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07120" y="213336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14600" y="23619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76720" y="23619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10080" y="1828800"/>
              <a:ext cx="1828800" cy="99036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638680" y="1981080"/>
              <a:ext cx="60984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641200" y="213336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400800" y="1981080"/>
              <a:ext cx="6094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79280" y="2057400"/>
              <a:ext cx="555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B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038480" y="23619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248520" y="23619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19720" y="1981080"/>
              <a:ext cx="7617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86240" y="1981080"/>
              <a:ext cx="794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RE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HI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 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 flipH="1">
            <a:off x="4495320" y="2666880"/>
            <a:ext cx="838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6248160" y="2743200"/>
            <a:ext cx="759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20760" y="579132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6.1 dB Adjacent Channel Rejection:  Worst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6360" y="1676520"/>
            <a:ext cx="109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S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75CF-7CB9-4C11-9CED-CD1865CE8E9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HRb OFDM Adjacent Channel Performance vs. 802.11b Signal’s Adj. Channel Per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5400" y="2216160"/>
            <a:ext cx="2544480" cy="179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 BO        Adj Chan Re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7  dB        26.1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7               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4               33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2               38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.1             43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                46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3352680" y="168264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4038480" y="4121280"/>
            <a:ext cx="4114800" cy="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343400" y="595008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00600" y="595008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343400" y="1987560"/>
            <a:ext cx="0" cy="320040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5880" y="595008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34120" y="5950080"/>
            <a:ext cx="228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11840" y="6064200"/>
            <a:ext cx="584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ical Operational Zone:      13.2   26.4  39.3       59.4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221616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520" y="25210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45760" y="4197240"/>
            <a:ext cx="118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j. Ch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345560" y="206388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2.11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 B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6324480" y="3663360"/>
            <a:ext cx="76176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810240" y="2215440"/>
            <a:ext cx="106632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360" y="4449600"/>
            <a:ext cx="2364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Can trade range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adjacent 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rejection perform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41F1-48AD-4D92-B2A0-C5F6ABD76A1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 Black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equivalent data rates to 802.11b with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a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 backoff, HRb OFDM creates 8 dB worse adjacent channel interfe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higher data rates, HRb OFDM creates no-worse adjacent channel interference than 802.11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2.11 HRb adjacent channel interference performance is better than 802.11a’s and HIPERLAN 2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DM is a viable candidate for H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5C4B-99BD-4B70-8FFA-BE8CB16E4FB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Arial Black"/>
              </a:rPr>
              <a:t>HRb OFDM Channe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USA, the channel spacing typically used is 25 MH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, the 2.4 GHz ISM band accommodates 3 chann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 DSSS and 802.11b have the same transmit spectral ma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SIL recommends the equivalent 802.11a mask for use with HRb OFDM with 25 MHz channel spac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FDM mask is less string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impact on (existing) 802.11b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question is analyzed by this submi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CF88-AB7F-4375-A063-26F023D3640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Arial Black"/>
              </a:rPr>
              <a:t>Recommended HRb OFDM</a:t>
            </a:r>
            <a:br>
              <a:rPr sz="2400"/>
            </a:br>
            <a:r>
              <a:rPr b="0" i="1" lang="en-US" sz="2400" spc="-1" strike="noStrike">
                <a:solidFill>
                  <a:srgbClr val="3333cc"/>
                </a:solidFill>
                <a:latin typeface="Arial Black"/>
              </a:rPr>
              <a:t>2.4 GHz ISM Band Channel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2324160" y="2400120"/>
            <a:ext cx="914400" cy="990720"/>
          </a:xfrm>
          <a:prstGeom prst="flowChartDe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3695760" y="2400120"/>
            <a:ext cx="914400" cy="990720"/>
          </a:xfrm>
          <a:prstGeom prst="flowChartDe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335268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067360" y="2400120"/>
            <a:ext cx="914400" cy="990720"/>
          </a:xfrm>
          <a:prstGeom prst="flowChartDelay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86400" y="3276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3701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3701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34080" y="385452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 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45200" y="3854520"/>
            <a:ext cx="88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 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6120" y="3352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38800" y="4905360"/>
            <a:ext cx="304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ame as 802.11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52BA-D60F-4CF2-96ED-F5A438905EC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 Black"/>
              </a:rPr>
              <a:t>Co-Channel Inter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roughly the same as 802.11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et-error-rate behavior is characterized using SNR curves for AWGN channel, where SNR becomes S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the AWGN SNR curves.  Not repeated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83EA-0908-4CB8-8DDB-3903B977A0E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 Black"/>
              </a:rPr>
              <a:t>802.11b Spectral Mask </a:t>
            </a:r>
            <a:br>
              <a:rPr sz="2800"/>
            </a:br>
            <a:r>
              <a:rPr b="0" i="1" lang="en-US" sz="2800" spc="-1" strike="noStrike">
                <a:solidFill>
                  <a:srgbClr val="3333cc"/>
                </a:solidFill>
                <a:latin typeface="Arial Black"/>
              </a:rPr>
              <a:t>and PA Back-o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52480" y="268596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14600" y="2184480"/>
            <a:ext cx="259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2.11 DSSS Bar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45200" y="2590920"/>
            <a:ext cx="10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802.11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m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93720" y="3022560"/>
            <a:ext cx="8384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55400" y="4390920"/>
            <a:ext cx="19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:  Rapp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75560" y="2562120"/>
            <a:ext cx="288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ust Back-off PA 3.7 d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from full saturation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meet spectral mas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B197-C4D3-4C14-B565-76E6147E6EC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405080" y="1752480"/>
            <a:ext cx="6087960" cy="45658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Recommended HRb OFDM Mask: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Overbounds Worst-Case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585400" y="3200400"/>
            <a:ext cx="3256200" cy="3278880"/>
            <a:chOff x="5585400" y="3200400"/>
            <a:chExt cx="3256200" cy="3278880"/>
          </a:xfrm>
        </p:grpSpPr>
        <p:sp>
          <p:nvSpPr>
            <p:cNvPr id="75" name=""/>
            <p:cNvSpPr/>
            <p:nvPr/>
          </p:nvSpPr>
          <p:spPr>
            <a:xfrm flipH="1" flipV="1">
              <a:off x="6882840" y="4267080"/>
              <a:ext cx="6094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85400" y="617220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16.0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90880" y="320040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3.7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490880" y="419112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4.7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5968800" y="5181840"/>
              <a:ext cx="1522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6349320" y="3353040"/>
              <a:ext cx="11430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490880" y="472464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8.2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 flipV="1">
              <a:off x="6882840" y="472428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0520" y="5105520"/>
              <a:ext cx="135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ackoff=12.0d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6044760" y="4571640"/>
              <a:ext cx="15238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7198920" y="2076480"/>
            <a:ext cx="126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PA Back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rom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Sat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800" y="2743200"/>
            <a:ext cx="1675440" cy="167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3360" y="2286000"/>
            <a:ext cx="124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quival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802.11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922A-76D5-4945-AE51-31142249A3B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Arial Black"/>
              </a:rPr>
              <a:t>Key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ce the recommended HRb OFDM spectral mask differs from 802.11b’s spectral mask, what is the adjacent-channel-interference impact on existing 802.11b syste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3269-1F65-40DC-8B6C-C8843D9E45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How Does Adjacent Channel Interference Occu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114800" y="1523880"/>
          <a:ext cx="346536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523880"/>
                    <a:ext cx="346536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870480" y="3152880"/>
            <a:ext cx="287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ell layou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3 frequency reu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8565-CAF6-47A9-A4C7-F9180913101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How Does Adjacent Channel Interference Occu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1523880"/>
          <a:ext cx="5155920" cy="40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3880"/>
                    <a:ext cx="515592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5716440" y="1905120"/>
            <a:ext cx="275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INTERFERENCE LEVEL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DEPENDS UP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eparation dista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ransmit po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Transmit spectru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Receive filter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3480" y="5381640"/>
            <a:ext cx="525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STA1 and STA2 are on adjacent channe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STA1 is transmit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1581-D6FF-4B19-8248-84C6E266902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1:38:26Z</dcterms:created>
  <dc:creator>Mark Webster</dc:creator>
  <dc:description/>
  <dc:language>en-US</dc:language>
  <cp:lastModifiedBy>Harry Worstell</cp:lastModifiedBy>
  <cp:lastPrinted>2000-05-04T15:07:54Z</cp:lastPrinted>
  <dcterms:modified xsi:type="dcterms:W3CDTF">2000-11-06T22:13:59Z</dcterms:modified>
  <cp:revision>28</cp:revision>
  <dc:subject/>
  <dc:title>Channelization for HRb OFDM</dc:title>
</cp:coreProperties>
</file>