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DCD-3EFF-4BC1-8E10-1F0F733C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3AF-816A-420A-80CD-23431D7C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693-E31A-4FFA-9DF6-A652669E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D0C-CDEA-46C7-BDB9-05D7505B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33C-9597-4E7B-B86A-47A4E45D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E7C-4E5E-4045-A787-525CC521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C6E-2D8B-4B4D-82EA-BE8DE40E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EBD-3DEA-492B-856A-98F01A6E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3BA-2463-4AA4-8B69-1945B6E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0B2-DCF4-46B6-AC40-A914A953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B0F-E923-4CB1-A4BA-716FC53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B38-4DC3-489E-80A2-25ACE6B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Chiuchiolo and 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3F3071-5B02-442B-95A1-3516F6639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hase Noise Sensitivity of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ul Chiuchiolo and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541-7A0E-4F0E-A96E-CEB322583C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70160" y="1754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for 26.4 Mbp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09000" y="2666880"/>
            <a:ext cx="912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9FC-3079-4B23-9B33-FB7AAA6134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for 59.4 Mbp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0160" y="1754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409000" y="2666880"/>
            <a:ext cx="912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21F-5BAA-473F-8D15-4F2014417E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0% PER Degra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9280" y="2936880"/>
            <a:ext cx="549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e Mbps     1 deg          2 deg         4 d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6                ~ 0 dB        ~ 0 dB       0.1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2              ~ 0                 0.1          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.4              ~ 0                 0.2           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.4                0.2               1.5         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176-B344-49CC-A9F5-B12A469B63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noise performance sh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arrier amp/phase was est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noise tracking techniques not exa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looks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E95-4BC1-46CE-862B-84A102B2CF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-Ideal PA Effects for OFD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 with Phase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kHz 3dB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 2 and 4 degrees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model in document 296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6, 13.2, 26.4 and 59.4 Mbps 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byte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carrier Amp/Phz Estimated over Packe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on-id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ing loop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4CA-235B-440A-9B6B-69705C8DC4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sis of Phase Nois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09240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nd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760" y="309240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6040" y="32558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0440" y="309240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397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3397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520" y="41752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st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5720" y="417528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3387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175280"/>
            <a:ext cx="1006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479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4798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6800" y="160020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8200" y="1371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1000" y="16765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5480" y="1725480"/>
            <a:ext cx="98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Bc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3280" y="12193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257800" y="1599840"/>
            <a:ext cx="571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9104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91040" y="1371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1337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5520" y="1600200"/>
            <a:ext cx="78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1400" y="11430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7696080" y="35654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96160" y="333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96160" y="33368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03600" y="40068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6200" y="37339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91280" y="30034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760" y="32418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880" y="4191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44280" y="28954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55000" y="10666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0716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791320" y="53784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91040" y="5149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91040" y="5149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46200" y="563868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5520" y="5181480"/>
            <a:ext cx="7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s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6160" y="48164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5394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9160" y="47084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5013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71880" y="5226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1880" y="5226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360" y="52578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66640" y="48927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09680" y="5470560"/>
            <a:ext cx="76212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2590920"/>
            <a:ext cx="60948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35000">
            <a:off x="4648320" y="2590920"/>
            <a:ext cx="60948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9528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461000">
            <a:off x="4267080" y="495252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C1D-4805-4B6C-9C7B-47E63058F3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quivalent Noise BW of 1-pole Butterworth Filter used for phase noi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219320" y="22856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28600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371600" y="2285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28600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23880" y="2285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28600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143000" y="236196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37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828800" y="2819520"/>
            <a:ext cx="30384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819520"/>
            <a:ext cx="30456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0760" y="1943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3040" y="2635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666880" y="2057400"/>
          <a:ext cx="1371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1371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666880" y="2990880"/>
          <a:ext cx="36576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990880"/>
                    <a:ext cx="3657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666880" y="3720960"/>
          <a:ext cx="3505320" cy="9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720960"/>
                    <a:ext cx="35053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43000" y="5122800"/>
          <a:ext cx="6553080" cy="104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5122800"/>
                    <a:ext cx="65530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90720" y="4800600"/>
            <a:ext cx="7391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1B7-D63C-495E-B089-E91E106D03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pute RMS Phase Noise as Function of Flat SSB Power P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ssb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666880" y="295596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66960" y="2727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6960" y="2727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74400" y="33973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800" y="318456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62080" y="23940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15080" y="228600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8480" y="284328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43400" y="2666880"/>
          <a:ext cx="20448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666880"/>
                    <a:ext cx="2044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343400" y="3429000"/>
          <a:ext cx="2286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2286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438280" y="4495680"/>
          <a:ext cx="472464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495680"/>
                    <a:ext cx="472464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99960" y="11160"/>
          <a:ext cx="11268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960" y="1116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62520" y="5715000"/>
          <a:ext cx="152388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5715000"/>
                    <a:ext cx="15238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EF2-4A3C-44A4-B1C6-9989994BA5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se Noise Utility: BW = 10 KHz and RMS PN = 1 deg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7520" y="5624640"/>
            <a:ext cx="623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RMS phz error (degrees): 1.805916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imated RMS phz error (deg) using 100000 samples: 1.732820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20955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831-D80E-4423-A660-3D61C33B2D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se Noise with 64 QAM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10 KHz loop bandwid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44240" y="19051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degree 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1520" y="19051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degrees 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5560" y="56768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.6 dB S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42480" y="56768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.5 dB S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552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8BC-4A9D-4BA6-9569-EA877A051B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for 6.6 Mbp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0160" y="1754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09000" y="2666880"/>
            <a:ext cx="912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957-5431-44F8-A552-B59D69329C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0160" y="1754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for 13.2 Mbp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09000" y="2666880"/>
            <a:ext cx="912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E5E-B142-4A1B-82CF-CAEEFE44B5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3:56:22Z</dcterms:created>
  <dc:creator>Paul Chiuchiolo and Mark Webster</dc:creator>
  <dc:description/>
  <dc:language>en-US</dc:language>
  <cp:lastModifiedBy>Harry Worstell</cp:lastModifiedBy>
  <cp:lastPrinted>2000-05-04T15:07:54Z</cp:lastPrinted>
  <dcterms:modified xsi:type="dcterms:W3CDTF">2000-11-06T22:14:32Z</dcterms:modified>
  <cp:revision>15</cp:revision>
  <dc:subject/>
  <dc:title>Phase Noise Sensitivity of HRb OFDM</dc:title>
</cp:coreProperties>
</file>