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39C7-F487-4DE0-9F6B-F0A902032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2460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82AB-0E65-4556-8B2D-06F647DC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2460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18F1-DF05-48AC-8576-1AB2AEF3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2460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3DA2-1533-4B85-A348-7EA08507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2460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9D34-47B8-40E9-AADB-FC3F9E59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2460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4E01-96A8-40D7-80CE-9416FC5B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2460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FAA7-528E-4CB4-930C-7F2FB866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2460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46E3-3383-42A7-9AB2-AE28FDDA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E89E-2E80-494B-A3CC-A82CE5E3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2460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4659-FE0A-473A-88E7-9619FA07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2460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8246-FADF-4845-9CC9-78F2686C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2460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89CB-266D-4DED-B3C6-5F95616C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90720"/>
            <a:ext cx="11905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29200" y="6474960"/>
            <a:ext cx="35812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Halford, P. Chiuchiolo, G. Dooley, and M. Web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A6AED1A-ED8C-429E-8B40-444DA2264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mplementation and Complexity Issues for OFD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ve Hal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 Chiuchi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enn Doo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 Web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lm Bay, 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1BCE-72EB-4F43-894D-A7AA87FB093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71600" y="685800"/>
            <a:ext cx="60958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5 Time to Market Issu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FDM is well established as a viable waveform for W-LAN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ure techn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n to be practical for ASIC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 technology exists to support at 2.4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andards process can be accelerated by adopting large portions of existing 802.11a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CC issue will drive the time to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A64A-74E9-44BA-8E03-CDAA0A3E9D1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tline of Proposal Presenta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g Regulatory Approval Plan  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 Jim Zy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verview of OFDM for High 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Steve Hal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use of 802.11b Preambles with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ltra-short Preamble with HRb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DM System Performance 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Steve Hal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 Am Effects for HRb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nnelization for HRb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ase Noise Sensitivity for HRb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Jim Zy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lementation and Complexity Issues for OFDM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 Speaker: Steve Hal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OFDM for the High Rate 802.11b Extension?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 Speaker: Jim Zy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08BD-39A4-4EF2-B3D3-078B66C7C50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685800"/>
            <a:ext cx="78022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line of Implementation Present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1 Main Issue for Complexity: Eq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2 Baseband Complex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3 Power Consum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4 RF/IF Complex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5 Time to 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2A52-DBA7-44FB-B1EC-34D190219E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1560" y="2362320"/>
            <a:ext cx="7084800" cy="243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85800"/>
            <a:ext cx="800100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95240"/>
            <a:ext cx="8153280" cy="2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1 Main Issue for Complexity: Equaliz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issue is complexity of Equalizer vs. F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2367000"/>
            <a:ext cx="650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One of the main reasons to use OFDM is its ability to deal with large delay spreads with a reasonable implementation complexity.  In a single-carrier system, the implementation complexity is dominated by equalization, which is necessary when the delay spread is larger than about 10% of the symbol duration.  OFDM does not require an equalizer.  Instead, the complexity of an OFDM system is largely determined by the FFT, which is used to demodulate the various subcarriers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19160" y="5370480"/>
            <a:ext cx="7591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ote from pg. 48 of  R. Van Nee &amp; R. Prasad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FDM for Wireless Multimedia Communication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Artech House Publishers, Boston, MA,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2E76-A6A9-41A4-A773-833D2FAABA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1676520"/>
            <a:ext cx="7467480" cy="167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3809880"/>
            <a:ext cx="6934320" cy="22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685800"/>
            <a:ext cx="73911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1.1 Equalizer and FFT Complex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3200" y="6095880"/>
            <a:ext cx="842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** Based on R. Van Nee &amp; R. Prasad,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OFDM for Wireless Multimedia Communication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, Artech House Publishers, Boston, MA, 200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981080"/>
            <a:ext cx="82296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64 point FFT using radix-4 requires 96 complex multipl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Equalizer then requires 48 complex multipl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ould simplify since all that is really needed is a phase rotation &amp; soft-decision sc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erform once every 80*(1/22 x 10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) = 3.63 x 10 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imes New Roman"/>
              </a:rPr>
              <a:t>-6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seco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Equivalent to  (4 x 144)/(3.63 x 10 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imes New Roman"/>
              </a:rPr>
              <a:t>-6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) = 158.4 x 10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real multiplies per 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4191120"/>
            <a:ext cx="685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Linear Equalizer of length L requires 4*L complex multiplies per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umber of real multiplies = (4*L*11 x 10</a:t>
            </a:r>
            <a:r>
              <a:rPr b="1" lang="en-US" sz="1600" spc="-1" strike="noStrike" baseline="30000">
                <a:solidFill>
                  <a:srgbClr val="008000"/>
                </a:solidFill>
                <a:latin typeface="Times New Roman"/>
              </a:rPr>
              <a:t>6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 ) = L * (44 x 10</a:t>
            </a:r>
            <a:r>
              <a:rPr b="1" lang="en-US" sz="1600" spc="-1" strike="noStrike" baseline="30000">
                <a:solidFill>
                  <a:srgbClr val="008000"/>
                </a:solidFill>
                <a:latin typeface="Times New Roman"/>
              </a:rPr>
              <a:t>6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Length L must be less than (158.4/44) = 3.6 to match complexity of 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Using pulse shaping makes this worse due to matched filter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Doesn’t include the complexity of estimating the equalizer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8000"/>
                </a:solidFill>
                <a:latin typeface="Times New Roman"/>
              </a:rPr>
              <a:t>Matrix inverse proportional to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lternative is a full Viterbi Equalizer with channel matched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3400" y="3809880"/>
            <a:ext cx="49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Times New Roman"/>
              </a:rPr>
              <a:t>Single Carrier Linear Equalizer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55400" y="1676520"/>
            <a:ext cx="334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FFT for OFDM Equ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BE15-A8A9-49B4-960F-7F4D3823602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1447920"/>
            <a:ext cx="8610480" cy="4800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685800"/>
            <a:ext cx="73911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2 Baseband Complexity Summ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830240"/>
          <a:ext cx="8040600" cy="36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30240"/>
                    <a:ext cx="8040600" cy="36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B840-1F94-4228-9DCF-908DDC4C66F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280" y="1752480"/>
            <a:ext cx="8839440" cy="32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  <a:effectLst>
            <a:outerShdw dist="107932" dir="189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685800"/>
            <a:ext cx="708660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2 Relative Complexity Estim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2362320"/>
          <a:ext cx="8229600" cy="282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28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609480" y="5334120"/>
            <a:ext cx="480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TE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Estimates for the Basic CCK Demodulator &amp; Basic CCK Demodulator with Equalizer are based on Intersil Baseband processors 3860B and 38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9680" y="1832040"/>
            <a:ext cx="82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omplexity (gate count) relative to a Basic CCK Demod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7E4C-7D46-4182-9F72-159118DDA5E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90720" y="3809880"/>
            <a:ext cx="7543800" cy="243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685800"/>
            <a:ext cx="70866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3 Power Consumption for OFD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14400" y="2030400"/>
          <a:ext cx="7238880" cy="139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30400"/>
                    <a:ext cx="723888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516040" y="3809880"/>
            <a:ext cx="45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8000"/>
                </a:solidFill>
                <a:uFillTx/>
                <a:latin typeface="Times New Roman"/>
              </a:rPr>
              <a:t>Assumptions &amp; Notes about Power Est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4191120"/>
            <a:ext cx="67816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0.35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 current estimates based on Intersil 3863 baseband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0.18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 current estimates based on 40% reduction from 0.35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 for digital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CK functions can be powered down during OFDM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60% of current during transmit &amp; 30% of current during receive is in ana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will not change for OF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will not change at 0.18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oes not include power for MAC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36200" y="1523880"/>
            <a:ext cx="62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Power Estimates for Baseband Processor with CCK &amp; OF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2974-990B-4F7B-86EC-1FA7E4CD5CC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19320" y="4952880"/>
            <a:ext cx="662940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3336840"/>
            <a:ext cx="73915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685800"/>
            <a:ext cx="70866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4 RF/IF  Design Issues for OFD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DM has different spectrum than C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gher order modulations (e.g., 64-QAM) will require “cleaner” RF front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7800" y="3362400"/>
            <a:ext cx="72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we re-use current 802.11b RF front-en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53320" y="3976560"/>
            <a:ext cx="8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4952880"/>
            <a:ext cx="623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ailed Simulations of Intersil’s Prism II indicate that 26.4 Mbps &amp; 39.6 Mbps operate within 802.11a requirements for both transmitter &amp; receiver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10D7-E7D5-4412-8CD0-341729C06DA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04:14:39Z</dcterms:created>
  <dc:creator>Steve Halford, Paul Chiuchiolo, Glenn Dooley, and Mark Webster</dc:creator>
  <dc:description/>
  <dc:language>en-US</dc:language>
  <cp:lastModifiedBy>Harry Worstell</cp:lastModifiedBy>
  <cp:lastPrinted>2000-05-04T15:07:54Z</cp:lastPrinted>
  <dcterms:modified xsi:type="dcterms:W3CDTF">2000-11-06T22:15:10Z</dcterms:modified>
  <cp:revision>36</cp:revision>
  <dc:subject/>
  <dc:title>396 Implementation and Complexity Issues for OFDM</dc:title>
</cp:coreProperties>
</file>