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C6AF2-5E9C-4D9D-9A8B-AB4DA3F3D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67D8B-F9EC-4788-A4A4-D1905F283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302ED-23FD-4256-8429-D8210BB65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32C29-D042-41F2-ADD1-1ECABF985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40804-BC47-4513-87CA-50EC406CC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A7AA2-CC95-4869-8585-B77272863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19E3A-244F-4FD9-86EC-46674B820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D6432-4798-4967-8724-C6D531A4F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5A01A-DA5A-4D9D-8B0A-F8A7BF6E9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D8165-5149-4A12-BF0F-2E58448E5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E5E62-8B6D-4107-BC4B-2857754B0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14707-6001-4927-94C2-47818E189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11908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hew B. Shoemake, Texas Instrument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1E766E-1353-4581-97F1-BC4042BF1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40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nt Policy Review</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thew B. Shoemake, Ph.D.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1g, Chairpers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emake@ti.com</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9A0CC9A-2C68-4FBE-AE39-1DEF5E148D62}"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m IEEE SA Standards Board Bylaws – October 1999</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Patents</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tandards may include the known use of patent(s), including patent applications, if there is technical justification in the opinion of the standards-developing committee and </a:t>
            </a:r>
            <a:r>
              <a:rPr b="0" lang="en-US" sz="1400" spc="-1" strike="noStrike" u="sng">
                <a:solidFill>
                  <a:srgbClr val="000000"/>
                </a:solidFill>
                <a:uFillTx/>
                <a:latin typeface="Times New Roman"/>
              </a:rPr>
              <a:t>provided the IEEE receives assurance from the patent holder that it will license applicants under reasonable terms and conditions for the purpose of implementing the standard</a:t>
            </a:r>
            <a:r>
              <a:rPr b="0" lang="en-US" sz="1400" spc="-1" strike="noStrike">
                <a:solidFill>
                  <a:srgbClr val="000000"/>
                </a:solidFill>
                <a:latin typeface="Times New Roman"/>
              </a:rPr>
              <a:t>. This assurance shall be provided without coercion and prior to approval of the standard (or reaffirmation when a patent becomes known after initial approval of the standard). This assurance shall be a letter that is in the form of either:</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A general disclaimer to the effect that the patentee will not enforce any of its present or future</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s) whose use would be required to implement the proposed IEEE standard against any</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son or entity using the patent(s) to comply with the standard </a:t>
            </a:r>
            <a:endParaRPr b="0" lang="en-US" sz="1400" spc="-1" strike="noStrike">
              <a:solidFill>
                <a:srgbClr val="000000"/>
              </a:solidFill>
              <a:latin typeface="Times New Roman"/>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A statement that a license will be made available to all applicants without compensation or under</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sonable rates, with reasonable terms and conditions that are demonstrably free of any unfair</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rimination</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1A8EC7A-EAA0-4DC3-8EC9-E71DDD019316}"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685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om IEEE-SA Standards Board Operations Manual – Approved January 2000</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3.2 Submitt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shall request that known patent holders </a:t>
            </a:r>
            <a:r>
              <a:rPr b="0" lang="en-US" sz="2400" spc="-1" strike="noStrike" u="sng">
                <a:solidFill>
                  <a:srgbClr val="000000"/>
                </a:solidFill>
                <a:uFillTx/>
                <a:latin typeface="Times New Roman"/>
              </a:rPr>
              <a:t>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40B3119-39E1-49ED-9329-98AA7C8C4D86}"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Worstell</cp:lastModifiedBy>
  <cp:lastPrinted>1998-02-10T13:28:06Z</cp:lastPrinted>
  <dcterms:modified xsi:type="dcterms:W3CDTF">2000-11-07T18:28:21Z</dcterms:modified>
  <cp:revision>13</cp:revision>
  <dc:subject/>
  <dc:title>No Slide Title</dc:title>
</cp:coreProperties>
</file>