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4E4C-CB32-416A-96CD-D9C20104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E72E-5F01-474B-AC16-E102E936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45BB-F551-4FD5-8B5D-F897391E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2CE-7575-4EC4-9E93-82F3FF62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7B1-C027-44CD-A687-0EA03C12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94CA-72D0-4B03-9BB1-6E29761D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7B4-A599-4158-B4CE-9D45A88D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BD1D-F5F1-429D-A3B0-2EBAFEC1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2D20-0BEF-4275-AB1A-8333B94D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88F-4348-4934-9058-6A876B7D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8186-D3F8-4F29-BB02-0A923E87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CA14-6E6F-49D2-BBE6-ECD5E115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 Petrick, Parker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0401029-CF9E-48D8-A007-E3E023F39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000" y="6446880"/>
            <a:ext cx="642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Upda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Pet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82D-296F-42CF-B162-43F667583EF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orking Group Liais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666880"/>
            <a:ext cx="34290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ce Krae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Mu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Pet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2666880"/>
            <a:ext cx="37335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en Heber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ar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ke McIn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8000" y="1905120"/>
            <a:ext cx="87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rom 802.11 to 802.15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rom 802.15 to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D3E-4EAF-4491-B027-BD1D79415F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king Group Lia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2666880"/>
            <a:ext cx="34290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ftali Chay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Kowal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2666880"/>
            <a:ext cx="37335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8000" y="1905120"/>
            <a:ext cx="87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rom 802.11 to 802.16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rom 802.16 to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9A28-4E61-4413-83C6-B590C74EC0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dustry Lia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2666880"/>
            <a:ext cx="3429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Sk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2666880"/>
            <a:ext cx="373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shi Khun-J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4120" y="1905120"/>
            <a:ext cx="82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rom 802.11 to ETSI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rom ETSI to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49568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m Zy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6560" y="3733920"/>
            <a:ext cx="41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rom 802.11 to WE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2C9-583E-4D81-BD0A-8C263C6DA2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dustry Lia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79520" y="2362320"/>
            <a:ext cx="41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rom 802.11 to P-13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en Z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3DB-F667-43CF-8FBF-B8CE0515C5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es and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port status between WG and liaison WGs and Industry forums at each interim and plenary s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ate status update between lia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464-8DDF-4DA2-864B-7CCC9D045E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Al Petrick</dc:creator>
  <dc:description/>
  <dc:language>en-US</dc:language>
  <cp:lastModifiedBy>Harry Worstell</cp:lastModifiedBy>
  <cp:lastPrinted>1998-02-10T13:28:06Z</cp:lastPrinted>
  <dcterms:modified xsi:type="dcterms:W3CDTF">2000-11-07T18:33:29Z</dcterms:modified>
  <cp:revision>69</cp:revision>
  <dc:subject/>
  <dc:title>04068W-Liaison-list</dc:title>
</cp:coreProperties>
</file>