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F37-FAE9-44AD-BD2D-3A8C9E37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131-07D7-4D1F-89AA-F5C68E14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8EF-B812-4533-9C13-30613872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E9A-FC6F-410D-A269-B3C88B72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1DA-AACD-473C-8D69-C6392A02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9C5-BEFB-4D42-8677-2C964608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835-3D66-48CF-97C9-73EAB7C0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DDC-05C3-45F4-99B5-99E5DE1A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E8B-E0CD-4C33-9D99-CE40FD63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1F3-45A1-4B7C-840F-4726AE2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F51-35F6-456B-8377-2175AA79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9E5-9D2C-4BB6-8482-63F2E41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271027-808E-439E-818B-AD64B64C6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ireless LAN Foreca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3962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36C-8B7F-4B9D-BC5F-C5F5EEDA746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LAN Market Repor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ure Developmen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st &amp; Sulli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hners – In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nke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IEEE 802.11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6D9-6915-4B61-B2FB-6518EF0503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ireless LAN Foreca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216640" cy="33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3E1-0B6B-47EB-84E5-0B094B2869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rvey Model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b 2.4G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endar: 00-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( radio aggregate) T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er - Residential,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 point, NIC, other(embedd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a 5G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endar: 00-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( radio aggregate) T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er - Residential,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 point, NIC, other(embedd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8CE-70FE-494C-8B76-AB8AFA2E42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l Petrick</dc:creator>
  <dc:description/>
  <dc:language>en-US</dc:language>
  <cp:lastModifiedBy>Harry Worstell</cp:lastModifiedBy>
  <cp:lastPrinted>1998-02-10T13:28:06Z</cp:lastPrinted>
  <dcterms:modified xsi:type="dcterms:W3CDTF">2000-11-07T18:37:16Z</dcterms:modified>
  <cp:revision>62</cp:revision>
  <dc:subject/>
  <dc:title>04098Sm-WLAN-Forecast</dc:title>
</cp:coreProperties>
</file>