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863-49F4-45E4-8946-F7BF3BE9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DBEF-3807-4557-9FAB-7087E67F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DE11-A0E4-448C-AC80-20FCE39D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1FB5-AEDC-48CF-AB42-F14BDEF9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8C76-3599-48F9-BFE6-199DE250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0C68-F4DE-498D-8BCE-63C62034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446-6053-44CE-85E6-2DFA20C1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8ACF-3C66-43F8-A79A-452CFC4B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0F80-6B4B-46BF-A25D-92EAF119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0BD9-0A47-4AC0-A668-08845592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3BD6-BDEA-42F4-ADED-301EA22C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D9E-F9C3-42FE-B1E5-881C2756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EA0A9AC-19AC-4F67-B81C-284256143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00/4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etwork Enrollment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ncan Kitchin, In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221-498F-497A-AC36-8F6F0CE57D5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 requires per-node config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 keys,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oo complex for many products and/o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Vs, VCRs, DVD players (no keyboard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s expect these products to work out of the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im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eatest security flaw we could introduce is making the system too difficult to configure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01E9-88FD-42F4-9319-588D358EA0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Solution – What the User S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sees “press a button at either end” enroll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used for garage door openers, cordless phones, cordless mice, keybo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ing a button on the AP makes it temporarily “open for enrollmen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buttons at station, “scan” and “enrol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“illuminates” APs, cycling through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attempts enrollment in last AP illum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1B3-B7D7-4F22-984F-5D241B856F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Pa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ew generic management type &amp; subtype, with action “enrol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action “illumina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action “enroll reques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action “enroll respon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E3FB-3A88-4B1C-AD7C-75BF4568C0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on determines available APs by existing active or passive scanning, and maintains a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ime the “scan” button is pressed, sends an enroll/illuminate packet to the next AP on the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 receiving an enroll/illuminate packet emits an audible or visual ind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A1C4-C670-4107-AB15-822000A19D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rollment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on and AP create a Diffie-Hellman tu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 creates DH value, sends to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never advertises that it is open, but accepts an enrollment request if it is and responds with its own DH value and encrypte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unnel is then used by the AP to send back to the s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entials for future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onfiguration parameters such as S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FB39-F2BC-41DE-A3C1-3A4C0D1203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Form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00/xxx for generic management fram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roll/illum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dditional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roll/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e-Hellm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roll/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e-Hellm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data, plus encrypted-content security credential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58EA-B796-42F1-9CC0-A784E75845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4038480"/>
            <a:ext cx="36576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1981080"/>
            <a:ext cx="0" cy="381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312408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666880" y="4800600"/>
            <a:ext cx="36576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3200400"/>
            <a:ext cx="36576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2133720"/>
            <a:ext cx="36576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6840" y="205740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roll/illu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6840" y="320040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roll/illu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743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74000" y="262728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40320" y="38498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9840" y="373392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339960" y="40784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9480" y="396252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42440" y="4038480"/>
            <a:ext cx="101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roll/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47040" y="4761000"/>
            <a:ext cx="11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roll/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896A-43A3-46CC-BA19-C91B4823601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3T16:08:33Z</dcterms:created>
  <dc:creator>Preferred Customer</dc:creator>
  <dc:description/>
  <dc:language>en-US</dc:language>
  <cp:lastModifiedBy>Preferred Customer</cp:lastModifiedBy>
  <cp:lastPrinted>1998-02-10T13:28:06Z</cp:lastPrinted>
  <dcterms:modified xsi:type="dcterms:W3CDTF">2000-11-07T22:28:05Z</dcterms:modified>
  <cp:revision>8</cp:revision>
  <dc:subject/>
  <dc:title>A Network Enrollment Protocol</dc:title>
</cp:coreProperties>
</file>