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9A6-A09A-4ED4-BEE1-B13A64D0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D1E-5FD5-4518-9F59-072E8086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375-4AD0-477D-AE39-E7413B3C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F7F-FFBC-4214-862F-73D8EC99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315-7A59-478B-AA45-874B8CEB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625-4BB7-47AE-8277-0EC10BB4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453-A3E7-4D0A-895D-AD87644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033-1D55-413B-9550-57F63258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E1D-79DA-4E49-A8EB-820998F4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907-731A-4B78-9A84-A84493B0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94D-4EEF-4690-9EEA-1D055FDB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272-FAF1-432E-9C35-7498658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992BA42-01A7-46AC-81FB-995FAA082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00/4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 for 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can Kitchin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7F3-9C8C-421C-A7AF-408CEE6910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 for 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 can be used to improve MAC transf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bandwidth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ng need for retransmissions could permit multi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F14-731F-4EA8-A24B-B69E65C732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with FEC in the M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the upper layers in an IP/802 model communicate their requirements to the MA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when the correction capacity is exceeded? Entire packets can frequently be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deal with decoding latenc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A43-B9C5-4063-82AB-3F4AC6C785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EC for correction in multicast stream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have MAC layer acknowledgements and multicast; natural place for F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ayers select acknowledgement policy by choice of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e across packets, and per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le packet erasure de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228-836A-46E7-9DCD-E5E388BEE8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5909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5909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25909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5909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590920"/>
            <a:ext cx="762120" cy="304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2590920"/>
            <a:ext cx="762120" cy="304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124080"/>
            <a:ext cx="3505320" cy="152640"/>
          </a:xfrm>
          <a:custGeom>
            <a:avLst/>
            <a:gdLst/>
            <a:ahLst/>
            <a:rect l="l" t="t" r="r" b="b"/>
            <a:pathLst>
              <a:path w="2208" h="96">
                <a:moveTo>
                  <a:pt x="0" y="0"/>
                </a:moveTo>
                <a:lnTo>
                  <a:pt x="0" y="96"/>
                </a:lnTo>
                <a:lnTo>
                  <a:pt x="2208" y="96"/>
                </a:lnTo>
                <a:lnTo>
                  <a:pt x="220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124080"/>
            <a:ext cx="1676520" cy="152640"/>
          </a:xfrm>
          <a:custGeom>
            <a:avLst/>
            <a:gdLst/>
            <a:ahLst/>
            <a:rect l="l" t="t" r="r" b="b"/>
            <a:pathLst>
              <a:path w="2208" h="96">
                <a:moveTo>
                  <a:pt x="0" y="0"/>
                </a:moveTo>
                <a:lnTo>
                  <a:pt x="0" y="96"/>
                </a:lnTo>
                <a:lnTo>
                  <a:pt x="2208" y="96"/>
                </a:lnTo>
                <a:lnTo>
                  <a:pt x="220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8640" y="341460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 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209680"/>
            <a:ext cx="76212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2209680"/>
            <a:ext cx="76212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276360" y="2895120"/>
            <a:ext cx="228600" cy="175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5400" y="476100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 this packet as an er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8280" y="34146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leav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EFB-AEC7-4E6B-A626-020A71AAF8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s multiple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at the transport layer, not the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ing can be reduced to span only a few packets, keeping latencies within specified b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work already done in IETF in defining these protocols (reliable multicast transport gro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9B2-234A-4CEE-81F5-3EE7007722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21:21:42Z</dcterms:created>
  <dc:creator>Preferred Customer</dc:creator>
  <dc:description/>
  <dc:language>en-US</dc:language>
  <cp:lastModifiedBy>Preferred Customer</cp:lastModifiedBy>
  <cp:lastPrinted>1998-02-10T13:28:06Z</cp:lastPrinted>
  <dcterms:modified xsi:type="dcterms:W3CDTF">2000-11-07T22:27:04Z</dcterms:modified>
  <cp:revision>5</cp:revision>
  <dc:subject/>
  <dc:title>PowerPoint Presentation</dc:title>
</cp:coreProperties>
</file>