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FAF-9100-4E6D-8A81-2F483266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EE9-6EB0-4330-891B-352C751C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1BD-49F3-4119-999A-C86A4342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2CA-AEE9-4367-A8D7-74EC08A8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F5D-E89B-4FCD-BFA7-DD71C734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19B-CB0A-4A40-A6DF-ED8AE05E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544-4CA4-4983-ACF1-666F5534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C9B-C103-4507-81AE-38CD8DDB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A0D-B13B-4B5D-BC1E-21B82192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ACF-3425-4239-AA86-DEBECB1A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FF7-FF10-4806-B710-3EC44395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493-2D54-4A88-9FAE-DC7F445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18080" y="6474960"/>
            <a:ext cx="30924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Kennedy, Compaq Computer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D86695-4C85-40D2-841E-36EAE86A9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68720" y="396000"/>
            <a:ext cx="259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fo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OF THI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LEVEL OF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TRUM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5DC-C2FC-412C-A1D5-37E7E4BD8E4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two systems to perform a task given that each system implements a different set of rul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means whereby terminals connected to a telecommunication network may communicate with terminals of another network.  [IEC 199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ress interactions between networks, between end systems, or between parts thereof, with the aim of providing a functional entity capable of supporting an end-to-end communication.  The interactions required to provide a functional entity rely on functions and on the means to select these functions.  [ITU-T I.510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D64-C893-47DC-BEA6-C9026FC777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ILITY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WARD COMPA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DA7-B787-4DFE-898A-2460BC4B0E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DE9-0714-432F-9B00-E9DF16ABC3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PERATION and HAR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DFA-0E15-45CC-A701-BC995E9ED8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LESS ROAM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HAND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530-20BC-4950-A972-EF275F1EA4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8D4-1032-4EFA-842C-5BC989AB35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37B-92FC-43B9-911F-571284B874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/DLC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483-1696-4A74-98FC-11731DD417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620-C1B1-433C-8792-ECCDABA06E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P802.11/5GS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for the First Meeting of the Joint Globalization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Kenn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q Compute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E7B-519C-45F1-8EB0-E29992554B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DEFINI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ILITY/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ON/HAR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MLESS ROAMING/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/DL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D39-8D2C-42BA-9E17-5894886197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wireless devices are said to “coexist” if they can be collocated without significantly impacting the performance of any of these devices [IEEE 802.15-99/088r2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one system to perform a task in a given (shared) environment where other systems may or may not be using the same set of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A52-8829-4D8E-91FE-AAB2C3DD13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two systems to perform a given task using a single set of 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D44-ACC4-48D2-96B7-6968DD0EA2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CONVERGENCE Objectiv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Global Standar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 combined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selecting one of the existing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ing the three standards closer together; having a degree of interoperability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ble to coexist 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quo (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D4B-17BE-4699-A7B9-E912F2F535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5875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s of CONVERGENCE Definition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a range of convergence options listed below in decreasing desir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Global Standard with complete interoperability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having a degree of interoperability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having a degree of interworking typically involving the use of a trans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other situations that represent no conver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coexist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unable to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8C7-14AA-42EB-BDE9-AA2638B4962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5875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CONVERGENCE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adhering to One Global Standard with complete interoperability that can be used anywhere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that interoperate but were designed to different standards. The user of each equipment type can communicate transparently with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: Two standards have common architecture, design, de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le: Two+ standards have a way of directly communicating together to perform a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96B-EBB8-431F-92F9-BE65C9B0B77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5875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tandards CONVERGENCE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: Two systems have common architecture, design,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le: Two+ systems have a way of directly communicating together to perform a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: Two+ systems can exchange information thru a translating function and work together to perform a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nsfer: Two+ systems can exchange information thru a translating system to perform their respective tasks. For example HL2 and 11a can communicate via an ethernet backbone. This not considered to be conver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748-21D0-44CF-BE2C-0AAA5C30D97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15:11:06Z</dcterms:created>
  <dc:creator>Richard Kennedy</dc:creator>
  <dc:description/>
  <dc:language>en-US</dc:language>
  <cp:lastModifiedBy>Harry Worstell</cp:lastModifiedBy>
  <cp:lastPrinted>1998-02-10T13:28:06Z</cp:lastPrinted>
  <dcterms:modified xsi:type="dcterms:W3CDTF">2000-11-09T18:12:20Z</dcterms:modified>
  <cp:revision>31</cp:revision>
  <dc:subject/>
  <dc:title>PowerPoint Presentation</dc:title>
</cp:coreProperties>
</file>