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2F5-F675-4A94-A83E-6BD3FE70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E58-DCCF-4916-9A71-FE28536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582-D81F-42EF-A660-0B0EFF11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17A-6FED-4367-A882-7FB4B06B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E7D-C5E3-4205-AD84-44C6D22A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9A4-47DC-4EB0-A633-36EEE1D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3C8-D3DC-4B4E-8E33-75C6690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6E98-EFF4-45CE-AC21-37FFEFE6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735-6E39-40F4-ACA5-14B07A3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7EA-7AE9-49ED-8FD4-B496757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415-C0DF-456B-9E75-6637986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ED0-3139-4BBB-A8C3-9EA10B0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18080" y="6474960"/>
            <a:ext cx="3092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Kennedy, Compaq Computer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980E1B-3BA0-4E97-B964-CF8EF0AB3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37560" y="396000"/>
            <a:ext cx="242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ems for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THI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LEVEL OF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460-86F6-4EC5-8672-7289633C4A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OPERATION and HARM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877-AD0E-4DBD-997F-56C10E6809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AMLESS ROAM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d HAND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52E-CFBE-4537-96BA-F987EE749A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819-C9C0-4FF5-99E0-A4D3B4A2C5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DAC-A6CA-4CB3-A0CF-F4FCFAD505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C/DLC L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6EF-32BD-4000-8937-DA44F3900F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HY L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0C4-94D4-44CD-9E22-7647987A57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P802.11/5GS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for the First Meeting of the Joint Globalization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Kenn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q Comput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614-8BE8-4AF6-BD99-987CFD39C0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ITICAL 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/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/HAR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MLESS ROAMING/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/DL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835-BE09-49BF-B96D-04A08BC5D2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EXIS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er to definitions established in IEEE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A7E-EE8A-4A53-9654-49F09F802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er to definitions established in IEEE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C18-414F-40C6-AAF5-B4B188DCC0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VERG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Global Standard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a combined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electing one of the exist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nging the three standards closer together; having a degree of interoperability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ng able to coexist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quo (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E47-9B49-4C7E-9243-C6C623842F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R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EF8-5FB0-4E4E-A810-0E26674C7B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PATIBILITY and BACKWARD COMPA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52C-2E15-4ED9-AF3C-B464BCD228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227-58A4-4A32-8F9E-0D352309E4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5:11:06Z</dcterms:created>
  <dc:creator>Richard Kennedy</dc:creator>
  <dc:description/>
  <dc:language>en-US</dc:language>
  <cp:lastModifiedBy>Harry Worstell</cp:lastModifiedBy>
  <cp:lastPrinted>1998-02-10T13:28:06Z</cp:lastPrinted>
  <dcterms:modified xsi:type="dcterms:W3CDTF">2000-11-08T18:55:20Z</dcterms:modified>
  <cp:revision>21</cp:revision>
  <dc:subject/>
  <dc:title>PowerPoint Presentation</dc:title>
</cp:coreProperties>
</file>