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AA1-199A-4AFD-8FE5-7DC04D00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71F-A770-4FD5-AA83-011FAF21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703-4461-48A6-8C7E-88FE085D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581-7851-4AD7-A3FA-7C53C958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8E6-2897-4D94-997B-F1109C57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C2D-B981-44B5-BECD-2D093B4A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4FE-39CA-42EA-A966-66AE5DFF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BC6-8668-44EC-8F1A-F1500378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510-84D5-44AD-BFC0-CD821300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2D1-CA7E-4FA6-B8D3-7AD8A952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F49-6A27-4C29-ABD8-9FF05B35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B29-21D9-4F9C-8C65-F0C193FE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6A5906-79C7-4850-8AD7-87B4EFA22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ntribu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wards Harmonization of IEE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a, HiperLAN2 and MM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Conn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 Sa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is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saam@magisnetwork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288-05F5-4C73-B904-174218C37F2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ing uncompromis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of Service sup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, video and computer data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un-necessa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application support in the local area (home and office environ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area mobility not an application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138-87AB-43DC-BCF8-854D0F53E8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perLAN2, A High Level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support for isochronous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S and 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Complexity due to wide-area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7E9-282B-4ED3-A67B-B51E10F04E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a MAC, A High Level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-of-band ARQ signaling (fast AR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QoS support for isochronous 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D07-81A3-4542-9213-B38E6D55EC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armonized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 the H2 MAC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te beneficial features of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A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packet size (less over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L2-L3 interface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some bandwidth management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-oriented at Lay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EDF-AF52-4394-B2BA-8F59F65C47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dware Abstraction Lay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a variety of hardware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secu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ing sensitive media over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F03-2CD0-4CD4-96EF-3F3C877E7F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tensive legacy infrastructure exists today for either 802.11a or H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approaches are expensive and not justified based on existing market re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lanced and selective approach to 11a/H2 harmonization is more efficient and supports true univers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 requirements need to be understood and facrtored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white paper for more in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742-D0B4-4657-A304-47D5B90705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2T18:02:28Z</dcterms:created>
  <dc:creator>Clarence Bruckner</dc:creator>
  <dc:description>D. Conners, Magis Networks</dc:description>
  <dc:language>en-US</dc:language>
  <cp:lastModifiedBy>Harry Worstell</cp:lastModifiedBy>
  <dcterms:modified xsi:type="dcterms:W3CDTF">2000-11-09T15:07:11Z</dcterms:modified>
  <cp:revision>272</cp:revision>
  <dc:subject>Submission</dc:subject>
  <dc:title>Business Development Overview</dc:title>
</cp:coreProperties>
</file>