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191-273E-42A3-B300-2F11442C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272-C625-4E9A-B7F1-55497901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9F6-A226-4B0E-B9CF-3D12A6F0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CBA-F517-4CDA-9F46-146214A7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8188-5343-4229-B1E8-E8126ECD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6807-B8B0-43EE-86E4-2BB2FBE3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5A7-DEBA-4D84-8547-9C542E94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376F-F60E-4B86-897E-ACC225E8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783-FAFE-4805-ADAD-F08A8558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883E-4ECF-4B74-BBD4-02854E68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91E-645B-417A-92DC-52E9B491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72A-7C5F-44EF-9BD8-A9A95E30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190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Van Erven , 3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E066B7E-FB67-413E-B608-459D52524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ggested Approach for          22 Mbps 802.11b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els Van Er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Com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vember 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4A1-A6C3-4333-BBAE-19485A28408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1880" y="1828800"/>
            <a:ext cx="5820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s an approach to 802.11b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PSK @ 11Ms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A69F-0CD4-4F85-9C60-4504AE73B1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chnical Summa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9440" y="2257560"/>
            <a:ext cx="6422400" cy="265428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pecial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 Msps  (22 Mbps theore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ward-compatibility with existing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operable with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common pream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al extension to the current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7760" y="4600440"/>
            <a:ext cx="2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4F3-04F9-47DB-95A5-FD7F254CDDE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chnical Summary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7360" y="1828800"/>
            <a:ext cx="559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al MAC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or state machin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critical firmware timing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processing spee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e interference characteristics 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ountered in 802.11b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cal QPSK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jacent channel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-channel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F PA backoff from 1d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ression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7A7F-DF39-4F04-9531-8EB32CFEF1A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chnical Summary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457840" y="6095880"/>
            <a:ext cx="152280" cy="1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752480"/>
            <a:ext cx="6186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xity similar to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processing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increased gate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imination / bypassing of corre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ivalent RF/IF PHY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ified equalizer possible du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reased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oughput almost double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ightly less in order to accommo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operability issues (preambl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8C5-BD9A-4079-A5BB-4DF849E8F2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458200" y="6248160"/>
            <a:ext cx="7632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752480"/>
            <a:ext cx="618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al regulatory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t coexistence strate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est time-to-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ure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ws industry to leverage exi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earch and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s on existing customer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izes market confusion w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ing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 not be an anticipatory drag 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11b 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3CE-6DC4-4EE0-A921-461ABD7D18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457840" y="6095880"/>
            <a:ext cx="152280" cy="1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1752480"/>
            <a:ext cx="6352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uced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 problem for all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fficient for home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deployment of access point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 environm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for less interference when wid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l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process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 problem for all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aming video will introduce hig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ilization rates -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C333-6DEE-4B8D-B316-45CCEE2BEA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58200" y="60958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133720"/>
            <a:ext cx="681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t compromise for technology, regulato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y and customer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al regulatory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t coexistence strategy with all 2.4GHz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est time-to-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s burgeoning customer need for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ure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vel playing field for industry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est risk/investment for best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DCC-0E07-4A8D-926A-B318F31424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6:31:50Z</dcterms:created>
  <dc:creator>Mark Webster</dc:creator>
  <dc:description/>
  <dc:language>en-US</dc:language>
  <cp:lastModifiedBy>Harry Worstell</cp:lastModifiedBy>
  <cp:lastPrinted>2000-11-07T02:53:57Z</cp:lastPrinted>
  <dcterms:modified xsi:type="dcterms:W3CDTF">2000-11-08T18:54:03Z</dcterms:modified>
  <cp:revision>63</cp:revision>
  <dc:subject/>
  <dc:title>Suggest PA Model for 802.11 HRb</dc:title>
</cp:coreProperties>
</file>