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82240" y="701640"/>
            <a:ext cx="46198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427A50-EBFE-4395-BE8E-7C115B8029F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647606-12B2-4A5C-BA98-88AC4B3FA5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2CEEF2-A21C-4D7C-9A54-A1C4A7DCFC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AD75F-1021-4DF4-A04A-64CE75A548C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299494-DC56-4586-A377-55792C2244D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4158E5-279E-442E-A49A-5B6CD1FA6B9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D7A96F-8A30-48EE-A82B-46144758D81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F14-7225-46B6-9FD2-635B3C20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E44F-0A90-4B73-9A36-0C9E5139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80A0-B3A9-4221-8651-9DB58334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A1D-5952-4615-8164-9EC68D90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CB4-150F-40A8-A616-2ADC10FA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1B5-8A6E-424F-A544-D41CC7C2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73A-DDE9-4A72-B065-9F68A907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FA4-2890-4BBB-AB26-9384B0B6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1F98-E4F6-4728-9EC1-412B64B2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E5CD-1FA9-40B8-BF50-BC68E173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76C-160E-4457-AAEB-19285E98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2C1-9A00-4774-8E91-C34E8270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82543AF-4433-4607-BF91-08F57426C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67800" y="641196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grouper.ieee.org/groups/802/1/pages/802.1x.html" TargetMode="External"/><Relationship Id="rId2" Type="http://schemas.openxmlformats.org/officeDocument/2006/relationships/hyperlink" Target="http://www.ietf.org/rfc/rfc2138.txt" TargetMode="External"/><Relationship Id="rId3" Type="http://schemas.openxmlformats.org/officeDocument/2006/relationships/hyperlink" Target="http://www.ietf.org/rfc/rfc2139.txt" TargetMode="External"/><Relationship Id="rId4" Type="http://schemas.openxmlformats.org/officeDocument/2006/relationships/hyperlink" Target="http://www.ietf.org/rfc/rfc2548.txt" TargetMode="External"/><Relationship Id="rId5" Type="http://schemas.openxmlformats.org/officeDocument/2006/relationships/hyperlink" Target="http://www.ietf.org/rfc/rfc2865.txt" TargetMode="External"/><Relationship Id="rId6" Type="http://schemas.openxmlformats.org/officeDocument/2006/relationships/hyperlink" Target="http://www.ietf.org/rfc/rfc2284.txt" TargetMode="External"/><Relationship Id="rId7" Type="http://schemas.openxmlformats.org/officeDocument/2006/relationships/hyperlink" Target="http://www.ietf.org/rfc/rfc2716.txt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Ge Security Baselin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Halasz, Stuart Norman, Glen Z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sco Systems, In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nard Aboba, Tim Mo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sse Walker, In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Beach, 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O’Hara, Informed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EB8-FEF7-4050-8E32-B008AA9F162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to 802.1X adaptation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609480" cy="924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05120" y="2971800"/>
            <a:ext cx="1904760" cy="1522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3809880"/>
            <a:ext cx="1904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l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3809880"/>
            <a:ext cx="2057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62120" y="5029200"/>
            <a:ext cx="914400" cy="741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057400" y="5257800"/>
            <a:ext cx="1905120" cy="1522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095880"/>
            <a:ext cx="1905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l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327672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. . .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2590920"/>
            <a:ext cx="30477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IEEE 802.11 physical port becomes 1 to N virtual IEEE 802.1X 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802.11 association IDs to the virtual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52C-D90B-4DD8-B593-A87CF9B43DD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X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391520" y="2666880"/>
            <a:ext cx="788760" cy="836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114800" y="2666880"/>
            <a:ext cx="609480" cy="924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40160" y="3048120"/>
            <a:ext cx="3173400" cy="115920"/>
          </a:xfrm>
          <a:custGeom>
            <a:avLst/>
            <a:gdLst/>
            <a:ahLst/>
            <a:rect l="l" t="t" r="r" b="b"/>
            <a:pathLst>
              <a:path w="1999" h="73">
                <a:moveTo>
                  <a:pt x="0" y="73"/>
                </a:moveTo>
                <a:lnTo>
                  <a:pt x="0" y="0"/>
                </a:lnTo>
                <a:lnTo>
                  <a:pt x="1999" y="0"/>
                </a:lnTo>
              </a:path>
            </a:pathLst>
          </a:custGeom>
          <a:noFill/>
          <a:ln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2971800"/>
            <a:ext cx="1904760" cy="1522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791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50532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038480" y="5791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6019920"/>
            <a:ext cx="2133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olled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4495680"/>
            <a:ext cx="25146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controlled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3809880"/>
            <a:ext cx="1904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l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3809880"/>
            <a:ext cx="28191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3809880"/>
            <a:ext cx="2057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1905120"/>
            <a:ext cx="69404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Pieces of the system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5A2-C1CA-4536-B45F-05331E27D20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391520" y="2666880"/>
            <a:ext cx="788760" cy="836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114800" y="2666880"/>
            <a:ext cx="609480" cy="924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340160" y="3048120"/>
            <a:ext cx="3173400" cy="115920"/>
          </a:xfrm>
          <a:custGeom>
            <a:avLst/>
            <a:gdLst/>
            <a:ahLst/>
            <a:rect l="l" t="t" r="r" b="b"/>
            <a:pathLst>
              <a:path w="1999" h="73">
                <a:moveTo>
                  <a:pt x="0" y="73"/>
                </a:moveTo>
                <a:lnTo>
                  <a:pt x="0" y="0"/>
                </a:lnTo>
                <a:lnTo>
                  <a:pt x="1999" y="0"/>
                </a:lnTo>
              </a:path>
            </a:pathLst>
          </a:custGeom>
          <a:noFill/>
          <a:ln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2971800"/>
            <a:ext cx="1904760" cy="1522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5791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50532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4038480" y="55623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6019920"/>
            <a:ext cx="16765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rm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05320" y="4495680"/>
            <a:ext cx="198108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809880"/>
            <a:ext cx="1904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reless lap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809880"/>
            <a:ext cx="25905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3809880"/>
            <a:ext cx="2057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e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3352680"/>
            <a:ext cx="16002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02.1X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3352680"/>
            <a:ext cx="23619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990720"/>
            <a:ext cx="6940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ireless client associaton at 802.11 layer: Data blocked by the A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724280"/>
            <a:ext cx="28954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ess Point blocks everything except 802.1X to authentication traff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267080"/>
            <a:ext cx="297180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traffic is allowed to flow. Access point encapsulates 802.1X traffic into authentication server traffic and vice ver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889-B804-46EB-825B-F28B3A0CBB8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391520" y="2666880"/>
            <a:ext cx="788760" cy="836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114800" y="2666880"/>
            <a:ext cx="609480" cy="924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340160" y="3048120"/>
            <a:ext cx="3173400" cy="115920"/>
          </a:xfrm>
          <a:custGeom>
            <a:avLst/>
            <a:gdLst/>
            <a:ahLst/>
            <a:rect l="l" t="t" r="r" b="b"/>
            <a:pathLst>
              <a:path w="1999" h="73">
                <a:moveTo>
                  <a:pt x="0" y="73"/>
                </a:moveTo>
                <a:lnTo>
                  <a:pt x="0" y="0"/>
                </a:lnTo>
                <a:lnTo>
                  <a:pt x="1999" y="0"/>
                </a:lnTo>
              </a:path>
            </a:pathLst>
          </a:custGeom>
          <a:noFill/>
          <a:ln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2971800"/>
            <a:ext cx="1904760" cy="1522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5791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50532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038480" y="55623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6019920"/>
            <a:ext cx="16765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rm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495680"/>
            <a:ext cx="198108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581280"/>
            <a:ext cx="1904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reless lap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809880"/>
            <a:ext cx="25146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809880"/>
            <a:ext cx="2057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e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3352680"/>
            <a:ext cx="16002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02.1X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352680"/>
            <a:ext cx="24382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066680"/>
            <a:ext cx="69404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ireless client mutually authenticates with Authentication Serv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952880"/>
            <a:ext cx="28954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ess Point blocks everything except 802.1X to authentication traff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962520"/>
            <a:ext cx="29718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the authentication process the supplicant securely obtains a WEP k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A8DD-B0B9-4F75-BA73-D04A12AA88E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391520" y="2666880"/>
            <a:ext cx="788760" cy="836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114800" y="2666880"/>
            <a:ext cx="609480" cy="924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340160" y="3048120"/>
            <a:ext cx="3173400" cy="115920"/>
          </a:xfrm>
          <a:custGeom>
            <a:avLst/>
            <a:gdLst/>
            <a:ahLst/>
            <a:rect l="l" t="t" r="r" b="b"/>
            <a:pathLst>
              <a:path w="1999" h="73">
                <a:moveTo>
                  <a:pt x="0" y="73"/>
                </a:moveTo>
                <a:lnTo>
                  <a:pt x="0" y="0"/>
                </a:lnTo>
                <a:lnTo>
                  <a:pt x="1999" y="0"/>
                </a:lnTo>
              </a:path>
            </a:pathLst>
          </a:custGeom>
          <a:noFill/>
          <a:ln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2971800"/>
            <a:ext cx="1904760" cy="1522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5791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50532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038480" y="5791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6019920"/>
            <a:ext cx="16765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rm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4495680"/>
            <a:ext cx="198108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809880"/>
            <a:ext cx="1904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reless lap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3809880"/>
            <a:ext cx="25146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3809880"/>
            <a:ext cx="2057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e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3352680"/>
            <a:ext cx="16002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02.1X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3352680"/>
            <a:ext cx="24382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914400"/>
            <a:ext cx="69408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ireless client and AP use WEP key, AP allows traffic to flo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4952880"/>
            <a:ext cx="2895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fter successful EAP authentication, the Access Point allows all traffic to the Wireless lapto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4495680"/>
            <a:ext cx="2971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Wireless laptop sets the WEP keys through the MLME interface. (e.g. NIC dri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E24-FC9E-4A7C-BB71-A21B10D7F4F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P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 provides a flexible link layer securit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encapsulation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dependency on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/NAK, no window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fragmentation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link layer 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run over any link layer (PPP, 802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es not assume physically secure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hods provide securi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umes no re-or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run over lossy or lossless 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ransmission responsibility of authenticator (not needed for 802.1X or 802.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 methods based on IETF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ort Level Security (TLS) (supported in Windows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S_API (including Kerber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CF5A-62E4-4544-A75E-62CDA8F0BC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P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91880" y="3657600"/>
            <a:ext cx="10926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7000" y="1752480"/>
            <a:ext cx="1446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3048120"/>
            <a:ext cx="8219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3360" y="5187960"/>
            <a:ext cx="1647720" cy="984240"/>
          </a:xfrm>
          <a:prstGeom prst="rect">
            <a:avLst/>
          </a:prstGeom>
          <a:gradFill rotWithShape="0">
            <a:gsLst>
              <a:gs pos="0">
                <a:srgbClr val="008d6a"/>
              </a:gs>
              <a:gs pos="50000">
                <a:srgbClr val="00cc99"/>
              </a:gs>
              <a:gs pos="100000">
                <a:srgbClr val="008d6a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3200400"/>
            <a:ext cx="6820200" cy="160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d8db1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49560" y="2457360"/>
            <a:ext cx="400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1676520"/>
            <a:ext cx="2057400" cy="115704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42aa1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68560" y="5410080"/>
            <a:ext cx="115056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4572000"/>
            <a:ext cx="144792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2666880"/>
            <a:ext cx="11430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4952880"/>
            <a:ext cx="8219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3962520"/>
            <a:ext cx="0" cy="177156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548640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5181480"/>
            <a:ext cx="1647720" cy="9842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5181480"/>
            <a:ext cx="1648080" cy="9842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a8db1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5181480"/>
            <a:ext cx="1647720" cy="9842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6a8d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548640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548640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5486400"/>
            <a:ext cx="1067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3962520"/>
            <a:ext cx="0" cy="177156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1676520"/>
            <a:ext cx="2133720" cy="115704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50000">
                <a:srgbClr val="6a2346"/>
              </a:gs>
              <a:gs pos="100000">
                <a:srgbClr val="993366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66880" y="1676520"/>
            <a:ext cx="2057400" cy="1157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b16a8d"/>
              </a:gs>
              <a:gs pos="100000">
                <a:srgbClr val="ff99cc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S_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19920" y="2438280"/>
            <a:ext cx="0" cy="177192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2438280"/>
            <a:ext cx="0" cy="177192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756F-79CF-4FF9-BD61-6B35D6BF942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P-GSS and IAKER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P-GSS (draft-aboba-pppext-eapgss-02.t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GSS_API authentication methods within 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will NOT use SP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Kerb (draft-ietf-cat-iakberb-05.t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S-API method enabling proxy Kerb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 not able to talk to KDC directly prior to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KERB enables STA to obtain TGT, Ticket to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cket to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5409-0E02-4864-8793-2D2A99592E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0" y="2438280"/>
            <a:ext cx="304920" cy="3886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2438280"/>
            <a:ext cx="2971800" cy="38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2438280"/>
            <a:ext cx="3352680" cy="3886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Cont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905120" y="2590920"/>
            <a:ext cx="2286000" cy="307080"/>
            <a:chOff x="1905120" y="2590920"/>
            <a:chExt cx="2286000" cy="307080"/>
          </a:xfrm>
        </p:grpSpPr>
        <p:sp>
          <p:nvSpPr>
            <p:cNvPr id="196" name=""/>
            <p:cNvSpPr/>
            <p:nvPr/>
          </p:nvSpPr>
          <p:spPr>
            <a:xfrm>
              <a:off x="1905120" y="281952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10040" y="25909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ssoci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905120" y="2819520"/>
            <a:ext cx="2209680" cy="307080"/>
            <a:chOff x="1905120" y="2819520"/>
            <a:chExt cx="2209680" cy="307080"/>
          </a:xfrm>
        </p:grpSpPr>
        <p:sp>
          <p:nvSpPr>
            <p:cNvPr id="199" name=""/>
            <p:cNvSpPr/>
            <p:nvPr/>
          </p:nvSpPr>
          <p:spPr>
            <a:xfrm flipH="1">
              <a:off x="1905120" y="3047760"/>
              <a:ext cx="2209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33360" y="2819520"/>
              <a:ext cx="182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 Identity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981080" y="3048120"/>
            <a:ext cx="2286000" cy="307080"/>
            <a:chOff x="1981080" y="3048120"/>
            <a:chExt cx="2286000" cy="307080"/>
          </a:xfrm>
        </p:grpSpPr>
        <p:sp>
          <p:nvSpPr>
            <p:cNvPr id="202" name=""/>
            <p:cNvSpPr/>
            <p:nvPr/>
          </p:nvSpPr>
          <p:spPr>
            <a:xfrm>
              <a:off x="1981080" y="327672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57400" y="30481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 Identity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80720" y="3352680"/>
            <a:ext cx="2286360" cy="307080"/>
            <a:chOff x="1980720" y="3352680"/>
            <a:chExt cx="2286360" cy="307080"/>
          </a:xfrm>
        </p:grpSpPr>
        <p:sp>
          <p:nvSpPr>
            <p:cNvPr id="205" name=""/>
            <p:cNvSpPr/>
            <p:nvPr/>
          </p:nvSpPr>
          <p:spPr>
            <a:xfrm flipH="1">
              <a:off x="1980720" y="358128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57400" y="33526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GSS Request (Empt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47920" y="3657600"/>
            <a:ext cx="6248160" cy="383040"/>
            <a:chOff x="1447920" y="3657600"/>
            <a:chExt cx="6248160" cy="383040"/>
          </a:xfrm>
        </p:grpSpPr>
        <p:grpSp>
          <p:nvGrpSpPr>
            <p:cNvPr id="208" name=""/>
            <p:cNvGrpSpPr/>
            <p:nvPr/>
          </p:nvGrpSpPr>
          <p:grpSpPr>
            <a:xfrm>
              <a:off x="1447920" y="3657600"/>
              <a:ext cx="3200400" cy="307080"/>
              <a:chOff x="1447920" y="3657600"/>
              <a:chExt cx="3200400" cy="307080"/>
            </a:xfrm>
          </p:grpSpPr>
          <p:sp>
            <p:nvSpPr>
              <p:cNvPr id="209" name=""/>
              <p:cNvSpPr/>
              <p:nvPr/>
            </p:nvSpPr>
            <p:spPr>
              <a:xfrm>
                <a:off x="1981080" y="3962160"/>
                <a:ext cx="228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447920" y="3657600"/>
                <a:ext cx="320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AP-GSS Response (IAKERB: AS_REQ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4495680" y="3733560"/>
              <a:ext cx="3200400" cy="307080"/>
              <a:chOff x="4495680" y="3733560"/>
              <a:chExt cx="3200400" cy="307080"/>
            </a:xfrm>
          </p:grpSpPr>
          <p:sp>
            <p:nvSpPr>
              <p:cNvPr id="212" name=""/>
              <p:cNvSpPr/>
              <p:nvPr/>
            </p:nvSpPr>
            <p:spPr>
              <a:xfrm>
                <a:off x="5029200" y="3961800"/>
                <a:ext cx="228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95680" y="3733560"/>
                <a:ext cx="320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_RE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1523880" y="4038480"/>
            <a:ext cx="6248520" cy="307080"/>
            <a:chOff x="1523880" y="4038480"/>
            <a:chExt cx="6248520" cy="307080"/>
          </a:xfrm>
        </p:grpSpPr>
        <p:grpSp>
          <p:nvGrpSpPr>
            <p:cNvPr id="215" name=""/>
            <p:cNvGrpSpPr/>
            <p:nvPr/>
          </p:nvGrpSpPr>
          <p:grpSpPr>
            <a:xfrm>
              <a:off x="1523880" y="4038480"/>
              <a:ext cx="3276720" cy="307080"/>
              <a:chOff x="1523880" y="4038480"/>
              <a:chExt cx="3276720" cy="307080"/>
            </a:xfrm>
          </p:grpSpPr>
          <p:sp>
            <p:nvSpPr>
              <p:cNvPr id="216" name=""/>
              <p:cNvSpPr/>
              <p:nvPr/>
            </p:nvSpPr>
            <p:spPr>
              <a:xfrm flipH="1">
                <a:off x="1980720" y="4343040"/>
                <a:ext cx="221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523880" y="4038480"/>
                <a:ext cx="327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AP-GSS Request (IAKERB: AS_REP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495680" y="4038480"/>
              <a:ext cx="3276720" cy="307080"/>
              <a:chOff x="4495680" y="4038480"/>
              <a:chExt cx="3276720" cy="307080"/>
            </a:xfrm>
          </p:grpSpPr>
          <p:sp>
            <p:nvSpPr>
              <p:cNvPr id="219" name=""/>
              <p:cNvSpPr/>
              <p:nvPr/>
            </p:nvSpPr>
            <p:spPr>
              <a:xfrm flipH="1">
                <a:off x="4952520" y="4266720"/>
                <a:ext cx="221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95680" y="4038480"/>
                <a:ext cx="327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_RE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1371600" y="4419720"/>
            <a:ext cx="6324480" cy="383400"/>
            <a:chOff x="1371600" y="4419720"/>
            <a:chExt cx="6324480" cy="383400"/>
          </a:xfrm>
        </p:grpSpPr>
        <p:grpSp>
          <p:nvGrpSpPr>
            <p:cNvPr id="222" name=""/>
            <p:cNvGrpSpPr/>
            <p:nvPr/>
          </p:nvGrpSpPr>
          <p:grpSpPr>
            <a:xfrm>
              <a:off x="1371600" y="4419720"/>
              <a:ext cx="3276720" cy="307080"/>
              <a:chOff x="1371600" y="4419720"/>
              <a:chExt cx="3276720" cy="307080"/>
            </a:xfrm>
          </p:grpSpPr>
          <p:sp>
            <p:nvSpPr>
              <p:cNvPr id="223" name=""/>
              <p:cNvSpPr/>
              <p:nvPr/>
            </p:nvSpPr>
            <p:spPr>
              <a:xfrm>
                <a:off x="1981080" y="4724640"/>
                <a:ext cx="228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371600" y="4419720"/>
                <a:ext cx="327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AP-GSS Response (IAKERB: TGS_REQ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4495680" y="4496040"/>
              <a:ext cx="3200400" cy="307080"/>
              <a:chOff x="4495680" y="4496040"/>
              <a:chExt cx="3200400" cy="307080"/>
            </a:xfrm>
          </p:grpSpPr>
          <p:sp>
            <p:nvSpPr>
              <p:cNvPr id="226" name=""/>
              <p:cNvSpPr/>
              <p:nvPr/>
            </p:nvSpPr>
            <p:spPr>
              <a:xfrm>
                <a:off x="5029200" y="4724640"/>
                <a:ext cx="228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495680" y="4496040"/>
                <a:ext cx="320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GS_RE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1523880" y="4800600"/>
            <a:ext cx="6248520" cy="383400"/>
            <a:chOff x="1523880" y="4800600"/>
            <a:chExt cx="6248520" cy="383400"/>
          </a:xfrm>
        </p:grpSpPr>
        <p:grpSp>
          <p:nvGrpSpPr>
            <p:cNvPr id="229" name=""/>
            <p:cNvGrpSpPr/>
            <p:nvPr/>
          </p:nvGrpSpPr>
          <p:grpSpPr>
            <a:xfrm>
              <a:off x="1523880" y="4800600"/>
              <a:ext cx="3276720" cy="307080"/>
              <a:chOff x="1523880" y="4800600"/>
              <a:chExt cx="3276720" cy="30708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980720" y="5105520"/>
                <a:ext cx="221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523880" y="4800600"/>
                <a:ext cx="327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AP-GSS Request (IAKERB: TGS_REP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495680" y="4876920"/>
              <a:ext cx="3276720" cy="307080"/>
              <a:chOff x="4495680" y="4876920"/>
              <a:chExt cx="3276720" cy="307080"/>
            </a:xfrm>
          </p:grpSpPr>
          <p:sp>
            <p:nvSpPr>
              <p:cNvPr id="233" name=""/>
              <p:cNvSpPr/>
              <p:nvPr/>
            </p:nvSpPr>
            <p:spPr>
              <a:xfrm flipH="1">
                <a:off x="4952520" y="5105520"/>
                <a:ext cx="221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95680" y="4876920"/>
                <a:ext cx="327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GS_RE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1828800" y="5181480"/>
            <a:ext cx="2590920" cy="307080"/>
            <a:chOff x="1828800" y="5181480"/>
            <a:chExt cx="2590920" cy="307080"/>
          </a:xfrm>
        </p:grpSpPr>
        <p:sp>
          <p:nvSpPr>
            <p:cNvPr id="236" name=""/>
            <p:cNvSpPr/>
            <p:nvPr/>
          </p:nvSpPr>
          <p:spPr>
            <a:xfrm>
              <a:off x="1981080" y="548604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28800" y="51814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 IAKERB Response (Empt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980720" y="5486400"/>
            <a:ext cx="2286360" cy="307080"/>
            <a:chOff x="1980720" y="5486400"/>
            <a:chExt cx="2286360" cy="307080"/>
          </a:xfrm>
        </p:grpSpPr>
        <p:sp>
          <p:nvSpPr>
            <p:cNvPr id="239" name=""/>
            <p:cNvSpPr/>
            <p:nvPr/>
          </p:nvSpPr>
          <p:spPr>
            <a:xfrm flipH="1">
              <a:off x="1980720" y="571500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57400" y="548640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Su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828800" y="5715000"/>
            <a:ext cx="2590920" cy="307080"/>
            <a:chOff x="1828800" y="5715000"/>
            <a:chExt cx="2590920" cy="307080"/>
          </a:xfrm>
        </p:grpSpPr>
        <p:sp>
          <p:nvSpPr>
            <p:cNvPr id="242" name=""/>
            <p:cNvSpPr/>
            <p:nvPr/>
          </p:nvSpPr>
          <p:spPr>
            <a:xfrm>
              <a:off x="1981080" y="601956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28800" y="57150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Key (AP_REQ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980720" y="6019920"/>
            <a:ext cx="2286360" cy="307080"/>
            <a:chOff x="1980720" y="6019920"/>
            <a:chExt cx="2286360" cy="307080"/>
          </a:xfrm>
        </p:grpSpPr>
        <p:sp>
          <p:nvSpPr>
            <p:cNvPr id="245" name=""/>
            <p:cNvSpPr/>
            <p:nvPr/>
          </p:nvSpPr>
          <p:spPr>
            <a:xfrm flipH="1">
              <a:off x="1980720" y="624816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57400" y="601992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Key (AP_RE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343400" y="1371600"/>
            <a:ext cx="609480" cy="9237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7440480" y="1447920"/>
            <a:ext cx="789120" cy="8366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572000" y="1752480"/>
            <a:ext cx="2941560" cy="76320"/>
          </a:xfrm>
          <a:custGeom>
            <a:avLst/>
            <a:gdLst/>
            <a:ahLst/>
            <a:rect l="l" t="t" r="r" b="b"/>
            <a:pathLst>
              <a:path w="1999" h="73">
                <a:moveTo>
                  <a:pt x="0" y="73"/>
                </a:moveTo>
                <a:lnTo>
                  <a:pt x="0" y="0"/>
                </a:lnTo>
                <a:lnTo>
                  <a:pt x="1999" y="0"/>
                </a:lnTo>
              </a:path>
            </a:pathLst>
          </a:custGeom>
          <a:noFill/>
          <a:ln w="25560">
            <a:solidFill>
              <a:srgbClr val="ff66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905120"/>
            <a:ext cx="2514600" cy="1522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227016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1965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01000" y="2133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5050"/>
                </a:solidFill>
                <a:uFillTx/>
                <a:latin typeface="Times New Roman"/>
              </a:rPr>
              <a:t>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54864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802.1X is Unb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9436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802.11 is Unb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905120" y="2286000"/>
            <a:ext cx="2286000" cy="459000"/>
            <a:chOff x="1905120" y="2286000"/>
            <a:chExt cx="2286000" cy="459000"/>
          </a:xfrm>
        </p:grpSpPr>
        <p:sp>
          <p:nvSpPr>
            <p:cNvPr id="258" name=""/>
            <p:cNvSpPr/>
            <p:nvPr/>
          </p:nvSpPr>
          <p:spPr>
            <a:xfrm>
              <a:off x="1905120" y="25146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10040" y="228600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robe Request/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0E3A-E8F5-48A0-91DC-99034DC0273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al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 method defaults to IAKE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 can attempt SP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 can choose IAKERB if it doesn’t support anything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-Key packets passed up and down via driver interface and 802.11 S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STA, GSS_API implementation needs to be able to generate AP_REQ, send it down to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P, need ability to validate received AP_REQ, force 802.1X controlled port into authorized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 encryption turned on after AP_REQ/AP_REP 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 turns on encryption after sending AP_R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 turns on encryption after receiving AP_R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EAP-Key exchange occurs prior to completion of 802.1X, then part of the 802.1X exchange may be encrypt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01A7-E1AB-483B-8ADC-8FD5B8596F3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,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Manag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f 802.1X and 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ex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top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cy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802.11 and 802.1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B9E-A364-4349-8AE4-85DB8ABA43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of client to KDC (TGS_RE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DATA typically NOT used with AS_REQ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of KDC to client (AS_REP, TGS_RE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 key for client-AP communication (TGS_REP, AP_RE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T, Session key for client-KDC communication (AS_RE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of client to AP (AP_RE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of AP to client (AP_RE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8454-1191-4016-BBF3-16006DB6DCF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0" y="2438280"/>
            <a:ext cx="304920" cy="3886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6920" y="2438280"/>
            <a:ext cx="2971800" cy="38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2438280"/>
            <a:ext cx="3352680" cy="3886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aming Within Rea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81080" y="2895480"/>
            <a:ext cx="2286000" cy="307080"/>
            <a:chOff x="1981080" y="2895480"/>
            <a:chExt cx="2286000" cy="307080"/>
          </a:xfrm>
        </p:grpSpPr>
        <p:sp>
          <p:nvSpPr>
            <p:cNvPr id="269" name=""/>
            <p:cNvSpPr/>
            <p:nvPr/>
          </p:nvSpPr>
          <p:spPr>
            <a:xfrm>
              <a:off x="1981080" y="312408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86000" y="289548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ssoci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980720" y="3962520"/>
            <a:ext cx="2210040" cy="307080"/>
            <a:chOff x="1980720" y="3962520"/>
            <a:chExt cx="2210040" cy="307080"/>
          </a:xfrm>
        </p:grpSpPr>
        <p:sp>
          <p:nvSpPr>
            <p:cNvPr id="272" name=""/>
            <p:cNvSpPr/>
            <p:nvPr/>
          </p:nvSpPr>
          <p:spPr>
            <a:xfrm flipH="1">
              <a:off x="1980720" y="419076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09680" y="39625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 Identity Request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981080" y="4343400"/>
            <a:ext cx="2286000" cy="307080"/>
            <a:chOff x="1981080" y="4343400"/>
            <a:chExt cx="2286000" cy="307080"/>
          </a:xfrm>
        </p:grpSpPr>
        <p:sp>
          <p:nvSpPr>
            <p:cNvPr id="275" name=""/>
            <p:cNvSpPr/>
            <p:nvPr/>
          </p:nvSpPr>
          <p:spPr>
            <a:xfrm>
              <a:off x="1981080" y="45720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34340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 Identity Response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980720" y="4724280"/>
            <a:ext cx="2286360" cy="307080"/>
            <a:chOff x="1980720" y="4724280"/>
            <a:chExt cx="2286360" cy="307080"/>
          </a:xfrm>
        </p:grpSpPr>
        <p:sp>
          <p:nvSpPr>
            <p:cNvPr id="278" name=""/>
            <p:cNvSpPr/>
            <p:nvPr/>
          </p:nvSpPr>
          <p:spPr>
            <a:xfrm flipH="1">
              <a:off x="1980720" y="495288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57400" y="4724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Su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828800" y="3200400"/>
            <a:ext cx="2590920" cy="307080"/>
            <a:chOff x="1828800" y="3200400"/>
            <a:chExt cx="2590920" cy="307080"/>
          </a:xfrm>
        </p:grpSpPr>
        <p:sp>
          <p:nvSpPr>
            <p:cNvPr id="281" name=""/>
            <p:cNvSpPr/>
            <p:nvPr/>
          </p:nvSpPr>
          <p:spPr>
            <a:xfrm>
              <a:off x="1981080" y="350496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28800" y="32004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Key (AP_REQ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980720" y="3581280"/>
            <a:ext cx="2286360" cy="307080"/>
            <a:chOff x="1980720" y="3581280"/>
            <a:chExt cx="2286360" cy="307080"/>
          </a:xfrm>
        </p:grpSpPr>
        <p:sp>
          <p:nvSpPr>
            <p:cNvPr id="284" name=""/>
            <p:cNvSpPr/>
            <p:nvPr/>
          </p:nvSpPr>
          <p:spPr>
            <a:xfrm flipH="1">
              <a:off x="1980720" y="380988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57400" y="3581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Key (AP_RE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343400" y="1371600"/>
            <a:ext cx="609480" cy="923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7440480" y="1447920"/>
            <a:ext cx="789120" cy="8366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4572000" y="1752480"/>
            <a:ext cx="2941560" cy="76320"/>
          </a:xfrm>
          <a:custGeom>
            <a:avLst/>
            <a:gdLst/>
            <a:ahLst/>
            <a:rect l="l" t="t" r="r" b="b"/>
            <a:pathLst>
              <a:path w="1999" h="73">
                <a:moveTo>
                  <a:pt x="0" y="73"/>
                </a:moveTo>
                <a:lnTo>
                  <a:pt x="0" y="0"/>
                </a:lnTo>
                <a:lnTo>
                  <a:pt x="1999" y="0"/>
                </a:lnTo>
              </a:path>
            </a:pathLst>
          </a:custGeom>
          <a:noFill/>
          <a:ln w="25560">
            <a:solidFill>
              <a:srgbClr val="ff66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1905120"/>
            <a:ext cx="2514600" cy="1522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227016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1965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01000" y="2133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5050"/>
                </a:solidFill>
                <a:uFillTx/>
                <a:latin typeface="Times New Roman"/>
              </a:rPr>
              <a:t>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95680" y="46483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802.1X is Unb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35812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802.11  is Unb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981080" y="2438280"/>
            <a:ext cx="2286000" cy="459000"/>
            <a:chOff x="1981080" y="2438280"/>
            <a:chExt cx="2286000" cy="459000"/>
          </a:xfrm>
        </p:grpSpPr>
        <p:sp>
          <p:nvSpPr>
            <p:cNvPr id="297" name=""/>
            <p:cNvSpPr/>
            <p:nvPr/>
          </p:nvSpPr>
          <p:spPr>
            <a:xfrm>
              <a:off x="1981080" y="266688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86000" y="24382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robe Request/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CA11-6CC9-4CFD-A335-F3BEE80CAD6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aming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the STA discover the AP realm, principal na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m, Principal name placed in Probe Response if asked for by the 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the AP obtain the authorizations for the supplican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ntact RADIUS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s an extra roundtr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authorization-only message in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ct with backend server undesi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rberos tickets are reusable, don’t require KDC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US server typically unable to validate the AP_REQ, since it won’t have access to the AP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ing backend server contact reduces 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izations included in Authorization data of AP ti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zations obtained by KDC from RADIUS server on initial contact and plumbed by the AP on ticket/authenticator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C75-F343-4801-BC14-04A48B7C839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US Top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219320" y="4638600"/>
            <a:ext cx="758520" cy="619200"/>
            <a:chOff x="1219320" y="4638600"/>
            <a:chExt cx="758520" cy="619200"/>
          </a:xfrm>
        </p:grpSpPr>
        <p:grpSp>
          <p:nvGrpSpPr>
            <p:cNvPr id="303" name=""/>
            <p:cNvGrpSpPr/>
            <p:nvPr/>
          </p:nvGrpSpPr>
          <p:grpSpPr>
            <a:xfrm>
              <a:off x="1219320" y="4638600"/>
              <a:ext cx="758520" cy="619200"/>
              <a:chOff x="1219320" y="4638600"/>
              <a:chExt cx="758520" cy="619200"/>
            </a:xfrm>
          </p:grpSpPr>
          <p:sp>
            <p:nvSpPr>
              <p:cNvPr id="304" name=""/>
              <p:cNvSpPr/>
              <p:nvPr/>
            </p:nvSpPr>
            <p:spPr>
              <a:xfrm>
                <a:off x="1222200" y="4680000"/>
                <a:ext cx="88920" cy="357120"/>
              </a:xfrm>
              <a:custGeom>
                <a:avLst/>
                <a:gdLst/>
                <a:ahLst/>
                <a:rect l="l" t="t" r="r" b="b"/>
                <a:pathLst>
                  <a:path w="56" h="225">
                    <a:moveTo>
                      <a:pt x="52" y="10"/>
                    </a:moveTo>
                    <a:lnTo>
                      <a:pt x="55" y="224"/>
                    </a:lnTo>
                    <a:lnTo>
                      <a:pt x="0" y="142"/>
                    </a:lnTo>
                    <a:lnTo>
                      <a:pt x="0" y="0"/>
                    </a:lnTo>
                    <a:lnTo>
                      <a:pt x="52" y="10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219320" y="4680000"/>
                <a:ext cx="412560" cy="27000"/>
              </a:xfrm>
              <a:custGeom>
                <a:avLst/>
                <a:gdLst/>
                <a:ahLst/>
                <a:rect l="l" t="t" r="r" b="b"/>
                <a:pathLst>
                  <a:path w="260" h="17">
                    <a:moveTo>
                      <a:pt x="259" y="16"/>
                    </a:moveTo>
                    <a:lnTo>
                      <a:pt x="53" y="16"/>
                    </a:lnTo>
                    <a:lnTo>
                      <a:pt x="0" y="0"/>
                    </a:lnTo>
                    <a:lnTo>
                      <a:pt x="202" y="0"/>
                    </a:lnTo>
                    <a:lnTo>
                      <a:pt x="259" y="16"/>
                    </a:lnTo>
                  </a:path>
                </a:pathLst>
              </a:custGeom>
              <a:solidFill>
                <a:srgbClr val="e9e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86000" y="5094360"/>
                <a:ext cx="396720" cy="34920"/>
              </a:xfrm>
              <a:custGeom>
                <a:avLst/>
                <a:gdLst/>
                <a:ahLst/>
                <a:rect l="l" t="t" r="r" b="b"/>
                <a:pathLst>
                  <a:path w="250" h="22">
                    <a:moveTo>
                      <a:pt x="0" y="21"/>
                    </a:moveTo>
                    <a:lnTo>
                      <a:pt x="249" y="21"/>
                    </a:lnTo>
                    <a:lnTo>
                      <a:pt x="249" y="0"/>
                    </a:lnTo>
                    <a:lnTo>
                      <a:pt x="0" y="0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314360" y="5024520"/>
                <a:ext cx="459000" cy="74520"/>
              </a:xfrm>
              <a:custGeom>
                <a:avLst/>
                <a:gdLst/>
                <a:ahLst/>
                <a:rect l="l" t="t" r="r" b="b"/>
                <a:pathLst>
                  <a:path w="289" h="47">
                    <a:moveTo>
                      <a:pt x="288" y="46"/>
                    </a:moveTo>
                    <a:lnTo>
                      <a:pt x="49" y="46"/>
                    </a:lnTo>
                    <a:lnTo>
                      <a:pt x="0" y="0"/>
                    </a:lnTo>
                    <a:lnTo>
                      <a:pt x="238" y="0"/>
                    </a:lnTo>
                    <a:lnTo>
                      <a:pt x="288" y="46"/>
                    </a:lnTo>
                  </a:path>
                </a:pathLst>
              </a:custGeom>
              <a:solidFill>
                <a:srgbClr val="e9e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316160" y="5021280"/>
                <a:ext cx="82440" cy="114480"/>
              </a:xfrm>
              <a:custGeom>
                <a:avLst/>
                <a:gdLst/>
                <a:ahLst/>
                <a:rect l="l" t="t" r="r" b="b"/>
                <a:pathLst>
                  <a:path w="52" h="72">
                    <a:moveTo>
                      <a:pt x="51" y="46"/>
                    </a:moveTo>
                    <a:lnTo>
                      <a:pt x="51" y="7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51" y="46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278000" y="4638600"/>
                <a:ext cx="527040" cy="58680"/>
              </a:xfrm>
              <a:custGeom>
                <a:avLst/>
                <a:gdLst/>
                <a:ahLst/>
                <a:rect l="l" t="t" r="r" b="b"/>
                <a:pathLst>
                  <a:path w="332" h="37">
                    <a:moveTo>
                      <a:pt x="331" y="36"/>
                    </a:moveTo>
                    <a:lnTo>
                      <a:pt x="35" y="36"/>
                    </a:lnTo>
                    <a:lnTo>
                      <a:pt x="0" y="0"/>
                    </a:lnTo>
                    <a:lnTo>
                      <a:pt x="291" y="0"/>
                    </a:lnTo>
                    <a:lnTo>
                      <a:pt x="331" y="3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79440" y="4638600"/>
                <a:ext cx="58680" cy="432000"/>
              </a:xfrm>
              <a:custGeom>
                <a:avLst/>
                <a:gdLst/>
                <a:ahLst/>
                <a:rect l="l" t="t" r="r" b="b"/>
                <a:pathLst>
                  <a:path w="37" h="272">
                    <a:moveTo>
                      <a:pt x="36" y="31"/>
                    </a:moveTo>
                    <a:lnTo>
                      <a:pt x="36" y="271"/>
                    </a:lnTo>
                    <a:lnTo>
                      <a:pt x="0" y="236"/>
                    </a:lnTo>
                    <a:lnTo>
                      <a:pt x="0" y="0"/>
                    </a:lnTo>
                    <a:lnTo>
                      <a:pt x="36" y="31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32000" y="4691160"/>
                <a:ext cx="469800" cy="379440"/>
              </a:xfrm>
              <a:custGeom>
                <a:avLst/>
                <a:gdLst/>
                <a:ahLst/>
                <a:rect l="l" t="t" r="r" b="b"/>
                <a:pathLst>
                  <a:path w="296" h="239">
                    <a:moveTo>
                      <a:pt x="0" y="238"/>
                    </a:moveTo>
                    <a:lnTo>
                      <a:pt x="295" y="238"/>
                    </a:lnTo>
                    <a:lnTo>
                      <a:pt x="295" y="0"/>
                    </a:lnTo>
                    <a:lnTo>
                      <a:pt x="0" y="0"/>
                    </a:lnTo>
                    <a:lnTo>
                      <a:pt x="0" y="238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220760" y="5106960"/>
                <a:ext cx="95400" cy="150840"/>
              </a:xfrm>
              <a:custGeom>
                <a:avLst/>
                <a:gdLst/>
                <a:ahLst/>
                <a:rect l="l" t="t" r="r" b="b"/>
                <a:pathLst>
                  <a:path w="60" h="95">
                    <a:moveTo>
                      <a:pt x="59" y="75"/>
                    </a:moveTo>
                    <a:lnTo>
                      <a:pt x="59" y="9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59" y="75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309680" y="5224320"/>
                <a:ext cx="668160" cy="30240"/>
              </a:xfrm>
              <a:custGeom>
                <a:avLst/>
                <a:gdLst/>
                <a:ahLst/>
                <a:rect l="l" t="t" r="r" b="b"/>
                <a:pathLst>
                  <a:path w="421" h="19">
                    <a:moveTo>
                      <a:pt x="0" y="18"/>
                    </a:moveTo>
                    <a:lnTo>
                      <a:pt x="420" y="18"/>
                    </a:lnTo>
                    <a:lnTo>
                      <a:pt x="420" y="0"/>
                    </a:lnTo>
                    <a:lnTo>
                      <a:pt x="0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1384200" y="4729320"/>
                <a:ext cx="373320" cy="295200"/>
                <a:chOff x="1384200" y="4729320"/>
                <a:chExt cx="373320" cy="2952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1384200" y="4732200"/>
                  <a:ext cx="373320" cy="289080"/>
                </a:xfrm>
                <a:custGeom>
                  <a:avLst/>
                  <a:gdLst/>
                  <a:ahLst/>
                  <a:rect l="l" t="t" r="r" b="b"/>
                  <a:pathLst>
                    <a:path w="235" h="182">
                      <a:moveTo>
                        <a:pt x="0" y="0"/>
                      </a:moveTo>
                      <a:lnTo>
                        <a:pt x="234" y="181"/>
                      </a:lnTo>
                      <a:lnTo>
                        <a:pt x="0" y="18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384200" y="4729320"/>
                  <a:ext cx="373320" cy="295200"/>
                </a:xfrm>
                <a:custGeom>
                  <a:avLst/>
                  <a:gdLst/>
                  <a:ahLst/>
                  <a:rect l="l" t="t" r="r" b="b"/>
                  <a:pathLst>
                    <a:path w="235" h="186">
                      <a:moveTo>
                        <a:pt x="0" y="0"/>
                      </a:moveTo>
                      <a:lnTo>
                        <a:pt x="234" y="0"/>
                      </a:lnTo>
                      <a:lnTo>
                        <a:pt x="234" y="18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59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>
                <a:off x="1219320" y="5110200"/>
                <a:ext cx="757080" cy="120600"/>
              </a:xfrm>
              <a:custGeom>
                <a:avLst/>
                <a:gdLst/>
                <a:ahLst/>
                <a:rect l="l" t="t" r="r" b="b"/>
                <a:pathLst>
                  <a:path w="477" h="76">
                    <a:moveTo>
                      <a:pt x="476" y="75"/>
                    </a:moveTo>
                    <a:lnTo>
                      <a:pt x="56" y="75"/>
                    </a:lnTo>
                    <a:lnTo>
                      <a:pt x="0" y="0"/>
                    </a:lnTo>
                    <a:lnTo>
                      <a:pt x="418" y="0"/>
                    </a:lnTo>
                    <a:lnTo>
                      <a:pt x="476" y="75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278000" y="4643640"/>
                <a:ext cx="0" cy="37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400040" y="4743360"/>
              <a:ext cx="341280" cy="266760"/>
            </a:xfrm>
            <a:custGeom>
              <a:avLst/>
              <a:gdLst/>
              <a:ahLst/>
              <a:rect l="l" t="t" r="r" b="b"/>
              <a:pathLst>
                <a:path w="215" h="168">
                  <a:moveTo>
                    <a:pt x="0" y="167"/>
                  </a:moveTo>
                  <a:lnTo>
                    <a:pt x="214" y="167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0" y="167"/>
                  </a:lnTo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77777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038480" y="3537000"/>
            <a:ext cx="1074600" cy="425520"/>
            <a:chOff x="4038480" y="3537000"/>
            <a:chExt cx="1074600" cy="425520"/>
          </a:xfrm>
        </p:grpSpPr>
        <p:grpSp>
          <p:nvGrpSpPr>
            <p:cNvPr id="321" name=""/>
            <p:cNvGrpSpPr/>
            <p:nvPr/>
          </p:nvGrpSpPr>
          <p:grpSpPr>
            <a:xfrm>
              <a:off x="4038480" y="3537000"/>
              <a:ext cx="1074600" cy="425520"/>
              <a:chOff x="4038480" y="3537000"/>
              <a:chExt cx="1074600" cy="425520"/>
            </a:xfrm>
          </p:grpSpPr>
          <p:sp>
            <p:nvSpPr>
              <p:cNvPr id="322" name=""/>
              <p:cNvSpPr/>
              <p:nvPr/>
            </p:nvSpPr>
            <p:spPr>
              <a:xfrm>
                <a:off x="4038480" y="3537000"/>
                <a:ext cx="77760" cy="425520"/>
              </a:xfrm>
              <a:custGeom>
                <a:avLst/>
                <a:gdLst/>
                <a:ahLst/>
                <a:rect l="l" t="t" r="r" b="b"/>
                <a:pathLst>
                  <a:path w="49" h="268">
                    <a:moveTo>
                      <a:pt x="48" y="92"/>
                    </a:moveTo>
                    <a:lnTo>
                      <a:pt x="48" y="267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48" y="92"/>
                    </a:lnTo>
                  </a:path>
                </a:pathLst>
              </a:custGeom>
              <a:solidFill>
                <a:srgbClr val="716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109760" y="3699000"/>
                <a:ext cx="1000080" cy="249120"/>
              </a:xfrm>
              <a:custGeom>
                <a:avLst/>
                <a:gdLst/>
                <a:ahLst/>
                <a:rect l="l" t="t" r="r" b="b"/>
                <a:pathLst>
                  <a:path w="630" h="157">
                    <a:moveTo>
                      <a:pt x="0" y="156"/>
                    </a:moveTo>
                    <a:lnTo>
                      <a:pt x="629" y="156"/>
                    </a:lnTo>
                    <a:lnTo>
                      <a:pt x="629" y="0"/>
                    </a:lnTo>
                    <a:lnTo>
                      <a:pt x="0" y="0"/>
                    </a:lnTo>
                    <a:lnTo>
                      <a:pt x="0" y="15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8100000"/>
              </a:gradFill>
              <a:ln cap="rnd" w="12600">
                <a:solidFill>
                  <a:srgbClr val="86868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046400" y="3543480"/>
                <a:ext cx="1066680" cy="153720"/>
              </a:xfrm>
              <a:custGeom>
                <a:avLst/>
                <a:gdLst/>
                <a:ahLst/>
                <a:rect l="l" t="t" r="r" b="b"/>
                <a:pathLst>
                  <a:path w="672" h="97">
                    <a:moveTo>
                      <a:pt x="671" y="96"/>
                    </a:moveTo>
                    <a:lnTo>
                      <a:pt x="40" y="96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71" y="9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13500000"/>
              </a:gradFill>
              <a:ln cap="rnd" w="12600">
                <a:solidFill>
                  <a:srgbClr val="86868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144680" y="3776760"/>
                <a:ext cx="168120" cy="66600"/>
              </a:xfrm>
              <a:custGeom>
                <a:avLst/>
                <a:gdLst/>
                <a:ahLst/>
                <a:rect l="l" t="t" r="r" b="b"/>
                <a:pathLst>
                  <a:path w="106" h="42">
                    <a:moveTo>
                      <a:pt x="0" y="0"/>
                    </a:moveTo>
                    <a:lnTo>
                      <a:pt x="105" y="0"/>
                    </a:lnTo>
                    <a:lnTo>
                      <a:pt x="105" y="41"/>
                    </a:lnTo>
                    <a:lnTo>
                      <a:pt x="0" y="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032080" y="3745080"/>
                <a:ext cx="50760" cy="88920"/>
              </a:xfrm>
              <a:custGeom>
                <a:avLst/>
                <a:gdLst/>
                <a:ahLst/>
                <a:rect l="l" t="t" r="r" b="b"/>
                <a:pathLst>
                  <a:path w="32" h="56">
                    <a:moveTo>
                      <a:pt x="0" y="0"/>
                    </a:moveTo>
                    <a:lnTo>
                      <a:pt x="31" y="0"/>
                    </a:lnTo>
                    <a:lnTo>
                      <a:pt x="31" y="55"/>
                    </a:lnTo>
                    <a:lnTo>
                      <a:pt x="0" y="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6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27240" y="3848040"/>
                <a:ext cx="268200" cy="60480"/>
              </a:xfrm>
              <a:prstGeom prst="rect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4143240" y="3855960"/>
                <a:ext cx="645840" cy="57240"/>
                <a:chOff x="4143240" y="3855960"/>
                <a:chExt cx="645840" cy="572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143240" y="3855960"/>
                  <a:ext cx="298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21920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296960" y="3855960"/>
                  <a:ext cx="2880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371840" y="3855960"/>
                  <a:ext cx="3312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44960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52736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603320" y="3855960"/>
                  <a:ext cx="334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682880" y="3855960"/>
                  <a:ext cx="3024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759200" y="3855960"/>
                  <a:ext cx="298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8" name=""/>
            <p:cNvSpPr/>
            <p:nvPr/>
          </p:nvSpPr>
          <p:spPr>
            <a:xfrm>
              <a:off x="4190760" y="3711600"/>
              <a:ext cx="844560" cy="192240"/>
            </a:xfrm>
            <a:prstGeom prst="roundRect">
              <a:avLst>
                <a:gd name="adj" fmla="val 1249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114800" y="4114800"/>
            <a:ext cx="17845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ent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.g. Access Po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53244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ic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91120" y="205740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43360" y="2057400"/>
            <a:ext cx="2190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79480" y="2057400"/>
            <a:ext cx="24465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mi-Public Network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29320" y="3598920"/>
            <a:ext cx="14716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entication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7273800" y="2286000"/>
            <a:ext cx="345960" cy="812520"/>
            <a:chOff x="7273800" y="2286000"/>
            <a:chExt cx="345960" cy="812520"/>
          </a:xfrm>
        </p:grpSpPr>
        <p:sp>
          <p:nvSpPr>
            <p:cNvPr id="346" name=""/>
            <p:cNvSpPr/>
            <p:nvPr/>
          </p:nvSpPr>
          <p:spPr>
            <a:xfrm>
              <a:off x="7273800" y="2289240"/>
              <a:ext cx="83880" cy="803160"/>
            </a:xfrm>
            <a:custGeom>
              <a:avLst/>
              <a:gdLst/>
              <a:ahLst/>
              <a:rect l="l" t="t" r="r" b="b"/>
              <a:pathLst>
                <a:path w="53" h="506">
                  <a:moveTo>
                    <a:pt x="52" y="41"/>
                  </a:moveTo>
                  <a:lnTo>
                    <a:pt x="52" y="505"/>
                  </a:lnTo>
                  <a:lnTo>
                    <a:pt x="0" y="463"/>
                  </a:lnTo>
                  <a:lnTo>
                    <a:pt x="0" y="0"/>
                  </a:lnTo>
                  <a:lnTo>
                    <a:pt x="52" y="41"/>
                  </a:lnTo>
                </a:path>
              </a:pathLst>
            </a:custGeom>
            <a:solidFill>
              <a:srgbClr val="7d7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56240" y="2351160"/>
              <a:ext cx="263520" cy="747360"/>
            </a:xfrm>
            <a:custGeom>
              <a:avLst/>
              <a:gdLst/>
              <a:ahLst/>
              <a:rect l="l" t="t" r="r" b="b"/>
              <a:pathLst>
                <a:path w="166" h="471">
                  <a:moveTo>
                    <a:pt x="0" y="470"/>
                  </a:moveTo>
                  <a:lnTo>
                    <a:pt x="165" y="470"/>
                  </a:lnTo>
                  <a:lnTo>
                    <a:pt x="165" y="0"/>
                  </a:lnTo>
                  <a:lnTo>
                    <a:pt x="0" y="0"/>
                  </a:lnTo>
                  <a:lnTo>
                    <a:pt x="0" y="470"/>
                  </a:lnTo>
                </a:path>
              </a:pathLst>
            </a:custGeom>
            <a:gradFill rotWithShape="0">
              <a:gsLst>
                <a:gs pos="0">
                  <a:srgbClr val="d6d6d1"/>
                </a:gs>
                <a:gs pos="100000">
                  <a:srgbClr val="7d7c6b"/>
                </a:gs>
              </a:gsLst>
              <a:lin ang="8100000"/>
            </a:gradFill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7836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3876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88000" y="301464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441920" y="301464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39908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79920" y="2286000"/>
              <a:ext cx="339840" cy="71280"/>
            </a:xfrm>
            <a:custGeom>
              <a:avLst/>
              <a:gdLst/>
              <a:ahLst/>
              <a:rect l="l" t="t" r="r" b="b"/>
              <a:pathLst>
                <a:path w="214" h="45">
                  <a:moveTo>
                    <a:pt x="213" y="44"/>
                  </a:moveTo>
                  <a:lnTo>
                    <a:pt x="47" y="44"/>
                  </a:lnTo>
                  <a:lnTo>
                    <a:pt x="0" y="0"/>
                  </a:lnTo>
                  <a:lnTo>
                    <a:pt x="165" y="0"/>
                  </a:lnTo>
                  <a:lnTo>
                    <a:pt x="213" y="44"/>
                  </a:lnTo>
                </a:path>
              </a:pathLst>
            </a:custGeom>
            <a:gradFill rotWithShape="0">
              <a:gsLst>
                <a:gs pos="0">
                  <a:srgbClr val="d6d6d1"/>
                </a:gs>
                <a:gs pos="100000">
                  <a:srgbClr val="7d7c6b"/>
                </a:gs>
              </a:gsLst>
              <a:lin ang="13500000"/>
            </a:gradFill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7381440" y="2419200"/>
              <a:ext cx="98640" cy="190440"/>
              <a:chOff x="7381440" y="2419200"/>
              <a:chExt cx="98640" cy="19044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7386480" y="2423880"/>
                <a:ext cx="93600" cy="185760"/>
                <a:chOff x="7386480" y="2423880"/>
                <a:chExt cx="93600" cy="18576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7386480" y="2423880"/>
                  <a:ext cx="93600" cy="185760"/>
                </a:xfrm>
                <a:custGeom>
                  <a:avLst/>
                  <a:gdLst/>
                  <a:ahLst/>
                  <a:rect l="l" t="t" r="r" b="b"/>
                  <a:pathLst>
                    <a:path w="59" h="117">
                      <a:moveTo>
                        <a:pt x="0" y="116"/>
                      </a:moveTo>
                      <a:lnTo>
                        <a:pt x="58" y="116"/>
                      </a:ln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116"/>
                      </a:lnTo>
                    </a:path>
                  </a:pathLst>
                </a:cu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386480" y="2423880"/>
                  <a:ext cx="93600" cy="185760"/>
                </a:xfrm>
                <a:custGeom>
                  <a:avLst/>
                  <a:gdLst/>
                  <a:ahLst/>
                  <a:rect l="l" t="t" r="r" b="b"/>
                  <a:pathLst>
                    <a:path w="59" h="117">
                      <a:moveTo>
                        <a:pt x="0" y="116"/>
                      </a:moveTo>
                      <a:lnTo>
                        <a:pt x="58" y="116"/>
                      </a:ln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116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7381440" y="2419200"/>
                <a:ext cx="98640" cy="190440"/>
                <a:chOff x="7381440" y="2419200"/>
                <a:chExt cx="98640" cy="19044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7381440" y="2419200"/>
                  <a:ext cx="98640" cy="190440"/>
                </a:xfrm>
                <a:custGeom>
                  <a:avLst/>
                  <a:gdLst/>
                  <a:ahLst/>
                  <a:rect l="l" t="t" r="r" b="b"/>
                  <a:pathLst>
                    <a:path w="62" h="120">
                      <a:moveTo>
                        <a:pt x="0" y="119"/>
                      </a:moveTo>
                      <a:lnTo>
                        <a:pt x="61" y="119"/>
                      </a:ln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19"/>
                      </a:lnTo>
                    </a:path>
                  </a:pathLst>
                </a:cu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381440" y="2419200"/>
                  <a:ext cx="98640" cy="190440"/>
                </a:xfrm>
                <a:custGeom>
                  <a:avLst/>
                  <a:gdLst/>
                  <a:ahLst/>
                  <a:rect l="l" t="t" r="r" b="b"/>
                  <a:pathLst>
                    <a:path w="62" h="120">
                      <a:moveTo>
                        <a:pt x="0" y="119"/>
                      </a:moveTo>
                      <a:lnTo>
                        <a:pt x="61" y="119"/>
                      </a:ln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19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1" name=""/>
            <p:cNvSpPr/>
            <p:nvPr/>
          </p:nvSpPr>
          <p:spPr>
            <a:xfrm>
              <a:off x="7356240" y="265104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56240" y="268272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60920" y="2954160"/>
              <a:ext cx="25704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56240" y="301464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248520" y="3048120"/>
            <a:ext cx="865080" cy="279360"/>
            <a:chOff x="6248520" y="3048120"/>
            <a:chExt cx="865080" cy="279360"/>
          </a:xfrm>
        </p:grpSpPr>
        <p:grpSp>
          <p:nvGrpSpPr>
            <p:cNvPr id="366" name=""/>
            <p:cNvGrpSpPr/>
            <p:nvPr/>
          </p:nvGrpSpPr>
          <p:grpSpPr>
            <a:xfrm>
              <a:off x="6248520" y="3048120"/>
              <a:ext cx="865080" cy="279360"/>
              <a:chOff x="6248520" y="3048120"/>
              <a:chExt cx="865080" cy="279360"/>
            </a:xfrm>
          </p:grpSpPr>
          <p:sp>
            <p:nvSpPr>
              <p:cNvPr id="367" name=""/>
              <p:cNvSpPr/>
              <p:nvPr/>
            </p:nvSpPr>
            <p:spPr>
              <a:xfrm flipV="1">
                <a:off x="6629400" y="3048120"/>
                <a:ext cx="484200" cy="27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6248520" y="3098520"/>
                <a:ext cx="5335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 flipH="1">
              <a:off x="6629400" y="3098880"/>
              <a:ext cx="1526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V="1">
            <a:off x="1752480" y="3809520"/>
            <a:ext cx="2133720" cy="685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029200" y="2666520"/>
            <a:ext cx="1981080" cy="838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37280" y="2286000"/>
            <a:ext cx="2016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20505000">
            <a:off x="1500120" y="3695400"/>
            <a:ext cx="332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P Over Wireless (EAPO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0350800">
            <a:off x="4952520" y="2819160"/>
            <a:ext cx="183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P Over RADI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105520" y="3429000"/>
            <a:ext cx="865080" cy="279360"/>
            <a:chOff x="5105520" y="3429000"/>
            <a:chExt cx="865080" cy="279360"/>
          </a:xfrm>
        </p:grpSpPr>
        <p:grpSp>
          <p:nvGrpSpPr>
            <p:cNvPr id="376" name=""/>
            <p:cNvGrpSpPr/>
            <p:nvPr/>
          </p:nvGrpSpPr>
          <p:grpSpPr>
            <a:xfrm>
              <a:off x="5105520" y="3429000"/>
              <a:ext cx="865080" cy="279360"/>
              <a:chOff x="5105520" y="3429000"/>
              <a:chExt cx="865080" cy="279360"/>
            </a:xfrm>
          </p:grpSpPr>
          <p:sp>
            <p:nvSpPr>
              <p:cNvPr id="377" name=""/>
              <p:cNvSpPr/>
              <p:nvPr/>
            </p:nvSpPr>
            <p:spPr>
              <a:xfrm flipV="1">
                <a:off x="5486400" y="3429000"/>
                <a:ext cx="484200" cy="27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5105520" y="3479400"/>
                <a:ext cx="5335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 flipH="1">
              <a:off x="5486400" y="3479760"/>
              <a:ext cx="1526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715000" y="3200400"/>
            <a:ext cx="762120" cy="457200"/>
          </a:xfrm>
          <a:prstGeom prst="cloudCallout">
            <a:avLst>
              <a:gd name="adj1" fmla="val 8541"/>
              <a:gd name="adj2" fmla="val 36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19320" y="472428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91120" y="365760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28800" y="4038480"/>
            <a:ext cx="2286000" cy="76212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480"/>
                </a:moveTo>
                <a:lnTo>
                  <a:pt x="796" y="187"/>
                </a:lnTo>
                <a:lnTo>
                  <a:pt x="672" y="331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E877-BD95-4622-8760-F94244DE6B7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 Top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219320" y="4638600"/>
            <a:ext cx="758520" cy="619200"/>
            <a:chOff x="1219320" y="4638600"/>
            <a:chExt cx="758520" cy="619200"/>
          </a:xfrm>
        </p:grpSpPr>
        <p:grpSp>
          <p:nvGrpSpPr>
            <p:cNvPr id="386" name=""/>
            <p:cNvGrpSpPr/>
            <p:nvPr/>
          </p:nvGrpSpPr>
          <p:grpSpPr>
            <a:xfrm>
              <a:off x="1219320" y="4638600"/>
              <a:ext cx="758520" cy="619200"/>
              <a:chOff x="1219320" y="4638600"/>
              <a:chExt cx="758520" cy="619200"/>
            </a:xfrm>
          </p:grpSpPr>
          <p:sp>
            <p:nvSpPr>
              <p:cNvPr id="387" name=""/>
              <p:cNvSpPr/>
              <p:nvPr/>
            </p:nvSpPr>
            <p:spPr>
              <a:xfrm>
                <a:off x="1222200" y="4680000"/>
                <a:ext cx="88920" cy="357120"/>
              </a:xfrm>
              <a:custGeom>
                <a:avLst/>
                <a:gdLst/>
                <a:ahLst/>
                <a:rect l="l" t="t" r="r" b="b"/>
                <a:pathLst>
                  <a:path w="56" h="225">
                    <a:moveTo>
                      <a:pt x="52" y="10"/>
                    </a:moveTo>
                    <a:lnTo>
                      <a:pt x="55" y="224"/>
                    </a:lnTo>
                    <a:lnTo>
                      <a:pt x="0" y="142"/>
                    </a:lnTo>
                    <a:lnTo>
                      <a:pt x="0" y="0"/>
                    </a:lnTo>
                    <a:lnTo>
                      <a:pt x="52" y="10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219320" y="4680000"/>
                <a:ext cx="412560" cy="27000"/>
              </a:xfrm>
              <a:custGeom>
                <a:avLst/>
                <a:gdLst/>
                <a:ahLst/>
                <a:rect l="l" t="t" r="r" b="b"/>
                <a:pathLst>
                  <a:path w="260" h="17">
                    <a:moveTo>
                      <a:pt x="259" y="16"/>
                    </a:moveTo>
                    <a:lnTo>
                      <a:pt x="53" y="16"/>
                    </a:lnTo>
                    <a:lnTo>
                      <a:pt x="0" y="0"/>
                    </a:lnTo>
                    <a:lnTo>
                      <a:pt x="202" y="0"/>
                    </a:lnTo>
                    <a:lnTo>
                      <a:pt x="259" y="16"/>
                    </a:lnTo>
                  </a:path>
                </a:pathLst>
              </a:custGeom>
              <a:solidFill>
                <a:srgbClr val="e9e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386000" y="5094360"/>
                <a:ext cx="396720" cy="34920"/>
              </a:xfrm>
              <a:custGeom>
                <a:avLst/>
                <a:gdLst/>
                <a:ahLst/>
                <a:rect l="l" t="t" r="r" b="b"/>
                <a:pathLst>
                  <a:path w="250" h="22">
                    <a:moveTo>
                      <a:pt x="0" y="21"/>
                    </a:moveTo>
                    <a:lnTo>
                      <a:pt x="249" y="21"/>
                    </a:lnTo>
                    <a:lnTo>
                      <a:pt x="249" y="0"/>
                    </a:lnTo>
                    <a:lnTo>
                      <a:pt x="0" y="0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14360" y="5024520"/>
                <a:ext cx="459000" cy="74520"/>
              </a:xfrm>
              <a:custGeom>
                <a:avLst/>
                <a:gdLst/>
                <a:ahLst/>
                <a:rect l="l" t="t" r="r" b="b"/>
                <a:pathLst>
                  <a:path w="289" h="47">
                    <a:moveTo>
                      <a:pt x="288" y="46"/>
                    </a:moveTo>
                    <a:lnTo>
                      <a:pt x="49" y="46"/>
                    </a:lnTo>
                    <a:lnTo>
                      <a:pt x="0" y="0"/>
                    </a:lnTo>
                    <a:lnTo>
                      <a:pt x="238" y="0"/>
                    </a:lnTo>
                    <a:lnTo>
                      <a:pt x="288" y="46"/>
                    </a:lnTo>
                  </a:path>
                </a:pathLst>
              </a:custGeom>
              <a:solidFill>
                <a:srgbClr val="e9e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16160" y="5021280"/>
                <a:ext cx="82440" cy="114480"/>
              </a:xfrm>
              <a:custGeom>
                <a:avLst/>
                <a:gdLst/>
                <a:ahLst/>
                <a:rect l="l" t="t" r="r" b="b"/>
                <a:pathLst>
                  <a:path w="52" h="72">
                    <a:moveTo>
                      <a:pt x="51" y="46"/>
                    </a:moveTo>
                    <a:lnTo>
                      <a:pt x="51" y="7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51" y="46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278000" y="4638600"/>
                <a:ext cx="527040" cy="58680"/>
              </a:xfrm>
              <a:custGeom>
                <a:avLst/>
                <a:gdLst/>
                <a:ahLst/>
                <a:rect l="l" t="t" r="r" b="b"/>
                <a:pathLst>
                  <a:path w="332" h="37">
                    <a:moveTo>
                      <a:pt x="331" y="36"/>
                    </a:moveTo>
                    <a:lnTo>
                      <a:pt x="35" y="36"/>
                    </a:lnTo>
                    <a:lnTo>
                      <a:pt x="0" y="0"/>
                    </a:lnTo>
                    <a:lnTo>
                      <a:pt x="291" y="0"/>
                    </a:lnTo>
                    <a:lnTo>
                      <a:pt x="331" y="3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279440" y="4638600"/>
                <a:ext cx="58680" cy="432000"/>
              </a:xfrm>
              <a:custGeom>
                <a:avLst/>
                <a:gdLst/>
                <a:ahLst/>
                <a:rect l="l" t="t" r="r" b="b"/>
                <a:pathLst>
                  <a:path w="37" h="272">
                    <a:moveTo>
                      <a:pt x="36" y="31"/>
                    </a:moveTo>
                    <a:lnTo>
                      <a:pt x="36" y="271"/>
                    </a:lnTo>
                    <a:lnTo>
                      <a:pt x="0" y="236"/>
                    </a:lnTo>
                    <a:lnTo>
                      <a:pt x="0" y="0"/>
                    </a:lnTo>
                    <a:lnTo>
                      <a:pt x="36" y="31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332000" y="4691160"/>
                <a:ext cx="469800" cy="379440"/>
              </a:xfrm>
              <a:custGeom>
                <a:avLst/>
                <a:gdLst/>
                <a:ahLst/>
                <a:rect l="l" t="t" r="r" b="b"/>
                <a:pathLst>
                  <a:path w="296" h="239">
                    <a:moveTo>
                      <a:pt x="0" y="238"/>
                    </a:moveTo>
                    <a:lnTo>
                      <a:pt x="295" y="238"/>
                    </a:lnTo>
                    <a:lnTo>
                      <a:pt x="295" y="0"/>
                    </a:lnTo>
                    <a:lnTo>
                      <a:pt x="0" y="0"/>
                    </a:lnTo>
                    <a:lnTo>
                      <a:pt x="0" y="238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220760" y="5106960"/>
                <a:ext cx="95400" cy="150840"/>
              </a:xfrm>
              <a:custGeom>
                <a:avLst/>
                <a:gdLst/>
                <a:ahLst/>
                <a:rect l="l" t="t" r="r" b="b"/>
                <a:pathLst>
                  <a:path w="60" h="95">
                    <a:moveTo>
                      <a:pt x="59" y="75"/>
                    </a:moveTo>
                    <a:lnTo>
                      <a:pt x="59" y="9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59" y="75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309680" y="5224320"/>
                <a:ext cx="668160" cy="30240"/>
              </a:xfrm>
              <a:custGeom>
                <a:avLst/>
                <a:gdLst/>
                <a:ahLst/>
                <a:rect l="l" t="t" r="r" b="b"/>
                <a:pathLst>
                  <a:path w="421" h="19">
                    <a:moveTo>
                      <a:pt x="0" y="18"/>
                    </a:moveTo>
                    <a:lnTo>
                      <a:pt x="420" y="18"/>
                    </a:lnTo>
                    <a:lnTo>
                      <a:pt x="420" y="0"/>
                    </a:lnTo>
                    <a:lnTo>
                      <a:pt x="0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7" name=""/>
              <p:cNvGrpSpPr/>
              <p:nvPr/>
            </p:nvGrpSpPr>
            <p:grpSpPr>
              <a:xfrm>
                <a:off x="1384200" y="4729320"/>
                <a:ext cx="373320" cy="295200"/>
                <a:chOff x="1384200" y="4729320"/>
                <a:chExt cx="373320" cy="29520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1384200" y="4732200"/>
                  <a:ext cx="373320" cy="289080"/>
                </a:xfrm>
                <a:custGeom>
                  <a:avLst/>
                  <a:gdLst/>
                  <a:ahLst/>
                  <a:rect l="l" t="t" r="r" b="b"/>
                  <a:pathLst>
                    <a:path w="235" h="182">
                      <a:moveTo>
                        <a:pt x="0" y="0"/>
                      </a:moveTo>
                      <a:lnTo>
                        <a:pt x="234" y="181"/>
                      </a:lnTo>
                      <a:lnTo>
                        <a:pt x="0" y="18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384200" y="4729320"/>
                  <a:ext cx="373320" cy="295200"/>
                </a:xfrm>
                <a:custGeom>
                  <a:avLst/>
                  <a:gdLst/>
                  <a:ahLst/>
                  <a:rect l="l" t="t" r="r" b="b"/>
                  <a:pathLst>
                    <a:path w="235" h="186">
                      <a:moveTo>
                        <a:pt x="0" y="0"/>
                      </a:moveTo>
                      <a:lnTo>
                        <a:pt x="234" y="0"/>
                      </a:lnTo>
                      <a:lnTo>
                        <a:pt x="234" y="18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59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1219320" y="5110200"/>
                <a:ext cx="757080" cy="120600"/>
              </a:xfrm>
              <a:custGeom>
                <a:avLst/>
                <a:gdLst/>
                <a:ahLst/>
                <a:rect l="l" t="t" r="r" b="b"/>
                <a:pathLst>
                  <a:path w="477" h="76">
                    <a:moveTo>
                      <a:pt x="476" y="75"/>
                    </a:moveTo>
                    <a:lnTo>
                      <a:pt x="56" y="75"/>
                    </a:lnTo>
                    <a:lnTo>
                      <a:pt x="0" y="0"/>
                    </a:lnTo>
                    <a:lnTo>
                      <a:pt x="418" y="0"/>
                    </a:lnTo>
                    <a:lnTo>
                      <a:pt x="476" y="75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78000" y="4643640"/>
                <a:ext cx="0" cy="37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1400040" y="4743360"/>
              <a:ext cx="341280" cy="266760"/>
            </a:xfrm>
            <a:custGeom>
              <a:avLst/>
              <a:gdLst/>
              <a:ahLst/>
              <a:rect l="l" t="t" r="r" b="b"/>
              <a:pathLst>
                <a:path w="215" h="168">
                  <a:moveTo>
                    <a:pt x="0" y="167"/>
                  </a:moveTo>
                  <a:lnTo>
                    <a:pt x="214" y="167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0" y="167"/>
                  </a:lnTo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77777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038480" y="3537000"/>
            <a:ext cx="1074600" cy="425520"/>
            <a:chOff x="4038480" y="3537000"/>
            <a:chExt cx="1074600" cy="425520"/>
          </a:xfrm>
        </p:grpSpPr>
        <p:grpSp>
          <p:nvGrpSpPr>
            <p:cNvPr id="404" name=""/>
            <p:cNvGrpSpPr/>
            <p:nvPr/>
          </p:nvGrpSpPr>
          <p:grpSpPr>
            <a:xfrm>
              <a:off x="4038480" y="3537000"/>
              <a:ext cx="1074600" cy="425520"/>
              <a:chOff x="4038480" y="3537000"/>
              <a:chExt cx="1074600" cy="425520"/>
            </a:xfrm>
          </p:grpSpPr>
          <p:sp>
            <p:nvSpPr>
              <p:cNvPr id="405" name=""/>
              <p:cNvSpPr/>
              <p:nvPr/>
            </p:nvSpPr>
            <p:spPr>
              <a:xfrm>
                <a:off x="4038480" y="3537000"/>
                <a:ext cx="77760" cy="425520"/>
              </a:xfrm>
              <a:custGeom>
                <a:avLst/>
                <a:gdLst/>
                <a:ahLst/>
                <a:rect l="l" t="t" r="r" b="b"/>
                <a:pathLst>
                  <a:path w="49" h="268">
                    <a:moveTo>
                      <a:pt x="48" y="92"/>
                    </a:moveTo>
                    <a:lnTo>
                      <a:pt x="48" y="267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48" y="92"/>
                    </a:lnTo>
                  </a:path>
                </a:pathLst>
              </a:custGeom>
              <a:solidFill>
                <a:srgbClr val="716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109760" y="3699000"/>
                <a:ext cx="1000080" cy="249120"/>
              </a:xfrm>
              <a:custGeom>
                <a:avLst/>
                <a:gdLst/>
                <a:ahLst/>
                <a:rect l="l" t="t" r="r" b="b"/>
                <a:pathLst>
                  <a:path w="630" h="157">
                    <a:moveTo>
                      <a:pt x="0" y="156"/>
                    </a:moveTo>
                    <a:lnTo>
                      <a:pt x="629" y="156"/>
                    </a:lnTo>
                    <a:lnTo>
                      <a:pt x="629" y="0"/>
                    </a:lnTo>
                    <a:lnTo>
                      <a:pt x="0" y="0"/>
                    </a:lnTo>
                    <a:lnTo>
                      <a:pt x="0" y="15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8100000"/>
              </a:gradFill>
              <a:ln cap="rnd" w="12600">
                <a:solidFill>
                  <a:srgbClr val="86868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046400" y="3543480"/>
                <a:ext cx="1066680" cy="153720"/>
              </a:xfrm>
              <a:custGeom>
                <a:avLst/>
                <a:gdLst/>
                <a:ahLst/>
                <a:rect l="l" t="t" r="r" b="b"/>
                <a:pathLst>
                  <a:path w="672" h="97">
                    <a:moveTo>
                      <a:pt x="671" y="96"/>
                    </a:moveTo>
                    <a:lnTo>
                      <a:pt x="40" y="96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71" y="9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13500000"/>
              </a:gradFill>
              <a:ln cap="rnd" w="12600">
                <a:solidFill>
                  <a:srgbClr val="86868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144680" y="3776760"/>
                <a:ext cx="168120" cy="66600"/>
              </a:xfrm>
              <a:custGeom>
                <a:avLst/>
                <a:gdLst/>
                <a:ahLst/>
                <a:rect l="l" t="t" r="r" b="b"/>
                <a:pathLst>
                  <a:path w="106" h="42">
                    <a:moveTo>
                      <a:pt x="0" y="0"/>
                    </a:moveTo>
                    <a:lnTo>
                      <a:pt x="105" y="0"/>
                    </a:lnTo>
                    <a:lnTo>
                      <a:pt x="105" y="41"/>
                    </a:lnTo>
                    <a:lnTo>
                      <a:pt x="0" y="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032080" y="3745080"/>
                <a:ext cx="50760" cy="88920"/>
              </a:xfrm>
              <a:custGeom>
                <a:avLst/>
                <a:gdLst/>
                <a:ahLst/>
                <a:rect l="l" t="t" r="r" b="b"/>
                <a:pathLst>
                  <a:path w="32" h="56">
                    <a:moveTo>
                      <a:pt x="0" y="0"/>
                    </a:moveTo>
                    <a:lnTo>
                      <a:pt x="31" y="0"/>
                    </a:lnTo>
                    <a:lnTo>
                      <a:pt x="31" y="55"/>
                    </a:lnTo>
                    <a:lnTo>
                      <a:pt x="0" y="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6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827240" y="3848040"/>
                <a:ext cx="268200" cy="60480"/>
              </a:xfrm>
              <a:prstGeom prst="rect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4143240" y="3855960"/>
                <a:ext cx="645840" cy="57240"/>
                <a:chOff x="4143240" y="3855960"/>
                <a:chExt cx="645840" cy="57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4143240" y="3855960"/>
                  <a:ext cx="298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1920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296960" y="3855960"/>
                  <a:ext cx="2880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371840" y="3855960"/>
                  <a:ext cx="3312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44960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52736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603320" y="3855960"/>
                  <a:ext cx="334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682880" y="3855960"/>
                  <a:ext cx="3024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759200" y="3855960"/>
                  <a:ext cx="298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1" name=""/>
            <p:cNvSpPr/>
            <p:nvPr/>
          </p:nvSpPr>
          <p:spPr>
            <a:xfrm>
              <a:off x="4190760" y="3711600"/>
              <a:ext cx="844560" cy="192240"/>
            </a:xfrm>
            <a:prstGeom prst="roundRect">
              <a:avLst>
                <a:gd name="adj" fmla="val 1249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4114800" y="4114800"/>
            <a:ext cx="17845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ent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.g. Access Po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90720" y="53244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ic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91120" y="205740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43360" y="2057400"/>
            <a:ext cx="2190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779480" y="2057400"/>
            <a:ext cx="24465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mi-Public Network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0" y="3276720"/>
            <a:ext cx="14716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entication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273800" y="2286000"/>
            <a:ext cx="345960" cy="812520"/>
            <a:chOff x="7273800" y="2286000"/>
            <a:chExt cx="345960" cy="812520"/>
          </a:xfrm>
        </p:grpSpPr>
        <p:sp>
          <p:nvSpPr>
            <p:cNvPr id="429" name=""/>
            <p:cNvSpPr/>
            <p:nvPr/>
          </p:nvSpPr>
          <p:spPr>
            <a:xfrm>
              <a:off x="7273800" y="2289240"/>
              <a:ext cx="83880" cy="803160"/>
            </a:xfrm>
            <a:custGeom>
              <a:avLst/>
              <a:gdLst/>
              <a:ahLst/>
              <a:rect l="l" t="t" r="r" b="b"/>
              <a:pathLst>
                <a:path w="53" h="506">
                  <a:moveTo>
                    <a:pt x="52" y="41"/>
                  </a:moveTo>
                  <a:lnTo>
                    <a:pt x="52" y="505"/>
                  </a:lnTo>
                  <a:lnTo>
                    <a:pt x="0" y="463"/>
                  </a:lnTo>
                  <a:lnTo>
                    <a:pt x="0" y="0"/>
                  </a:lnTo>
                  <a:lnTo>
                    <a:pt x="52" y="41"/>
                  </a:lnTo>
                </a:path>
              </a:pathLst>
            </a:custGeom>
            <a:solidFill>
              <a:srgbClr val="7d7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56240" y="2351160"/>
              <a:ext cx="263520" cy="747360"/>
            </a:xfrm>
            <a:custGeom>
              <a:avLst/>
              <a:gdLst/>
              <a:ahLst/>
              <a:rect l="l" t="t" r="r" b="b"/>
              <a:pathLst>
                <a:path w="166" h="471">
                  <a:moveTo>
                    <a:pt x="0" y="470"/>
                  </a:moveTo>
                  <a:lnTo>
                    <a:pt x="165" y="470"/>
                  </a:lnTo>
                  <a:lnTo>
                    <a:pt x="165" y="0"/>
                  </a:lnTo>
                  <a:lnTo>
                    <a:pt x="0" y="0"/>
                  </a:lnTo>
                  <a:lnTo>
                    <a:pt x="0" y="470"/>
                  </a:lnTo>
                </a:path>
              </a:pathLst>
            </a:custGeom>
            <a:gradFill rotWithShape="0">
              <a:gsLst>
                <a:gs pos="0">
                  <a:srgbClr val="d6d6d1"/>
                </a:gs>
                <a:gs pos="100000">
                  <a:srgbClr val="7d7c6b"/>
                </a:gs>
              </a:gsLst>
              <a:lin ang="8100000"/>
            </a:gradFill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7836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3876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88000" y="301464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441920" y="301464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9908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79920" y="2286000"/>
              <a:ext cx="339840" cy="71280"/>
            </a:xfrm>
            <a:custGeom>
              <a:avLst/>
              <a:gdLst/>
              <a:ahLst/>
              <a:rect l="l" t="t" r="r" b="b"/>
              <a:pathLst>
                <a:path w="214" h="45">
                  <a:moveTo>
                    <a:pt x="213" y="44"/>
                  </a:moveTo>
                  <a:lnTo>
                    <a:pt x="47" y="44"/>
                  </a:lnTo>
                  <a:lnTo>
                    <a:pt x="0" y="0"/>
                  </a:lnTo>
                  <a:lnTo>
                    <a:pt x="165" y="0"/>
                  </a:lnTo>
                  <a:lnTo>
                    <a:pt x="213" y="44"/>
                  </a:lnTo>
                </a:path>
              </a:pathLst>
            </a:custGeom>
            <a:gradFill rotWithShape="0">
              <a:gsLst>
                <a:gs pos="0">
                  <a:srgbClr val="d6d6d1"/>
                </a:gs>
                <a:gs pos="100000">
                  <a:srgbClr val="7d7c6b"/>
                </a:gs>
              </a:gsLst>
              <a:lin ang="13500000"/>
            </a:gradFill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7381440" y="2419200"/>
              <a:ext cx="98640" cy="190440"/>
              <a:chOff x="7381440" y="2419200"/>
              <a:chExt cx="98640" cy="19044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7386480" y="2423880"/>
                <a:ext cx="93600" cy="185760"/>
                <a:chOff x="7386480" y="2423880"/>
                <a:chExt cx="93600" cy="18576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7386480" y="2423880"/>
                  <a:ext cx="93600" cy="185760"/>
                </a:xfrm>
                <a:custGeom>
                  <a:avLst/>
                  <a:gdLst/>
                  <a:ahLst/>
                  <a:rect l="l" t="t" r="r" b="b"/>
                  <a:pathLst>
                    <a:path w="59" h="117">
                      <a:moveTo>
                        <a:pt x="0" y="116"/>
                      </a:moveTo>
                      <a:lnTo>
                        <a:pt x="58" y="116"/>
                      </a:ln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116"/>
                      </a:lnTo>
                    </a:path>
                  </a:pathLst>
                </a:cu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386480" y="2423880"/>
                  <a:ext cx="93600" cy="185760"/>
                </a:xfrm>
                <a:custGeom>
                  <a:avLst/>
                  <a:gdLst/>
                  <a:ahLst/>
                  <a:rect l="l" t="t" r="r" b="b"/>
                  <a:pathLst>
                    <a:path w="59" h="117">
                      <a:moveTo>
                        <a:pt x="0" y="116"/>
                      </a:moveTo>
                      <a:lnTo>
                        <a:pt x="58" y="116"/>
                      </a:ln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116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7381440" y="2419200"/>
                <a:ext cx="98640" cy="190440"/>
                <a:chOff x="7381440" y="2419200"/>
                <a:chExt cx="98640" cy="19044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7381440" y="2419200"/>
                  <a:ext cx="98640" cy="190440"/>
                </a:xfrm>
                <a:custGeom>
                  <a:avLst/>
                  <a:gdLst/>
                  <a:ahLst/>
                  <a:rect l="l" t="t" r="r" b="b"/>
                  <a:pathLst>
                    <a:path w="62" h="120">
                      <a:moveTo>
                        <a:pt x="0" y="119"/>
                      </a:moveTo>
                      <a:lnTo>
                        <a:pt x="61" y="119"/>
                      </a:ln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19"/>
                      </a:lnTo>
                    </a:path>
                  </a:pathLst>
                </a:cu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381440" y="2419200"/>
                  <a:ext cx="98640" cy="190440"/>
                </a:xfrm>
                <a:custGeom>
                  <a:avLst/>
                  <a:gdLst/>
                  <a:ahLst/>
                  <a:rect l="l" t="t" r="r" b="b"/>
                  <a:pathLst>
                    <a:path w="62" h="120">
                      <a:moveTo>
                        <a:pt x="0" y="119"/>
                      </a:moveTo>
                      <a:lnTo>
                        <a:pt x="61" y="119"/>
                      </a:ln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19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4" name=""/>
            <p:cNvSpPr/>
            <p:nvPr/>
          </p:nvSpPr>
          <p:spPr>
            <a:xfrm>
              <a:off x="7356240" y="265104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56240" y="268272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60920" y="2954160"/>
              <a:ext cx="25704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356240" y="301464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248520" y="3048120"/>
            <a:ext cx="865080" cy="279360"/>
            <a:chOff x="6248520" y="3048120"/>
            <a:chExt cx="865080" cy="279360"/>
          </a:xfrm>
        </p:grpSpPr>
        <p:grpSp>
          <p:nvGrpSpPr>
            <p:cNvPr id="449" name=""/>
            <p:cNvGrpSpPr/>
            <p:nvPr/>
          </p:nvGrpSpPr>
          <p:grpSpPr>
            <a:xfrm>
              <a:off x="6248520" y="3048120"/>
              <a:ext cx="865080" cy="279360"/>
              <a:chOff x="6248520" y="3048120"/>
              <a:chExt cx="865080" cy="279360"/>
            </a:xfrm>
          </p:grpSpPr>
          <p:sp>
            <p:nvSpPr>
              <p:cNvPr id="450" name=""/>
              <p:cNvSpPr/>
              <p:nvPr/>
            </p:nvSpPr>
            <p:spPr>
              <a:xfrm flipV="1">
                <a:off x="6629400" y="3048120"/>
                <a:ext cx="484200" cy="27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6248520" y="3098520"/>
                <a:ext cx="5335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 flipH="1">
              <a:off x="6629400" y="3098880"/>
              <a:ext cx="1526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 flipV="1">
            <a:off x="1752480" y="3809520"/>
            <a:ext cx="2133720" cy="685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5029200" y="2666520"/>
            <a:ext cx="1981080" cy="838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2362320"/>
            <a:ext cx="2286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20505000">
            <a:off x="1477440" y="3500280"/>
            <a:ext cx="332280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P Over Wireless (EAPO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P-GSS with IAKE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20350800">
            <a:off x="5181120" y="2666520"/>
            <a:ext cx="183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b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5105520" y="3429000"/>
            <a:ext cx="865080" cy="279360"/>
            <a:chOff x="5105520" y="3429000"/>
            <a:chExt cx="865080" cy="279360"/>
          </a:xfrm>
        </p:grpSpPr>
        <p:grpSp>
          <p:nvGrpSpPr>
            <p:cNvPr id="459" name=""/>
            <p:cNvGrpSpPr/>
            <p:nvPr/>
          </p:nvGrpSpPr>
          <p:grpSpPr>
            <a:xfrm>
              <a:off x="5105520" y="3429000"/>
              <a:ext cx="865080" cy="279360"/>
              <a:chOff x="5105520" y="3429000"/>
              <a:chExt cx="865080" cy="279360"/>
            </a:xfrm>
          </p:grpSpPr>
          <p:sp>
            <p:nvSpPr>
              <p:cNvPr id="460" name=""/>
              <p:cNvSpPr/>
              <p:nvPr/>
            </p:nvSpPr>
            <p:spPr>
              <a:xfrm flipV="1">
                <a:off x="5486400" y="3429000"/>
                <a:ext cx="484200" cy="27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5105520" y="3479400"/>
                <a:ext cx="5335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 flipH="1">
              <a:off x="5486400" y="3479760"/>
              <a:ext cx="1526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5715000" y="3200400"/>
            <a:ext cx="762120" cy="457200"/>
          </a:xfrm>
          <a:prstGeom prst="cloudCallout">
            <a:avLst>
              <a:gd name="adj1" fmla="val 8541"/>
              <a:gd name="adj2" fmla="val 36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19320" y="472428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91120" y="365760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28800" y="4038480"/>
            <a:ext cx="2286000" cy="76212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480"/>
                </a:moveTo>
                <a:lnTo>
                  <a:pt x="796" y="187"/>
                </a:lnTo>
                <a:lnTo>
                  <a:pt x="672" y="331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FDA-A3B7-4CEB-8D69-5A9EAEC029E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DIUS with EAP-GSS Top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219320" y="4638600"/>
            <a:ext cx="758520" cy="619200"/>
            <a:chOff x="1219320" y="4638600"/>
            <a:chExt cx="758520" cy="619200"/>
          </a:xfrm>
        </p:grpSpPr>
        <p:grpSp>
          <p:nvGrpSpPr>
            <p:cNvPr id="469" name=""/>
            <p:cNvGrpSpPr/>
            <p:nvPr/>
          </p:nvGrpSpPr>
          <p:grpSpPr>
            <a:xfrm>
              <a:off x="1219320" y="4638600"/>
              <a:ext cx="758520" cy="619200"/>
              <a:chOff x="1219320" y="4638600"/>
              <a:chExt cx="758520" cy="619200"/>
            </a:xfrm>
          </p:grpSpPr>
          <p:sp>
            <p:nvSpPr>
              <p:cNvPr id="470" name=""/>
              <p:cNvSpPr/>
              <p:nvPr/>
            </p:nvSpPr>
            <p:spPr>
              <a:xfrm>
                <a:off x="1222200" y="4680000"/>
                <a:ext cx="88920" cy="357120"/>
              </a:xfrm>
              <a:custGeom>
                <a:avLst/>
                <a:gdLst/>
                <a:ahLst/>
                <a:rect l="l" t="t" r="r" b="b"/>
                <a:pathLst>
                  <a:path w="56" h="225">
                    <a:moveTo>
                      <a:pt x="52" y="10"/>
                    </a:moveTo>
                    <a:lnTo>
                      <a:pt x="55" y="224"/>
                    </a:lnTo>
                    <a:lnTo>
                      <a:pt x="0" y="142"/>
                    </a:lnTo>
                    <a:lnTo>
                      <a:pt x="0" y="0"/>
                    </a:lnTo>
                    <a:lnTo>
                      <a:pt x="52" y="10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219320" y="4680000"/>
                <a:ext cx="412560" cy="27000"/>
              </a:xfrm>
              <a:custGeom>
                <a:avLst/>
                <a:gdLst/>
                <a:ahLst/>
                <a:rect l="l" t="t" r="r" b="b"/>
                <a:pathLst>
                  <a:path w="260" h="17">
                    <a:moveTo>
                      <a:pt x="259" y="16"/>
                    </a:moveTo>
                    <a:lnTo>
                      <a:pt x="53" y="16"/>
                    </a:lnTo>
                    <a:lnTo>
                      <a:pt x="0" y="0"/>
                    </a:lnTo>
                    <a:lnTo>
                      <a:pt x="202" y="0"/>
                    </a:lnTo>
                    <a:lnTo>
                      <a:pt x="259" y="16"/>
                    </a:lnTo>
                  </a:path>
                </a:pathLst>
              </a:custGeom>
              <a:solidFill>
                <a:srgbClr val="e9e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86000" y="5094360"/>
                <a:ext cx="396720" cy="34920"/>
              </a:xfrm>
              <a:custGeom>
                <a:avLst/>
                <a:gdLst/>
                <a:ahLst/>
                <a:rect l="l" t="t" r="r" b="b"/>
                <a:pathLst>
                  <a:path w="250" h="22">
                    <a:moveTo>
                      <a:pt x="0" y="21"/>
                    </a:moveTo>
                    <a:lnTo>
                      <a:pt x="249" y="21"/>
                    </a:lnTo>
                    <a:lnTo>
                      <a:pt x="249" y="0"/>
                    </a:lnTo>
                    <a:lnTo>
                      <a:pt x="0" y="0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14360" y="5024520"/>
                <a:ext cx="459000" cy="74520"/>
              </a:xfrm>
              <a:custGeom>
                <a:avLst/>
                <a:gdLst/>
                <a:ahLst/>
                <a:rect l="l" t="t" r="r" b="b"/>
                <a:pathLst>
                  <a:path w="289" h="47">
                    <a:moveTo>
                      <a:pt x="288" y="46"/>
                    </a:moveTo>
                    <a:lnTo>
                      <a:pt x="49" y="46"/>
                    </a:lnTo>
                    <a:lnTo>
                      <a:pt x="0" y="0"/>
                    </a:lnTo>
                    <a:lnTo>
                      <a:pt x="238" y="0"/>
                    </a:lnTo>
                    <a:lnTo>
                      <a:pt x="288" y="46"/>
                    </a:lnTo>
                  </a:path>
                </a:pathLst>
              </a:custGeom>
              <a:solidFill>
                <a:srgbClr val="e9e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16160" y="5021280"/>
                <a:ext cx="82440" cy="114480"/>
              </a:xfrm>
              <a:custGeom>
                <a:avLst/>
                <a:gdLst/>
                <a:ahLst/>
                <a:rect l="l" t="t" r="r" b="b"/>
                <a:pathLst>
                  <a:path w="52" h="72">
                    <a:moveTo>
                      <a:pt x="51" y="46"/>
                    </a:moveTo>
                    <a:lnTo>
                      <a:pt x="51" y="7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51" y="46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278000" y="4638600"/>
                <a:ext cx="527040" cy="58680"/>
              </a:xfrm>
              <a:custGeom>
                <a:avLst/>
                <a:gdLst/>
                <a:ahLst/>
                <a:rect l="l" t="t" r="r" b="b"/>
                <a:pathLst>
                  <a:path w="332" h="37">
                    <a:moveTo>
                      <a:pt x="331" y="36"/>
                    </a:moveTo>
                    <a:lnTo>
                      <a:pt x="35" y="36"/>
                    </a:lnTo>
                    <a:lnTo>
                      <a:pt x="0" y="0"/>
                    </a:lnTo>
                    <a:lnTo>
                      <a:pt x="291" y="0"/>
                    </a:lnTo>
                    <a:lnTo>
                      <a:pt x="331" y="3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279440" y="4638600"/>
                <a:ext cx="58680" cy="432000"/>
              </a:xfrm>
              <a:custGeom>
                <a:avLst/>
                <a:gdLst/>
                <a:ahLst/>
                <a:rect l="l" t="t" r="r" b="b"/>
                <a:pathLst>
                  <a:path w="37" h="272">
                    <a:moveTo>
                      <a:pt x="36" y="31"/>
                    </a:moveTo>
                    <a:lnTo>
                      <a:pt x="36" y="271"/>
                    </a:lnTo>
                    <a:lnTo>
                      <a:pt x="0" y="236"/>
                    </a:lnTo>
                    <a:lnTo>
                      <a:pt x="0" y="0"/>
                    </a:lnTo>
                    <a:lnTo>
                      <a:pt x="36" y="31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32000" y="4691160"/>
                <a:ext cx="469800" cy="379440"/>
              </a:xfrm>
              <a:custGeom>
                <a:avLst/>
                <a:gdLst/>
                <a:ahLst/>
                <a:rect l="l" t="t" r="r" b="b"/>
                <a:pathLst>
                  <a:path w="296" h="239">
                    <a:moveTo>
                      <a:pt x="0" y="238"/>
                    </a:moveTo>
                    <a:lnTo>
                      <a:pt x="295" y="238"/>
                    </a:lnTo>
                    <a:lnTo>
                      <a:pt x="295" y="0"/>
                    </a:lnTo>
                    <a:lnTo>
                      <a:pt x="0" y="0"/>
                    </a:lnTo>
                    <a:lnTo>
                      <a:pt x="0" y="238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220760" y="5106960"/>
                <a:ext cx="95400" cy="150840"/>
              </a:xfrm>
              <a:custGeom>
                <a:avLst/>
                <a:gdLst/>
                <a:ahLst/>
                <a:rect l="l" t="t" r="r" b="b"/>
                <a:pathLst>
                  <a:path w="60" h="95">
                    <a:moveTo>
                      <a:pt x="59" y="75"/>
                    </a:moveTo>
                    <a:lnTo>
                      <a:pt x="59" y="9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59" y="75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09680" y="5224320"/>
                <a:ext cx="668160" cy="30240"/>
              </a:xfrm>
              <a:custGeom>
                <a:avLst/>
                <a:gdLst/>
                <a:ahLst/>
                <a:rect l="l" t="t" r="r" b="b"/>
                <a:pathLst>
                  <a:path w="421" h="19">
                    <a:moveTo>
                      <a:pt x="0" y="18"/>
                    </a:moveTo>
                    <a:lnTo>
                      <a:pt x="420" y="18"/>
                    </a:lnTo>
                    <a:lnTo>
                      <a:pt x="420" y="0"/>
                    </a:lnTo>
                    <a:lnTo>
                      <a:pt x="0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1384200" y="4729320"/>
                <a:ext cx="373320" cy="295200"/>
                <a:chOff x="1384200" y="4729320"/>
                <a:chExt cx="373320" cy="295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1384200" y="4732200"/>
                  <a:ext cx="373320" cy="289080"/>
                </a:xfrm>
                <a:custGeom>
                  <a:avLst/>
                  <a:gdLst/>
                  <a:ahLst/>
                  <a:rect l="l" t="t" r="r" b="b"/>
                  <a:pathLst>
                    <a:path w="235" h="182">
                      <a:moveTo>
                        <a:pt x="0" y="0"/>
                      </a:moveTo>
                      <a:lnTo>
                        <a:pt x="234" y="181"/>
                      </a:lnTo>
                      <a:lnTo>
                        <a:pt x="0" y="18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384200" y="4729320"/>
                  <a:ext cx="373320" cy="295200"/>
                </a:xfrm>
                <a:custGeom>
                  <a:avLst/>
                  <a:gdLst/>
                  <a:ahLst/>
                  <a:rect l="l" t="t" r="r" b="b"/>
                  <a:pathLst>
                    <a:path w="235" h="186">
                      <a:moveTo>
                        <a:pt x="0" y="0"/>
                      </a:moveTo>
                      <a:lnTo>
                        <a:pt x="234" y="0"/>
                      </a:lnTo>
                      <a:lnTo>
                        <a:pt x="234" y="18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59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1219320" y="5110200"/>
                <a:ext cx="757080" cy="120600"/>
              </a:xfrm>
              <a:custGeom>
                <a:avLst/>
                <a:gdLst/>
                <a:ahLst/>
                <a:rect l="l" t="t" r="r" b="b"/>
                <a:pathLst>
                  <a:path w="477" h="76">
                    <a:moveTo>
                      <a:pt x="476" y="75"/>
                    </a:moveTo>
                    <a:lnTo>
                      <a:pt x="56" y="75"/>
                    </a:lnTo>
                    <a:lnTo>
                      <a:pt x="0" y="0"/>
                    </a:lnTo>
                    <a:lnTo>
                      <a:pt x="418" y="0"/>
                    </a:lnTo>
                    <a:lnTo>
                      <a:pt x="476" y="75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278000" y="4643640"/>
                <a:ext cx="0" cy="37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1400040" y="4743360"/>
              <a:ext cx="341280" cy="266760"/>
            </a:xfrm>
            <a:custGeom>
              <a:avLst/>
              <a:gdLst/>
              <a:ahLst/>
              <a:rect l="l" t="t" r="r" b="b"/>
              <a:pathLst>
                <a:path w="215" h="168">
                  <a:moveTo>
                    <a:pt x="0" y="167"/>
                  </a:moveTo>
                  <a:lnTo>
                    <a:pt x="214" y="167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0" y="167"/>
                  </a:lnTo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77777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038480" y="3537000"/>
            <a:ext cx="1074600" cy="425520"/>
            <a:chOff x="4038480" y="3537000"/>
            <a:chExt cx="1074600" cy="425520"/>
          </a:xfrm>
        </p:grpSpPr>
        <p:grpSp>
          <p:nvGrpSpPr>
            <p:cNvPr id="487" name=""/>
            <p:cNvGrpSpPr/>
            <p:nvPr/>
          </p:nvGrpSpPr>
          <p:grpSpPr>
            <a:xfrm>
              <a:off x="4038480" y="3537000"/>
              <a:ext cx="1074600" cy="425520"/>
              <a:chOff x="4038480" y="3537000"/>
              <a:chExt cx="1074600" cy="425520"/>
            </a:xfrm>
          </p:grpSpPr>
          <p:sp>
            <p:nvSpPr>
              <p:cNvPr id="488" name=""/>
              <p:cNvSpPr/>
              <p:nvPr/>
            </p:nvSpPr>
            <p:spPr>
              <a:xfrm>
                <a:off x="4038480" y="3537000"/>
                <a:ext cx="77760" cy="425520"/>
              </a:xfrm>
              <a:custGeom>
                <a:avLst/>
                <a:gdLst/>
                <a:ahLst/>
                <a:rect l="l" t="t" r="r" b="b"/>
                <a:pathLst>
                  <a:path w="49" h="268">
                    <a:moveTo>
                      <a:pt x="48" y="92"/>
                    </a:moveTo>
                    <a:lnTo>
                      <a:pt x="48" y="267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48" y="92"/>
                    </a:lnTo>
                  </a:path>
                </a:pathLst>
              </a:custGeom>
              <a:solidFill>
                <a:srgbClr val="716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109760" y="3699000"/>
                <a:ext cx="1000080" cy="249120"/>
              </a:xfrm>
              <a:custGeom>
                <a:avLst/>
                <a:gdLst/>
                <a:ahLst/>
                <a:rect l="l" t="t" r="r" b="b"/>
                <a:pathLst>
                  <a:path w="630" h="157">
                    <a:moveTo>
                      <a:pt x="0" y="156"/>
                    </a:moveTo>
                    <a:lnTo>
                      <a:pt x="629" y="156"/>
                    </a:lnTo>
                    <a:lnTo>
                      <a:pt x="629" y="0"/>
                    </a:lnTo>
                    <a:lnTo>
                      <a:pt x="0" y="0"/>
                    </a:lnTo>
                    <a:lnTo>
                      <a:pt x="0" y="15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8100000"/>
              </a:gradFill>
              <a:ln cap="rnd" w="12600">
                <a:solidFill>
                  <a:srgbClr val="86868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046400" y="3543480"/>
                <a:ext cx="1066680" cy="153720"/>
              </a:xfrm>
              <a:custGeom>
                <a:avLst/>
                <a:gdLst/>
                <a:ahLst/>
                <a:rect l="l" t="t" r="r" b="b"/>
                <a:pathLst>
                  <a:path w="672" h="97">
                    <a:moveTo>
                      <a:pt x="671" y="96"/>
                    </a:moveTo>
                    <a:lnTo>
                      <a:pt x="40" y="96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71" y="9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13500000"/>
              </a:gradFill>
              <a:ln cap="rnd" w="12600">
                <a:solidFill>
                  <a:srgbClr val="86868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144680" y="3776760"/>
                <a:ext cx="168120" cy="66600"/>
              </a:xfrm>
              <a:custGeom>
                <a:avLst/>
                <a:gdLst/>
                <a:ahLst/>
                <a:rect l="l" t="t" r="r" b="b"/>
                <a:pathLst>
                  <a:path w="106" h="42">
                    <a:moveTo>
                      <a:pt x="0" y="0"/>
                    </a:moveTo>
                    <a:lnTo>
                      <a:pt x="105" y="0"/>
                    </a:lnTo>
                    <a:lnTo>
                      <a:pt x="105" y="41"/>
                    </a:lnTo>
                    <a:lnTo>
                      <a:pt x="0" y="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32080" y="3745080"/>
                <a:ext cx="50760" cy="88920"/>
              </a:xfrm>
              <a:custGeom>
                <a:avLst/>
                <a:gdLst/>
                <a:ahLst/>
                <a:rect l="l" t="t" r="r" b="b"/>
                <a:pathLst>
                  <a:path w="32" h="56">
                    <a:moveTo>
                      <a:pt x="0" y="0"/>
                    </a:moveTo>
                    <a:lnTo>
                      <a:pt x="31" y="0"/>
                    </a:lnTo>
                    <a:lnTo>
                      <a:pt x="31" y="55"/>
                    </a:lnTo>
                    <a:lnTo>
                      <a:pt x="0" y="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6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827240" y="3848040"/>
                <a:ext cx="268200" cy="60480"/>
              </a:xfrm>
              <a:prstGeom prst="rect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4143240" y="3855960"/>
                <a:ext cx="645840" cy="57240"/>
                <a:chOff x="4143240" y="3855960"/>
                <a:chExt cx="645840" cy="5724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4143240" y="3855960"/>
                  <a:ext cx="298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21920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296960" y="3855960"/>
                  <a:ext cx="2880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371840" y="3855960"/>
                  <a:ext cx="3312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44960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52736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4603320" y="3855960"/>
                  <a:ext cx="334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682880" y="3855960"/>
                  <a:ext cx="3024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759200" y="3855960"/>
                  <a:ext cx="298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4" name=""/>
            <p:cNvSpPr/>
            <p:nvPr/>
          </p:nvSpPr>
          <p:spPr>
            <a:xfrm>
              <a:off x="4190760" y="3711600"/>
              <a:ext cx="844560" cy="192240"/>
            </a:xfrm>
            <a:prstGeom prst="roundRect">
              <a:avLst>
                <a:gd name="adj" fmla="val 1249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4114800" y="4114800"/>
            <a:ext cx="17845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ent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.g. Access Po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990720" y="53244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ic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191120" y="205740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43360" y="2057400"/>
            <a:ext cx="2190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79480" y="2057400"/>
            <a:ext cx="24465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mi-Public Network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529320" y="3598920"/>
            <a:ext cx="14716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entication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273800" y="2286000"/>
            <a:ext cx="345960" cy="812520"/>
            <a:chOff x="7273800" y="2286000"/>
            <a:chExt cx="345960" cy="812520"/>
          </a:xfrm>
        </p:grpSpPr>
        <p:sp>
          <p:nvSpPr>
            <p:cNvPr id="512" name=""/>
            <p:cNvSpPr/>
            <p:nvPr/>
          </p:nvSpPr>
          <p:spPr>
            <a:xfrm>
              <a:off x="7273800" y="2289240"/>
              <a:ext cx="83880" cy="803160"/>
            </a:xfrm>
            <a:custGeom>
              <a:avLst/>
              <a:gdLst/>
              <a:ahLst/>
              <a:rect l="l" t="t" r="r" b="b"/>
              <a:pathLst>
                <a:path w="53" h="506">
                  <a:moveTo>
                    <a:pt x="52" y="41"/>
                  </a:moveTo>
                  <a:lnTo>
                    <a:pt x="52" y="505"/>
                  </a:lnTo>
                  <a:lnTo>
                    <a:pt x="0" y="463"/>
                  </a:lnTo>
                  <a:lnTo>
                    <a:pt x="0" y="0"/>
                  </a:lnTo>
                  <a:lnTo>
                    <a:pt x="52" y="41"/>
                  </a:lnTo>
                </a:path>
              </a:pathLst>
            </a:custGeom>
            <a:solidFill>
              <a:srgbClr val="7d7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56240" y="2351160"/>
              <a:ext cx="263520" cy="747360"/>
            </a:xfrm>
            <a:custGeom>
              <a:avLst/>
              <a:gdLst/>
              <a:ahLst/>
              <a:rect l="l" t="t" r="r" b="b"/>
              <a:pathLst>
                <a:path w="166" h="471">
                  <a:moveTo>
                    <a:pt x="0" y="470"/>
                  </a:moveTo>
                  <a:lnTo>
                    <a:pt x="165" y="470"/>
                  </a:lnTo>
                  <a:lnTo>
                    <a:pt x="165" y="0"/>
                  </a:lnTo>
                  <a:lnTo>
                    <a:pt x="0" y="0"/>
                  </a:lnTo>
                  <a:lnTo>
                    <a:pt x="0" y="470"/>
                  </a:lnTo>
                </a:path>
              </a:pathLst>
            </a:custGeom>
            <a:gradFill rotWithShape="0">
              <a:gsLst>
                <a:gs pos="0">
                  <a:srgbClr val="d6d6d1"/>
                </a:gs>
                <a:gs pos="100000">
                  <a:srgbClr val="7d7c6b"/>
                </a:gs>
              </a:gsLst>
              <a:lin ang="8100000"/>
            </a:gradFill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7836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3876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488000" y="301464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441920" y="301464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39908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79920" y="2286000"/>
              <a:ext cx="339840" cy="71280"/>
            </a:xfrm>
            <a:custGeom>
              <a:avLst/>
              <a:gdLst/>
              <a:ahLst/>
              <a:rect l="l" t="t" r="r" b="b"/>
              <a:pathLst>
                <a:path w="214" h="45">
                  <a:moveTo>
                    <a:pt x="213" y="44"/>
                  </a:moveTo>
                  <a:lnTo>
                    <a:pt x="47" y="44"/>
                  </a:lnTo>
                  <a:lnTo>
                    <a:pt x="0" y="0"/>
                  </a:lnTo>
                  <a:lnTo>
                    <a:pt x="165" y="0"/>
                  </a:lnTo>
                  <a:lnTo>
                    <a:pt x="213" y="44"/>
                  </a:lnTo>
                </a:path>
              </a:pathLst>
            </a:custGeom>
            <a:gradFill rotWithShape="0">
              <a:gsLst>
                <a:gs pos="0">
                  <a:srgbClr val="d6d6d1"/>
                </a:gs>
                <a:gs pos="100000">
                  <a:srgbClr val="7d7c6b"/>
                </a:gs>
              </a:gsLst>
              <a:lin ang="13500000"/>
            </a:gradFill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7381440" y="2419200"/>
              <a:ext cx="98640" cy="190440"/>
              <a:chOff x="7381440" y="2419200"/>
              <a:chExt cx="98640" cy="19044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7386480" y="2423880"/>
                <a:ext cx="93600" cy="185760"/>
                <a:chOff x="7386480" y="2423880"/>
                <a:chExt cx="93600" cy="1857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7386480" y="2423880"/>
                  <a:ext cx="93600" cy="185760"/>
                </a:xfrm>
                <a:custGeom>
                  <a:avLst/>
                  <a:gdLst/>
                  <a:ahLst/>
                  <a:rect l="l" t="t" r="r" b="b"/>
                  <a:pathLst>
                    <a:path w="59" h="117">
                      <a:moveTo>
                        <a:pt x="0" y="116"/>
                      </a:moveTo>
                      <a:lnTo>
                        <a:pt x="58" y="116"/>
                      </a:ln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116"/>
                      </a:lnTo>
                    </a:path>
                  </a:pathLst>
                </a:cu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386480" y="2423880"/>
                  <a:ext cx="93600" cy="185760"/>
                </a:xfrm>
                <a:custGeom>
                  <a:avLst/>
                  <a:gdLst/>
                  <a:ahLst/>
                  <a:rect l="l" t="t" r="r" b="b"/>
                  <a:pathLst>
                    <a:path w="59" h="117">
                      <a:moveTo>
                        <a:pt x="0" y="116"/>
                      </a:moveTo>
                      <a:lnTo>
                        <a:pt x="58" y="116"/>
                      </a:ln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116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7381440" y="2419200"/>
                <a:ext cx="98640" cy="190440"/>
                <a:chOff x="7381440" y="2419200"/>
                <a:chExt cx="98640" cy="19044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381440" y="2419200"/>
                  <a:ext cx="98640" cy="190440"/>
                </a:xfrm>
                <a:custGeom>
                  <a:avLst/>
                  <a:gdLst/>
                  <a:ahLst/>
                  <a:rect l="l" t="t" r="r" b="b"/>
                  <a:pathLst>
                    <a:path w="62" h="120">
                      <a:moveTo>
                        <a:pt x="0" y="119"/>
                      </a:moveTo>
                      <a:lnTo>
                        <a:pt x="61" y="119"/>
                      </a:ln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19"/>
                      </a:lnTo>
                    </a:path>
                  </a:pathLst>
                </a:cu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381440" y="2419200"/>
                  <a:ext cx="98640" cy="190440"/>
                </a:xfrm>
                <a:custGeom>
                  <a:avLst/>
                  <a:gdLst/>
                  <a:ahLst/>
                  <a:rect l="l" t="t" r="r" b="b"/>
                  <a:pathLst>
                    <a:path w="62" h="120">
                      <a:moveTo>
                        <a:pt x="0" y="119"/>
                      </a:moveTo>
                      <a:lnTo>
                        <a:pt x="61" y="119"/>
                      </a:ln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19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7356240" y="265104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356240" y="268272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60920" y="2954160"/>
              <a:ext cx="25704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56240" y="301464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248520" y="3048120"/>
            <a:ext cx="865080" cy="279360"/>
            <a:chOff x="6248520" y="3048120"/>
            <a:chExt cx="865080" cy="279360"/>
          </a:xfrm>
        </p:grpSpPr>
        <p:grpSp>
          <p:nvGrpSpPr>
            <p:cNvPr id="532" name=""/>
            <p:cNvGrpSpPr/>
            <p:nvPr/>
          </p:nvGrpSpPr>
          <p:grpSpPr>
            <a:xfrm>
              <a:off x="6248520" y="3048120"/>
              <a:ext cx="865080" cy="279360"/>
              <a:chOff x="6248520" y="3048120"/>
              <a:chExt cx="865080" cy="279360"/>
            </a:xfrm>
          </p:grpSpPr>
          <p:sp>
            <p:nvSpPr>
              <p:cNvPr id="533" name=""/>
              <p:cNvSpPr/>
              <p:nvPr/>
            </p:nvSpPr>
            <p:spPr>
              <a:xfrm flipV="1">
                <a:off x="6629400" y="3048120"/>
                <a:ext cx="484200" cy="27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6248520" y="3098520"/>
                <a:ext cx="5335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 flipH="1">
              <a:off x="6629400" y="3098880"/>
              <a:ext cx="1526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 flipV="1">
            <a:off x="1752480" y="3809520"/>
            <a:ext cx="2133720" cy="685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5029200" y="2666520"/>
            <a:ext cx="1981080" cy="838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037280" y="2286000"/>
            <a:ext cx="2016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20505000">
            <a:off x="1447560" y="3581280"/>
            <a:ext cx="332244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P Over Wireless (EAPO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P-GSS with IAKE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20350800">
            <a:off x="4549680" y="2892240"/>
            <a:ext cx="2255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P-GSS Over RADI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105520" y="3429000"/>
            <a:ext cx="865080" cy="279360"/>
            <a:chOff x="5105520" y="3429000"/>
            <a:chExt cx="865080" cy="279360"/>
          </a:xfrm>
        </p:grpSpPr>
        <p:grpSp>
          <p:nvGrpSpPr>
            <p:cNvPr id="542" name=""/>
            <p:cNvGrpSpPr/>
            <p:nvPr/>
          </p:nvGrpSpPr>
          <p:grpSpPr>
            <a:xfrm>
              <a:off x="5105520" y="3429000"/>
              <a:ext cx="865080" cy="279360"/>
              <a:chOff x="5105520" y="3429000"/>
              <a:chExt cx="865080" cy="279360"/>
            </a:xfrm>
          </p:grpSpPr>
          <p:sp>
            <p:nvSpPr>
              <p:cNvPr id="543" name=""/>
              <p:cNvSpPr/>
              <p:nvPr/>
            </p:nvSpPr>
            <p:spPr>
              <a:xfrm flipV="1">
                <a:off x="5486400" y="3429000"/>
                <a:ext cx="484200" cy="27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5105520" y="3479400"/>
                <a:ext cx="5335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 flipH="1">
              <a:off x="5486400" y="3479760"/>
              <a:ext cx="1526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5715000" y="3200400"/>
            <a:ext cx="762120" cy="457200"/>
          </a:xfrm>
          <a:prstGeom prst="cloudCallout">
            <a:avLst>
              <a:gd name="adj1" fmla="val 8541"/>
              <a:gd name="adj2" fmla="val 36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472428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91120" y="365760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28800" y="4038480"/>
            <a:ext cx="2286000" cy="76212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480"/>
                </a:moveTo>
                <a:lnTo>
                  <a:pt x="796" y="187"/>
                </a:lnTo>
                <a:lnTo>
                  <a:pt x="672" y="331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8077320" y="2286000"/>
            <a:ext cx="345960" cy="812520"/>
            <a:chOff x="8077320" y="2286000"/>
            <a:chExt cx="345960" cy="812520"/>
          </a:xfrm>
        </p:grpSpPr>
        <p:sp>
          <p:nvSpPr>
            <p:cNvPr id="551" name=""/>
            <p:cNvSpPr/>
            <p:nvPr/>
          </p:nvSpPr>
          <p:spPr>
            <a:xfrm>
              <a:off x="8077320" y="2289240"/>
              <a:ext cx="83880" cy="803160"/>
            </a:xfrm>
            <a:custGeom>
              <a:avLst/>
              <a:gdLst/>
              <a:ahLst/>
              <a:rect l="l" t="t" r="r" b="b"/>
              <a:pathLst>
                <a:path w="53" h="506">
                  <a:moveTo>
                    <a:pt x="52" y="41"/>
                  </a:moveTo>
                  <a:lnTo>
                    <a:pt x="52" y="505"/>
                  </a:lnTo>
                  <a:lnTo>
                    <a:pt x="0" y="463"/>
                  </a:lnTo>
                  <a:lnTo>
                    <a:pt x="0" y="0"/>
                  </a:lnTo>
                  <a:lnTo>
                    <a:pt x="52" y="41"/>
                  </a:lnTo>
                </a:path>
              </a:pathLst>
            </a:custGeom>
            <a:solidFill>
              <a:srgbClr val="7d7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159760" y="2351160"/>
              <a:ext cx="263520" cy="747360"/>
            </a:xfrm>
            <a:custGeom>
              <a:avLst/>
              <a:gdLst/>
              <a:ahLst/>
              <a:rect l="l" t="t" r="r" b="b"/>
              <a:pathLst>
                <a:path w="166" h="471">
                  <a:moveTo>
                    <a:pt x="0" y="470"/>
                  </a:moveTo>
                  <a:lnTo>
                    <a:pt x="165" y="470"/>
                  </a:lnTo>
                  <a:lnTo>
                    <a:pt x="165" y="0"/>
                  </a:lnTo>
                  <a:lnTo>
                    <a:pt x="0" y="0"/>
                  </a:lnTo>
                  <a:lnTo>
                    <a:pt x="0" y="470"/>
                  </a:lnTo>
                </a:path>
              </a:pathLst>
            </a:custGeom>
            <a:gradFill rotWithShape="0">
              <a:gsLst>
                <a:gs pos="0">
                  <a:srgbClr val="d6d6d1"/>
                </a:gs>
                <a:gs pos="100000">
                  <a:srgbClr val="7d7c6b"/>
                </a:gs>
              </a:gsLst>
              <a:lin ang="8100000"/>
            </a:gradFill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38188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4228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91520" y="301464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8245440" y="301464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820260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083440" y="2286000"/>
              <a:ext cx="339840" cy="71280"/>
            </a:xfrm>
            <a:custGeom>
              <a:avLst/>
              <a:gdLst/>
              <a:ahLst/>
              <a:rect l="l" t="t" r="r" b="b"/>
              <a:pathLst>
                <a:path w="214" h="45">
                  <a:moveTo>
                    <a:pt x="213" y="44"/>
                  </a:moveTo>
                  <a:lnTo>
                    <a:pt x="47" y="44"/>
                  </a:lnTo>
                  <a:lnTo>
                    <a:pt x="0" y="0"/>
                  </a:lnTo>
                  <a:lnTo>
                    <a:pt x="165" y="0"/>
                  </a:lnTo>
                  <a:lnTo>
                    <a:pt x="213" y="44"/>
                  </a:lnTo>
                </a:path>
              </a:pathLst>
            </a:custGeom>
            <a:gradFill rotWithShape="0">
              <a:gsLst>
                <a:gs pos="0">
                  <a:srgbClr val="d6d6d1"/>
                </a:gs>
                <a:gs pos="100000">
                  <a:srgbClr val="7d7c6b"/>
                </a:gs>
              </a:gsLst>
              <a:lin ang="13500000"/>
            </a:gradFill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8184960" y="2419200"/>
              <a:ext cx="98640" cy="190440"/>
              <a:chOff x="8184960" y="2419200"/>
              <a:chExt cx="98640" cy="19044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8190000" y="2423880"/>
                <a:ext cx="93600" cy="185760"/>
                <a:chOff x="8190000" y="2423880"/>
                <a:chExt cx="93600" cy="1857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8190000" y="2423880"/>
                  <a:ext cx="93600" cy="185760"/>
                </a:xfrm>
                <a:custGeom>
                  <a:avLst/>
                  <a:gdLst/>
                  <a:ahLst/>
                  <a:rect l="l" t="t" r="r" b="b"/>
                  <a:pathLst>
                    <a:path w="59" h="117">
                      <a:moveTo>
                        <a:pt x="0" y="116"/>
                      </a:moveTo>
                      <a:lnTo>
                        <a:pt x="58" y="116"/>
                      </a:ln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116"/>
                      </a:lnTo>
                    </a:path>
                  </a:pathLst>
                </a:cu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8190000" y="2423880"/>
                  <a:ext cx="93600" cy="185760"/>
                </a:xfrm>
                <a:custGeom>
                  <a:avLst/>
                  <a:gdLst/>
                  <a:ahLst/>
                  <a:rect l="l" t="t" r="r" b="b"/>
                  <a:pathLst>
                    <a:path w="59" h="117">
                      <a:moveTo>
                        <a:pt x="0" y="116"/>
                      </a:moveTo>
                      <a:lnTo>
                        <a:pt x="58" y="116"/>
                      </a:ln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116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8184960" y="2419200"/>
                <a:ext cx="98640" cy="190440"/>
                <a:chOff x="8184960" y="2419200"/>
                <a:chExt cx="98640" cy="19044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8184960" y="2419200"/>
                  <a:ext cx="98640" cy="190440"/>
                </a:xfrm>
                <a:custGeom>
                  <a:avLst/>
                  <a:gdLst/>
                  <a:ahLst/>
                  <a:rect l="l" t="t" r="r" b="b"/>
                  <a:pathLst>
                    <a:path w="62" h="120">
                      <a:moveTo>
                        <a:pt x="0" y="119"/>
                      </a:moveTo>
                      <a:lnTo>
                        <a:pt x="61" y="119"/>
                      </a:ln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19"/>
                      </a:lnTo>
                    </a:path>
                  </a:pathLst>
                </a:cu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8184960" y="2419200"/>
                  <a:ext cx="98640" cy="190440"/>
                </a:xfrm>
                <a:custGeom>
                  <a:avLst/>
                  <a:gdLst/>
                  <a:ahLst/>
                  <a:rect l="l" t="t" r="r" b="b"/>
                  <a:pathLst>
                    <a:path w="62" h="120">
                      <a:moveTo>
                        <a:pt x="0" y="119"/>
                      </a:moveTo>
                      <a:lnTo>
                        <a:pt x="61" y="119"/>
                      </a:ln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19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6" name=""/>
            <p:cNvSpPr/>
            <p:nvPr/>
          </p:nvSpPr>
          <p:spPr>
            <a:xfrm>
              <a:off x="8159760" y="265104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59760" y="268272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164440" y="2954160"/>
              <a:ext cx="25704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159760" y="301464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8534520" y="2362320"/>
            <a:ext cx="2286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20120" y="2666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E04-8F12-45B6-877B-899A3AF3B65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adcast Key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cast key(s) gets securely delivered to the station via IEEE 802.1X EAPOL-Ke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POL-Key message encrypted using session key obtained in AP_REQ/AP_REP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server timer gets configured to re-authenticate/re-key the cl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141-FD0E-4B64-8FA6-A6B36C60689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ing WEP Limi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lems with 802.11 use of W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Term fixes to W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ES as new privacy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866-0991-4C46-817A-2B530D68208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P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P encapsulation suffers from 3 major design f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too small (generic fla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packet key construction by concatenating IV to key (generic fla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weak-key avoidance (RC4 specific fla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gether these problems render WEP privacy meaningless at any key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194-0834-4FC7-BF8D-EE41FCC5E87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rt term fix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the too-small IV with a 128-bit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i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-packet keys to avoid definition of an IV avoidance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per packet key in a new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OR IV with bas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tible with existing RC4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packet format requi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7D9-E581-4FE6-9FD1-2853193266F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s merger of proposals 163, 362, and 3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MAC security negotiation mechan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Kerberos V for authentication and fast hand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802.1X and EAP as authentication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s shortcomings of WEP/RC4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with Kerberos KDC and (optionally) RADIUS authentication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9F1-1621-461B-B5BA-DC9147606C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rt Term WEP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1143000" y="2362320"/>
            <a:ext cx="6705360" cy="761760"/>
            <a:chOff x="1143000" y="2362320"/>
            <a:chExt cx="6705360" cy="761760"/>
          </a:xfrm>
        </p:grpSpPr>
        <p:grpSp>
          <p:nvGrpSpPr>
            <p:cNvPr id="582" name=""/>
            <p:cNvGrpSpPr/>
            <p:nvPr/>
          </p:nvGrpSpPr>
          <p:grpSpPr>
            <a:xfrm>
              <a:off x="1143000" y="2362320"/>
              <a:ext cx="1218960" cy="761760"/>
              <a:chOff x="1143000" y="2362320"/>
              <a:chExt cx="1218960" cy="761760"/>
            </a:xfrm>
          </p:grpSpPr>
          <p:sp>
            <p:nvSpPr>
              <p:cNvPr id="583" name=""/>
              <p:cNvSpPr/>
              <p:nvPr/>
            </p:nvSpPr>
            <p:spPr>
              <a:xfrm>
                <a:off x="1143000" y="2362320"/>
                <a:ext cx="1218960" cy="76176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295280" y="2452680"/>
                <a:ext cx="914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802.11 Hd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2361960" y="2362320"/>
              <a:ext cx="990720" cy="761760"/>
              <a:chOff x="2361960" y="2362320"/>
              <a:chExt cx="990720" cy="761760"/>
            </a:xfrm>
          </p:grpSpPr>
          <p:sp>
            <p:nvSpPr>
              <p:cNvPr id="586" name=""/>
              <p:cNvSpPr/>
              <p:nvPr/>
            </p:nvSpPr>
            <p:spPr>
              <a:xfrm>
                <a:off x="2361960" y="2362320"/>
                <a:ext cx="990720" cy="7617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438280" y="2452680"/>
                <a:ext cx="838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28-bit IV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352680" y="2362320"/>
              <a:ext cx="3429000" cy="761760"/>
              <a:chOff x="3352680" y="2362320"/>
              <a:chExt cx="3429000" cy="761760"/>
            </a:xfrm>
          </p:grpSpPr>
          <p:sp>
            <p:nvSpPr>
              <p:cNvPr id="589" name=""/>
              <p:cNvSpPr/>
              <p:nvPr/>
            </p:nvSpPr>
            <p:spPr>
              <a:xfrm>
                <a:off x="3352680" y="2362320"/>
                <a:ext cx="3429000" cy="7617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610160" y="2575080"/>
                <a:ext cx="91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6781680" y="2362320"/>
              <a:ext cx="1066680" cy="761760"/>
              <a:chOff x="6781680" y="2362320"/>
              <a:chExt cx="1066680" cy="761760"/>
            </a:xfrm>
          </p:grpSpPr>
          <p:sp>
            <p:nvSpPr>
              <p:cNvPr id="592" name=""/>
              <p:cNvSpPr/>
              <p:nvPr/>
            </p:nvSpPr>
            <p:spPr>
              <a:xfrm>
                <a:off x="6781680" y="2362320"/>
                <a:ext cx="1066680" cy="76176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895800" y="2452680"/>
                <a:ext cx="838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WEP ICV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4" name=""/>
          <p:cNvGrpSpPr/>
          <p:nvPr/>
        </p:nvGrpSpPr>
        <p:grpSpPr>
          <a:xfrm>
            <a:off x="1143000" y="4572000"/>
            <a:ext cx="1218960" cy="761760"/>
            <a:chOff x="1143000" y="4572000"/>
            <a:chExt cx="1218960" cy="761760"/>
          </a:xfrm>
        </p:grpSpPr>
        <p:sp>
          <p:nvSpPr>
            <p:cNvPr id="595" name=""/>
            <p:cNvSpPr/>
            <p:nvPr/>
          </p:nvSpPr>
          <p:spPr>
            <a:xfrm>
              <a:off x="1143000" y="4572000"/>
              <a:ext cx="1218960" cy="761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295280" y="46623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02.11 H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362320" y="4572000"/>
            <a:ext cx="990360" cy="761760"/>
            <a:chOff x="2362320" y="4572000"/>
            <a:chExt cx="990360" cy="761760"/>
          </a:xfrm>
        </p:grpSpPr>
        <p:sp>
          <p:nvSpPr>
            <p:cNvPr id="598" name=""/>
            <p:cNvSpPr/>
            <p:nvPr/>
          </p:nvSpPr>
          <p:spPr>
            <a:xfrm>
              <a:off x="2362320" y="4572000"/>
              <a:ext cx="990360" cy="7617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38280" y="4662360"/>
              <a:ext cx="837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8-bit I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3276720" y="3352680"/>
            <a:ext cx="1218960" cy="990720"/>
            <a:chOff x="3276720" y="3352680"/>
            <a:chExt cx="1218960" cy="990720"/>
          </a:xfrm>
        </p:grpSpPr>
        <p:sp>
          <p:nvSpPr>
            <p:cNvPr id="601" name=""/>
            <p:cNvSpPr/>
            <p:nvPr/>
          </p:nvSpPr>
          <p:spPr>
            <a:xfrm>
              <a:off x="4495680" y="3352680"/>
              <a:ext cx="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76720" y="35053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cry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5943600" y="3352680"/>
            <a:ext cx="1219320" cy="914400"/>
            <a:chOff x="5943600" y="3352680"/>
            <a:chExt cx="1219320" cy="914400"/>
          </a:xfrm>
        </p:grpSpPr>
        <p:sp>
          <p:nvSpPr>
            <p:cNvPr id="604" name=""/>
            <p:cNvSpPr/>
            <p:nvPr/>
          </p:nvSpPr>
          <p:spPr>
            <a:xfrm flipV="1">
              <a:off x="5943600" y="335268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43600" y="35053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cry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3352680" y="4572000"/>
            <a:ext cx="4495680" cy="762120"/>
            <a:chOff x="3352680" y="4572000"/>
            <a:chExt cx="4495680" cy="762120"/>
          </a:xfrm>
        </p:grpSpPr>
        <p:sp>
          <p:nvSpPr>
            <p:cNvPr id="607" name=""/>
            <p:cNvSpPr/>
            <p:nvPr/>
          </p:nvSpPr>
          <p:spPr>
            <a:xfrm>
              <a:off x="3352680" y="4572000"/>
              <a:ext cx="4495680" cy="762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01120" y="4784760"/>
              <a:ext cx="1198800" cy="337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6781680" y="4572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34320" y="4724280"/>
            <a:ext cx="8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P I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991C-3BA1-4B56-9D65-D114411016F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g term sol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ES-128 as the new cryptographic prim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ES in Offset Codebook Mode OCB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8-bit session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packet 128-bit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provides both privacy and data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2 passes over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session sequence number to avoid re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base key to sessio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CB mode tag to compute session key, to minimize number of cryptographic primitives impl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B20B-DF2D-407D-B3D9-DAE63C840B9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g Term WEP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762120" y="2362320"/>
            <a:ext cx="1218960" cy="761760"/>
            <a:chOff x="762120" y="2362320"/>
            <a:chExt cx="1218960" cy="761760"/>
          </a:xfrm>
        </p:grpSpPr>
        <p:sp>
          <p:nvSpPr>
            <p:cNvPr id="615" name=""/>
            <p:cNvSpPr/>
            <p:nvPr/>
          </p:nvSpPr>
          <p:spPr>
            <a:xfrm>
              <a:off x="762120" y="2362320"/>
              <a:ext cx="1218960" cy="761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45268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02.11 H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1981080" y="2362320"/>
            <a:ext cx="990720" cy="761760"/>
            <a:chOff x="1981080" y="2362320"/>
            <a:chExt cx="990720" cy="761760"/>
          </a:xfrm>
        </p:grpSpPr>
        <p:sp>
          <p:nvSpPr>
            <p:cNvPr id="618" name=""/>
            <p:cNvSpPr/>
            <p:nvPr/>
          </p:nvSpPr>
          <p:spPr>
            <a:xfrm>
              <a:off x="1981080" y="2362320"/>
              <a:ext cx="990720" cy="7617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057400" y="2452680"/>
              <a:ext cx="838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8-bit I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2971800" y="2362320"/>
            <a:ext cx="4267080" cy="761760"/>
            <a:chOff x="2971800" y="2362320"/>
            <a:chExt cx="4267080" cy="761760"/>
          </a:xfrm>
        </p:grpSpPr>
        <p:grpSp>
          <p:nvGrpSpPr>
            <p:cNvPr id="621" name=""/>
            <p:cNvGrpSpPr/>
            <p:nvPr/>
          </p:nvGrpSpPr>
          <p:grpSpPr>
            <a:xfrm>
              <a:off x="2971800" y="2362320"/>
              <a:ext cx="838080" cy="761760"/>
              <a:chOff x="2971800" y="2362320"/>
              <a:chExt cx="838080" cy="761760"/>
            </a:xfrm>
          </p:grpSpPr>
          <p:sp>
            <p:nvSpPr>
              <p:cNvPr id="622" name=""/>
              <p:cNvSpPr/>
              <p:nvPr/>
            </p:nvSpPr>
            <p:spPr>
              <a:xfrm>
                <a:off x="2971800" y="2362320"/>
                <a:ext cx="838080" cy="7617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048120" y="2452680"/>
                <a:ext cx="685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eq Nu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809880" y="2362320"/>
              <a:ext cx="3429000" cy="761760"/>
              <a:chOff x="3809880" y="2362320"/>
              <a:chExt cx="3429000" cy="761760"/>
            </a:xfrm>
          </p:grpSpPr>
          <p:sp>
            <p:nvSpPr>
              <p:cNvPr id="625" name=""/>
              <p:cNvSpPr/>
              <p:nvPr/>
            </p:nvSpPr>
            <p:spPr>
              <a:xfrm>
                <a:off x="3809880" y="2362320"/>
                <a:ext cx="3429000" cy="7617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067360" y="2575080"/>
                <a:ext cx="91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238880" y="2362320"/>
            <a:ext cx="1066680" cy="761760"/>
            <a:chOff x="7238880" y="2362320"/>
            <a:chExt cx="1066680" cy="761760"/>
          </a:xfrm>
        </p:grpSpPr>
        <p:sp>
          <p:nvSpPr>
            <p:cNvPr id="628" name=""/>
            <p:cNvSpPr/>
            <p:nvPr/>
          </p:nvSpPr>
          <p:spPr>
            <a:xfrm>
              <a:off x="7238880" y="2362320"/>
              <a:ext cx="1066680" cy="7617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53000" y="2452680"/>
              <a:ext cx="838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8-bit 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971800" y="4572000"/>
            <a:ext cx="4267080" cy="762120"/>
            <a:chOff x="2971800" y="4572000"/>
            <a:chExt cx="4267080" cy="762120"/>
          </a:xfrm>
        </p:grpSpPr>
        <p:grpSp>
          <p:nvGrpSpPr>
            <p:cNvPr id="631" name=""/>
            <p:cNvGrpSpPr/>
            <p:nvPr/>
          </p:nvGrpSpPr>
          <p:grpSpPr>
            <a:xfrm>
              <a:off x="2971800" y="4572000"/>
              <a:ext cx="838080" cy="761760"/>
              <a:chOff x="2971800" y="4572000"/>
              <a:chExt cx="838080" cy="761760"/>
            </a:xfrm>
          </p:grpSpPr>
          <p:sp>
            <p:nvSpPr>
              <p:cNvPr id="632" name=""/>
              <p:cNvSpPr/>
              <p:nvPr/>
            </p:nvSpPr>
            <p:spPr>
              <a:xfrm>
                <a:off x="2971800" y="4572000"/>
                <a:ext cx="838080" cy="7617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048120" y="4662360"/>
                <a:ext cx="685800" cy="580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eq Nu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3809880" y="4572000"/>
              <a:ext cx="3429000" cy="762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67360" y="4784760"/>
              <a:ext cx="914400" cy="337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62120" y="4572000"/>
            <a:ext cx="1218960" cy="761760"/>
            <a:chOff x="762120" y="4572000"/>
            <a:chExt cx="1218960" cy="761760"/>
          </a:xfrm>
        </p:grpSpPr>
        <p:sp>
          <p:nvSpPr>
            <p:cNvPr id="637" name=""/>
            <p:cNvSpPr/>
            <p:nvPr/>
          </p:nvSpPr>
          <p:spPr>
            <a:xfrm>
              <a:off x="762120" y="4572000"/>
              <a:ext cx="1218960" cy="761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14400" y="46623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02.11 H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981080" y="4572000"/>
            <a:ext cx="990720" cy="761760"/>
            <a:chOff x="1981080" y="4572000"/>
            <a:chExt cx="990720" cy="761760"/>
          </a:xfrm>
        </p:grpSpPr>
        <p:sp>
          <p:nvSpPr>
            <p:cNvPr id="640" name=""/>
            <p:cNvSpPr/>
            <p:nvPr/>
          </p:nvSpPr>
          <p:spPr>
            <a:xfrm>
              <a:off x="1981080" y="4572000"/>
              <a:ext cx="990720" cy="7617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57400" y="4662360"/>
              <a:ext cx="838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8-bit I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38880" y="4572000"/>
            <a:ext cx="1066680" cy="761760"/>
            <a:chOff x="7238880" y="4572000"/>
            <a:chExt cx="1066680" cy="761760"/>
          </a:xfrm>
        </p:grpSpPr>
        <p:sp>
          <p:nvSpPr>
            <p:cNvPr id="643" name=""/>
            <p:cNvSpPr/>
            <p:nvPr/>
          </p:nvSpPr>
          <p:spPr>
            <a:xfrm>
              <a:off x="7238880" y="4572000"/>
              <a:ext cx="1066680" cy="7617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53000" y="4662360"/>
              <a:ext cx="838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8-bit 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3809880" y="33526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362320" y="3581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5943600" y="33526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9436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y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A02-F325-426E-9216-604BC739AEC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 to 802.1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POL-Key message used to carry AP_REQ/AP_REP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POL-Key message needs to go from Supplicant (STA) to Authenticator (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XD8 spec only supports sending EAPOL-Key from Authenticator to Suppl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0D1-9240-40BA-9FF7-110103B4C03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to Requirement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ual authentication (4.1.1): satisfied by Kerbero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mmodation with QoS (4.2.1): satisfied by Kerbero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control (4.2.2): GSS-API can be integrated into 802.11 access contro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derivation (4.4.1): satisfied by all GSS-API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service negotiations (4.5.1): satisfied by EAP or  SPNEGO pseudo-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bility (4.5.2):  extensibility via EAP or GSS-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C07-CE17-4B22-A8A1-37F5021B946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to Requirement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mandatory-to-implement algorithm (4.5.3): Kerberos V only mandatory-to-implement security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 to all 802.11 environments (4.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datory to implement mechanisms support Enterprise, So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INIT for ad hoc supp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framework must protect network traffic from eavesdropping:  satisfied by RC4 Fixes/AES (4.3.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framework must allow for authentication of the source of each packet: satisfied by AES with sequence number (4.3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BC93-F436-4B14-9FE1-22E911E0A6B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Further Inves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ion of AES computational 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aming author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P negotiation and support for additional authentication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 of 802.1X and 802.11 state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2B7-EDE5-497D-8F6F-7257D46A04B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oposal will promote multi-vendor interoperability by making authentication an upper layer function based on 802.1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ly based on existing protocols with minor changes to 802.1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to 802.1X specification should be made to enable transmission of keys from STA to 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to the IEEE 802.11 specification should be made to allow for mixed WEP cells and for more secure WEP data pac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076B-EA42-4859-96B5-7BD1BB8A4B6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or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nist.gov/a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grouper.ieee.org/groups/802/1/pages/802.1x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rberos/GSS-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ietf.org/rfc/rfc1510.txt (Kerberos 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ietf.org/rfc/rfc2743.txt (GSS-AP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ietf.org/internet-drafts/draft-ietf-cat-iakerb-05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ietf.org/rfc/rfc2138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ietf.org/rfc/rfc2139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ietf.org/rfc/rfc2548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ietf.org/rfc/rfc2865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ietf.org/rfc/rfc2866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ietf.org/rfc/rfc2867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ietf.org/rfc/rfc2868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ietf.org/rfc/rfc2869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www.ietf.org/rfc/rfc2284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ttp://www.ietf.org/rfc/rfc2716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ietf.org/internet-drafts/draft-aboba-pppext-eapgss-02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678-F927-401D-9625-9CF1FCD882D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b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done at higher layer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session key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ote multi-vendor 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changes to IEEE 802.11, 802.1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mandatory authentica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hand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 RC4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lity to add new authentication methods easily (without changing 802.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D30-E4BD-41F3-BE0C-384A0729AC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existing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beros V (RFC 15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S-API (RFC 274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KERB (draft-ietf-cat-iakerb-05.t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-GSS (draft-aboba-pppext-eapgss-02.t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X/EAP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 (RFC 228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security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model for authentication/association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privacy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DCC6-FCB6-4578-97C1-E9036C72E3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Security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means to register security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, Shared, Upper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means to distribute security configuration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principal name, real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means to discover and select MAC level security op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privacy algorithm, message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802-4EC8-457E-AFB7-044C502A6B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stering Security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means to register a new security algorithm with IEEE 802 and obtain unique identifier for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initial algorithm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ones: Open and Sh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one: Upper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 can be added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FBC-D5AC-4C3B-AB9A-A0FEDDF242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vertising Security O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ed on “supported rat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 advertises security options in prob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d in probe response only if STA requests it in probe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s collect this information prior to associations and can make association and roaming decisions based upon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818-1C70-40F6-9F6F-98F9A505FE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ng security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 requests security options in association request from available options contained in probe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 accepts/rejects association based on request 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additional protocol handshakes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mpact on roaming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74AD-BA9A-4FD0-A23A-E08DEEECA8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TGe</dc:creator>
  <dc:description/>
  <dc:language>en-US</dc:language>
  <cp:lastModifiedBy>Harry Worstell</cp:lastModifiedBy>
  <cp:lastPrinted>2000-08-12T19:25:02Z</cp:lastPrinted>
  <dcterms:modified xsi:type="dcterms:W3CDTF">2000-11-08T22:46:32Z</dcterms:modified>
  <cp:revision>171</cp:revision>
  <dc:subject/>
  <dc:title>04198E-TGe Security Basel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55163116</vt:r8>
  </property>
  <property fmtid="{D5CDD505-2E9C-101B-9397-08002B2CF9AE}" pid="3" name="_AuthorEmail">
    <vt:lpwstr>timmoore@Exchange.Microsoft.com</vt:lpwstr>
  </property>
  <property fmtid="{D5CDD505-2E9C-101B-9397-08002B2CF9AE}" pid="4" name="_AuthorEmailDisplayName">
    <vt:lpwstr>Tim Moore</vt:lpwstr>
  </property>
  <property fmtid="{D5CDD505-2E9C-101B-9397-08002B2CF9AE}" pid="5" name="_EmailSubject">
    <vt:lpwstr>Current updated slides</vt:lpwstr>
  </property>
</Properties>
</file>