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B09-45BF-4541-9138-E58DE7C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41A-268F-4302-92A2-6841710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5D5-3619-4D6E-8D44-2F95095E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C06-1B97-4DB7-9389-F2DED035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DA5-42DF-4DB7-B594-A43542B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510-C8FD-401C-A4BE-B77388B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F86-C828-4B23-AF85-BEDEF17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9AA-3B41-415A-BFBF-3E04345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D64-2B47-46D8-A600-60D6AF9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4BC-460F-4D9D-A9B1-806F695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EC2-60DA-4A1A-BC0D-D1E2490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32A-E759-4AF2-B26C-6C49099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710370-A097-4595-B036-E2732454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oemake@ti.com" TargetMode="External"/><Relationship Id="rId2" Type="http://schemas.openxmlformats.org/officeDocument/2006/relationships/hyperlink" Target="mailto:shoemake@ti.com" TargetMode="External"/><Relationship Id="rId3" Type="http://schemas.openxmlformats.org/officeDocument/2006/relationships/hyperlink" Target="mailto:shoemake@ti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Task Group G Rep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IEEE 802.11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hew B. Shoemake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g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hoemake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80B-A228-429E-8CDB-E764E6C4F5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at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mpleted steps 6 through 9 of Selection Procedure (doc. 00/209r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ep 9 hear the following sub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, et.al. – Inter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8-3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’Farrell, et.al. – Superg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6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Erven, et.al. –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4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egard, et.al. –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4, 00/38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6BC-47A4-4EC0-97E5-1FEA24FFAE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for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0 – Comparison Criteria Matrix will go on server this afternoon (doc. 00/42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1 – Open questioning of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2 – Final statements by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3 – Low hurdle elimination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not go to Step 14 until the January 2000 Sess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99-F8B5-422D-8767-4AD2D8E72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tthew B. Shoemake</dc:creator>
  <dc:description/>
  <dc:language>en-US</dc:language>
  <cp:lastModifiedBy>shoemake</cp:lastModifiedBy>
  <cp:lastPrinted>1998-02-10T13:28:06Z</cp:lastPrinted>
  <dcterms:modified xsi:type="dcterms:W3CDTF">2000-11-08T18:10:05Z</dcterms:modified>
  <cp:revision>20</cp:revision>
  <dc:subject/>
  <dc:title>No Slide Title</dc:title>
</cp:coreProperties>
</file>