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C1E-DC92-4F6F-AF84-FD4AE8D7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B07-C9E2-44F7-96C9-229BD410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EE7-2F57-4151-AD45-202843A8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765-B1FB-495B-91D6-8D973726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51D-E818-4EFC-AB7A-9D4538E4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5D5-B406-4E1E-A331-616D4CAD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390-C310-4051-B401-066E25F1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F6F-2DBC-478A-96E7-433A5910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AD8-2FB4-4EFA-913B-C80E9FB3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B2B-599F-4A48-BD10-BFE5F7FD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1A8-BA6F-419A-9CB3-8DF81D1D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122-A878-489C-8CC8-9E49AAF9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12D0EE-7BAA-43F8-854A-5CDD518CF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23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oemake@ti.com" TargetMode="External"/><Relationship Id="rId2" Type="http://schemas.openxmlformats.org/officeDocument/2006/relationships/hyperlink" Target="mailto:shoemake@ti.com" TargetMode="External"/><Relationship Id="rId3" Type="http://schemas.openxmlformats.org/officeDocument/2006/relationships/hyperlink" Target="mailto:shoemake@ti.com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Task Group G Repo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IEEE 802.11 Working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hew B. Shoemake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g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hoemake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8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B8C-4F82-4D16-BB7D-D2A72979F38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lection Proced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eps at November 2000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completed steps 6 through 9 of Selection Procedure (doc. 00/209r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ep 9 hear the following submi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ster, et.al. – Inter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388-3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’Farrell, et.al. – Superg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36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 Erven, et.al. – 3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4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egard, et.al. – Texas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384, 00/38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9C5-D19F-44FE-A415-57BA0560AF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in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lection Proced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eps for November 2000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0 – Comparison Criteria Matrix will go on server this afternoon (doc. 00/42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1 – Open questioning of pres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2 – Final statements by pres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3 – Low hurdle elimination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ll not go to Step 14 until the January 2001 Session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DAB-55BE-47B3-8982-1DD1270A3F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Matthew B. Shoemake</dc:creator>
  <dc:description/>
  <dc:language>en-US</dc:language>
  <cp:lastModifiedBy>shoemake</cp:lastModifiedBy>
  <cp:lastPrinted>1998-02-10T13:28:06Z</cp:lastPrinted>
  <dcterms:modified xsi:type="dcterms:W3CDTF">2000-11-08T21:28:07Z</dcterms:modified>
  <cp:revision>22</cp:revision>
  <dc:subject/>
  <dc:title>No Slide Title</dc:title>
</cp:coreProperties>
</file>