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DD6010-95E1-41DA-AEF7-1677DB2A7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145CE3-CE01-4F29-9B32-A450FB2E0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DADC06-A7AE-4D9F-B636-94681718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459BAE-F827-4994-A55E-C2006DF5D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29C69C-3914-4D29-B49C-6B93E30A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783E0A-5272-4E11-8C96-598683157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2F2-4AE3-4EB6-B19A-48CB9918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727-3257-4DDE-893B-55780F38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44D-F112-4E68-B885-450E6C86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00B-8966-471E-9466-1600E9EC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2B7-94F8-461F-B801-1393FC90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058-C1F6-444C-B012-A960FE1B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EA0-5E19-48B5-B2BD-0FEED6B5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A2F-7E03-49F8-9572-AF9B2FFB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BEC-71CA-4183-AF08-F2405FD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00C-357C-4A1B-B4B5-F3BE1FF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13E-1614-49C8-B977-877E4D7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66C-BC90-475F-9A1E-4DD629ED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94D0A5-4E39-447F-B317-F2D489DA1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2000/4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Report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oup that got no respect this week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spect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839960" cy="17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5BA-4CB0-4CF3-A776-DFA2AC8138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rget 11F Schedule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n of record prior to today – now obsol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TG mtg, IAPP history review, task framing –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unctional determination, proposals – 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Draft written, review starts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Cut off for additional DS environment i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rst internal .11 ballot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ut need a draft to ballot…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chedule now slip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k issue decision – Ja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11E progress or start external ballots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057-3EFA-4AC7-8C97-CE14A5666B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B”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43F-607C-4B75-8F89-74503503BAF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F work recov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Attempt recovery by offering interested parties a venue for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 H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n-binding) session to work out a base proposal/draft. Resulting draft to be brought to Jan mtg for consideration as candidate for first (internal) 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Mtg target week 12/3 (2 days?); location TBD; will be announced on reflector; mtg facilities will be provided; on your own for ho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tep 1 successful, proceed to LB in Jan/Mar with Ad-Hoc mtg draft (if approved in J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tep 1 not successful, recognize that re have people resource conflicts and re-sched work to be dependent on  11e settling down and freeing people up (schedule impact unknown at this d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82B-F18F-4F9A-B9A2-A68F626493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sed 802.11F Schedu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ssuming ad-hoc mtg progres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TG mtg, IAPP history review, task framing –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unctional determination, proposals – 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Cut off for additional DS environment inclusion.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-Hoc drafting recovery mtg Dec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Draft available, review starts – Ja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ternal .11 ballot – Ma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k issue decision – Ma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11E progress or start external ballots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E40-4DB8-41B6-9C3A-69B09741CA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parallel meeting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802.11 has multiple Open active PARs, all of which need to make progres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The set of members needed to make progress on both have significant people in common between 11E &amp; 11F topic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When 802.11E and 802.11F were setup, 802.11 committed that E&amp;F mtgs would not be in parallel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an experiment in scheduling was tried this week where E&amp;F mtgs were overlapping, and this resulted in a significant negative impact to 802.11F progres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 802.11F moves that future 802.11 meetings not repeat the experiment of scheduling overlapping 802.11E and 802.11F meetings 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1D1-3F14-49E3-BF81-442276B4BA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of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6CE-1A73-49D5-A2BE-A4C7932A21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tween Sept &amp; Nov mtg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discussions by interested parties will continue up to Nov mt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was to derive common proposal text for further consideration in No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alls schedu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happened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 but no one atten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266-EDBA-4F1A-9748-524634464F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mtg progress prevented by over scheduling of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11E &amp; F were first set up, the agreement was that they would not be run in parallel (at the request of the .11 member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as changed this week due to the establishment of multiple E sub groups, resulting in an experiment with parallel E&amp;F se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F chair expressed concern over this prior to mtg week, experiment went ahead over obj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as impacted 11Fs ability to get wor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day – 9 people, 3 voters + chair; Tuesday – 12 people, 4 voters + chair; Thurs: 4 people, 1 voter + ch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vel of industry interest in IAPP is not implied by attendance, what is implied is that WLAN brains are a scarce physical resource that can’t be in multiple physical locations simultaneousl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FEE-BEBF-4369-9C25-914A33F1C2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2000 802.11 F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for M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&amp;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82B-1E59-4EA3-A7F2-81348E3631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: Mahes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Venkatram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 this mtg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 from S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ere it started, we couldn’t get minutes approved from Sep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d: Bob Oh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: none… (Other voter had not read them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: n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446-C185-40FB-810C-DCC22EA90D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raft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nternal .11 ballot after Nov m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l depends on the amount of effort volunteered between now and Nov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C34-4EF9-4F2D-9650-5147A75583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ed Target 11F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TG mtg, IAPP history review, task framing –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unctional determination, proposals – 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Draft written, review starts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Cut off for additional DS environment i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rst internal .11 ballot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ut need a draft to ballot…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chedule now slip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k issue decision – Ja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11E progress or start external ballots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185-1404-4108-9600-76F2D820B9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new, discussed 345R1 on Tu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FD5-7A8D-4837-8DAE-B297C10D1F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F Motion: Recess &amp; Re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 That 802.11F recess until the scheduled Thurs morn session. In the meantime the Chair (with the input of any interested parties) is to figure out a proposal for continuing work in light of the 802.11 scheduling issues; this will be discussed with 11F on Thurs morn with the intent that 11F decide and recommend to the Plenary on Thurs afternoon a revised work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ary Spi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: unanimous (2,0,0…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061-497B-4D7B-B7B0-BC4CE919E7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8:12:22Z</dcterms:created>
  <dc:creator>David Bagby</dc:creator>
  <dc:description/>
  <dc:language>en-US</dc:language>
  <cp:lastModifiedBy>Harry Worstell</cp:lastModifiedBy>
  <cp:lastPrinted>1998-02-10T13:28:06Z</cp:lastPrinted>
  <dcterms:modified xsi:type="dcterms:W3CDTF">2000-11-09T14:44:45Z</dcterms:modified>
  <cp:revision>71</cp:revision>
  <dc:subject/>
  <dc:title>May 2000 802.11F  IAPP RP TG Agenda</dc:title>
</cp:coreProperties>
</file>