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5DC36-5753-44DB-BC82-623263D4A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BA0BD-EFDF-462B-A920-1FC7DC9C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587A0-08AF-411B-BF8E-AE2D204FA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E567A-8D06-4CAB-A421-EF5A29BA9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D4D22-4484-4F47-9917-77B45CAA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97A37-FFFC-4F9E-81A0-ABFA14325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2448-B24A-480A-957C-DC894894D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99A7C-8501-4380-8415-BB03228C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CC0C9-6B40-4971-9444-F96BAF1EC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9587D-5EC0-4E66-A005-861D3A48E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0D7A-3018-4953-A7D6-579166CA4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9A016-C6B7-42A4-8FB2-3DC0EAE30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518080" y="6474960"/>
            <a:ext cx="309240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Kennedy, Compaq Computer Corpor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381292-225B-41BD-AF27-141DE2C0C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37560" y="396000"/>
            <a:ext cx="24267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28</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42640" y="266652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5GSG</a:t>
            </a:r>
            <a:br>
              <a:rPr sz="3200"/>
            </a:br>
            <a:r>
              <a:rPr b="0" lang="en-US" sz="3200" spc="-1" strike="noStrike">
                <a:solidFill>
                  <a:srgbClr val="000000"/>
                </a:solidFill>
                <a:latin typeface="Times New Roman"/>
              </a:rPr>
              <a:t>Update from November 2000 Meeting (mid-week)</a:t>
            </a:r>
            <a:r>
              <a:rPr b="0" lang="en-US" sz="4400" spc="-1" strike="noStrike">
                <a:solidFill>
                  <a:srgbClr val="000000"/>
                </a:solidFill>
                <a:latin typeface="Times New Roman"/>
              </a:rPr>
              <a:t> </a:t>
            </a:r>
            <a:br>
              <a:rPr sz="3200"/>
            </a:br>
            <a:br>
              <a:rPr sz="3200"/>
            </a:br>
            <a:br>
              <a:rPr sz="3200"/>
            </a:br>
            <a:r>
              <a:rPr b="0" lang="en-US" sz="2400" spc="-1" strike="noStrike">
                <a:solidFill>
                  <a:srgbClr val="000000"/>
                </a:solidFill>
                <a:latin typeface="Times New Roman"/>
              </a:rPr>
              <a:t>Richard Kennedy</a:t>
            </a:r>
            <a:br>
              <a:rPr sz="2400"/>
            </a:br>
            <a:r>
              <a:rPr b="0" lang="en-US" sz="2400" spc="-1" strike="noStrike">
                <a:solidFill>
                  <a:srgbClr val="000000"/>
                </a:solidFill>
                <a:latin typeface="Times New Roman"/>
              </a:rPr>
              <a:t>Compaq Computer Corpor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2F8020B7-FA47-4868-8C3E-61D1468C4722}" type="slidenum">
              <a:t>1</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ed Offic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ce Kraemer (Intersil), Vice-cha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th Hillman (AMD), Secretar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Definitions has become the primary focus of this ses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done for 802.15 (doc.#99114r0 802.15) can serve as the basis, but will need modifications and additions to address 802.11a / HIPERLAN/2 / MMAC issu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to be completed by the end of this se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ill be presented to the Joint Globalization Group in Sophia Antipolis on Wednesday, November 2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1DA633A-AF9B-454F-8A13-D720803585E9}"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 (cont’d)</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ments document still needs 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hold informal discussions at the joint meeting to establish a global format for user scenarios / requirem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bring the joint document to the January 2001 meeting in Monterrey, C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ARs anticipated until requirements document is approved by 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72AD213-1690-474C-813C-8E4CFB4E45C5}"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to Preserve Spectrum Coexistence</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GSG believes that IEEE 802 should develop a set of coexistence and/or spectrum sharing guidelines to guarantee non-interference amongst its own wireless standards, currently 802.11/15 and 16.  This should be done as soon as possibl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ully endorse the work of the IEEE 802 Regulatory Ad Hoc Group in their efforts to achieve global spectrum harmonization, and will offer our help as required.  We would also like to invite the members of that group to attend our joint 5GHz WLAN Globalization group meeting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d 21/0/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BC14503-2242-41EA-9D7C-173EC1F9349B}" type="slidenum">
              <a:t>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 on the PAR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roup believes that the approval of new standards in the 5GHz unlicensed bands should be consistent with the guidel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lly, we have concerns about the compatibility and distinct identity of Wireless HUMAN (802.16.1b), WPAN Low Rate (802.15.4) and WPAN High Rate (802.15.3) to the extent that they will operate in the 5GHz unlicensed ba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coexistence guidelines, the broad market acceptance of </a:t>
            </a:r>
            <a:r>
              <a:rPr b="0" lang="en-US" sz="2400" spc="-1" strike="noStrike" u="sng">
                <a:solidFill>
                  <a:srgbClr val="000000"/>
                </a:solidFill>
                <a:uFillTx/>
                <a:latin typeface="Times New Roman"/>
              </a:rPr>
              <a:t>all</a:t>
            </a:r>
            <a:r>
              <a:rPr b="0" lang="en-US" sz="2400" spc="-1" strike="noStrike">
                <a:solidFill>
                  <a:srgbClr val="000000"/>
                </a:solidFill>
                <a:latin typeface="Times New Roman"/>
              </a:rPr>
              <a:t> of these standards is threate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AAD0641-E102-4C10-823F-442EA56AF8F6}" type="slidenum">
              <a:t>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5:11:06Z</dcterms:created>
  <dc:creator>Richard Kennedy</dc:creator>
  <dc:description/>
  <dc:language>en-US</dc:language>
  <cp:lastModifiedBy>Harry Worstell</cp:lastModifiedBy>
  <cp:lastPrinted>1998-02-10T13:28:06Z</cp:lastPrinted>
  <dcterms:modified xsi:type="dcterms:W3CDTF">2000-11-08T22:03:57Z</dcterms:modified>
  <cp:revision>27</cp:revision>
  <dc:subject/>
  <dc:title>PowerPoint Presentation</dc:title>
</cp:coreProperties>
</file>