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8D4-2FE9-42B3-B78F-DAA0300A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740-0944-4750-A6FE-3D8C2EF5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03B-B859-4DAA-97F9-E43C867E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E34-B223-4016-8A64-F401FC5B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376-773A-401F-912B-CE9AF96E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E7D-A6FD-4140-B483-FE049492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28D-261A-4241-804A-BDA2CC48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BC9-47C3-454B-A52C-FE3E85FD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931-A8AA-475E-BB0D-C7A7AA78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4F5-AD6B-49E8-A30B-C3380B07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F71-4E21-446D-843F-D39B3009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542-F156-46E6-8B3E-B60C4CB7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71680" y="6474960"/>
            <a:ext cx="2638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AT&amp;T Labs -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3CB355D-2C9E-423B-98D5-0A307C7C5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080" y="6475320"/>
            <a:ext cx="28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PCF Modeling Observations Nov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Modeling 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2743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thew Sher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&amp;T Labs -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0 Park Aven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rham Park, NJ  079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73-236-67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jsherman@at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57150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November 9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40280" y="31240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ho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3581280"/>
            <a:ext cx="2743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b Mi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&amp;T Labs -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0 Park Aven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rham Park, NJ  079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73-236-69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rm@at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E41-7168-4156-B2C2-C35AE1ACD0A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el Results - Some Observ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demonstrates only availability of a tool for evaluating E-MAC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ot meant to demonstrate efficacy of any particular MAC (y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s why “Native” PCF can be effective in QoS applications compared to “Native”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827-5137-4CB3-AEC1-EEBECE8E10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el Use for Optimization / Compar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added sophisticatio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P/IP, which lowers throughput, impacts streams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be valida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nother model and/or operating hardware data, if possible (current model throughputs are not realisti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QoS”, not just “QoS”, with many users, many media types, many protocols should be goal--- need scenarios which differentiate “Basic PCF” from “QoS PCF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11C-158C-4A6A-BC5B-ACBE573375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64260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opted QoS Req’ts from IEEE 802.11-00245r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oS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1.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rections and enhancements to the PCF that may be required to best meet QoS performance objectives must be incorpor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2.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fferential handling of MSDUs supplied to the MAC with additional priorities and classes of serv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3.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ounded delay, prioritized acess, and bounded latency per MDSU (allocatable services), power management bypass mechanisms (which has priority in iBSS and BSS may need a mechanism for separable handset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4.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 SAP support for 802.1D/802.1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5.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pport for multiple simultaneous streams with differing priority and class requir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6.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nsmit Power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7.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provide the hooks in the MAC to obtain remote channel inform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6760" y="1782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97640" y="5973840"/>
            <a:ext cx="4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362320"/>
            <a:ext cx="76176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1F5-3C7A-4056-8148-78631A0F4B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1:50:24Z</dcterms:created>
  <dc:creator>mjsherman</dc:creator>
  <dc:description/>
  <dc:language>en-US</dc:language>
  <cp:lastModifiedBy>R. R. Miller</cp:lastModifiedBy>
  <cp:lastPrinted>1998-02-10T13:28:06Z</cp:lastPrinted>
  <dcterms:modified xsi:type="dcterms:W3CDTF">2000-11-09T15:40:19Z</dcterms:modified>
  <cp:revision>39</cp:revision>
  <dc:subject/>
  <dc:title>PowerPoint Presentation</dc:title>
</cp:coreProperties>
</file>