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3B1-C0A2-4B65-A173-541A432B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002-3607-4342-B5BC-67A76C39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387-423D-4BBC-937E-D5103BE7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259-04F6-4145-98FE-7B7A3BFB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6D9-3EAB-4F9B-B52B-CD93F793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1B0-5B0C-4C51-AAA9-59DEB10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5BE-3158-40BF-BD75-C03DB14F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AB4-4B26-416A-9B3A-0C3237F6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5C4-1212-48E1-8E53-40777197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296-DBFF-43BC-AEDC-0191803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8A8-BD60-4160-A847-B5A6FD3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009-5224-4B40-9560-A89F3CF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6557E7-CC27-4219-9413-093E609F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at the specific definition of scheduling algorithm and channel access method to be used in level 1 QoS be temporarily replaced with a text placeholder in the baseline document; further to reiterate that as of the November 2000 meeting the call for QoS baseline proposals is closed, and text to replace the placeholder be based on existing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A21-B07E-4DF3-BF02-19ED06841A0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21:44:30Z</dcterms:created>
  <dc:creator>Preferred Customer</dc:creator>
  <dc:description/>
  <dc:language>en-US</dc:language>
  <cp:lastModifiedBy>Harry Worstell</cp:lastModifiedBy>
  <cp:lastPrinted>1998-02-10T13:28:06Z</cp:lastPrinted>
  <dcterms:modified xsi:type="dcterms:W3CDTF">2000-11-09T14:54:54Z</dcterms:modified>
  <cp:revision>2</cp:revision>
  <dc:subject/>
  <dc:title>PowerPoint Presentation</dc:title>
</cp:coreProperties>
</file>