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B7FA-3EFE-4315-97FF-187428AFA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D8F3A-30F3-4098-AA51-63AB428E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DF31D-D1DC-4F57-A3DF-4B89CE140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BD2F8-EDC7-4C7E-8995-DE13CEADD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0246-4AFA-40C7-8FA3-1DABC1DC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35597-AC32-4590-8CF6-2E4FCEAA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F4DFB-DA82-4C9B-8DA6-C959DEF97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F75D-5A14-4732-B284-33EFCE21D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AACE-5284-4524-BEA3-18596ACBE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9AA7-AD78-487D-8D3D-29D9CB5A2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40D3-C98B-4AFB-9CBB-FC48AF8D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0C36B-2FC7-4D9D-A5F2-F50FD435B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2F307E-6607-4EE1-A628-4577C89F9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3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26665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Update from November 2000 Meeting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82CAC83-2F0E-47BF-9583-A85F27BD1F76}"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for the Week</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Officer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uce Kraemer (Intersil), Vice-chai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rth Hillman (AMD), Secretary</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Definitions was the primary focus of this session</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done for 802.15 (doc.#99114r0 802.15) served as the basis, but needs modifications and additions to address 802.11a / HIPERLAN/2 / MMAC issu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was not completed by the end of this session.  Group members will use document 415r1, and provide final changes via email to the chai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ubset of the group will attend (as an ad hoc group) the Joint Globalization Group meeting in Sophia Antipolis, France on November 2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E5E1DD9-0989-4557-AA22-63816CC8740B}"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ess (cont’d)</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d to PARs relating to the 5GHz unlicensed bands for Wireless HUMAN (802.16) and Wireless PAN (802.15) as requested by the P802.11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d responses back indicating that both groups have modified the language of the PARs to include the coexistence require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midweek plenary, the position written by the 5GSG group was affirmed as the position of IEEE P802.11(x-x-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o empower the continued work of the 5GSG (5GHz Globalization Study Group) through the close of the next 802 Plenary, in March of 20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5863271-DFF4-47EB-8DE4-82F7F86716E6}"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Preserve Spectrum Coexistenc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21/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8192F8A-6AB4-4688-AA36-351531C2BB10}"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t>
            </a:r>
            <a:r>
              <a:rPr b="0" lang="en-US" sz="2400" spc="-1" strike="noStrike" u="sng">
                <a:solidFill>
                  <a:srgbClr val="000000"/>
                </a:solidFill>
                <a:uFillTx/>
                <a:latin typeface="Times New Roman"/>
              </a:rPr>
              <a:t>all</a:t>
            </a:r>
            <a:r>
              <a:rPr b="0" lang="en-US" sz="2400" spc="-1" strike="noStrike">
                <a:solidFill>
                  <a:srgbClr val="000000"/>
                </a:solidFill>
                <a:latin typeface="Times New Roman"/>
              </a:rPr>
              <a:t>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61B1DDF-2F62-48A7-99C0-7F90476A8F9A}"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9T18:15:26Z</dcterms:modified>
  <cp:revision>31</cp:revision>
  <dc:subject/>
  <dc:title>PowerPoint Presentation</dc:title>
</cp:coreProperties>
</file>