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01F-78F4-40D2-9801-FC3BC862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623-7F8D-4B10-98DB-768676B0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556-BBE4-4EAC-A6A8-78F5CB55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48B-F09F-46B1-ADBF-9E11B299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ABC-73BB-42E2-90DB-1219B49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569-C8E5-4741-8A8C-832BBE0A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AF3-CDAE-4313-87ED-B08B48CC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F54-7931-4EB6-8953-CA67199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01E-1FEF-4B39-B66E-BA602337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B00-6CF6-4EFA-A523-876EDE8F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8BE-AE24-4806-9392-5C7998E9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A53-7954-47F8-A832-2CBA3A1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11DF75-9D4A-44E7-B857-D18EE5708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attendance - 926 total. Growth in reserve by 40K mainly due to free social.  Probable reduction in fees to limit further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Spectrum Managed 802.11a PAR passed 11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.4 PAR passed 10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Wireless HUMAN PAR passed 10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 Position Statement to the FCC passed 7/0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F4B-7F7D-4384-BF28-103FBB7EB9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 (Con’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7 RPR PAR passed 11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Takefman appointed Chair of 802.17 through March 2001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-Standards for Free- passed 10/1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PDF’s commencing 6 months from Standards Board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loss offset by $75/head fee from 802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Jan 1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0D4-1826-4F38-BC42-48A0318667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 (Con’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in the last Mile SG approved 11/0/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$15k for ongoing 802 wireless network services at ple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for 802 to manage May01 Meeting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have paperless tutorials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0A3-0B63-4AF9-B094-1C6F8276FD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 (Con’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form 802.15 HR 5G SG failed, although TG3 is not restricted from proceeding down this path independ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me Marketing Committees as Publicity Committees as ruled by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94B-BC2E-40EC-BAAC-8DB73DA30E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0:21:29Z</dcterms:created>
  <dc:creator>Robert F.  Heile</dc:creator>
  <dc:description>&lt;doc#&gt;</dc:description>
  <dc:language>en-US</dc:language>
  <cp:lastModifiedBy>Harry Worstell</cp:lastModifiedBy>
  <cp:lastPrinted>1998-02-10T13:28:06Z</cp:lastPrinted>
  <dcterms:modified xsi:type="dcterms:W3CDTF">2000-11-16T19:57:41Z</dcterms:modified>
  <cp:revision>10</cp:revision>
  <dc:subject>IEEE 802.15 &lt;subject&gt;</dc:subject>
  <dc:title>No Slide Title</dc:title>
</cp:coreProperties>
</file>