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82F-6861-41F7-9345-23AB81B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BEE-815F-45B1-B0FA-07B3BD18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EA0-7996-4132-8764-3791E2DC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A53-DAD9-4C30-AC92-A140B809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E5A-603B-4B8B-9002-13433C8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806-FD0A-4A43-BAE1-8566D5A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44E-FF59-4F3A-9AD2-8A0CF68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645-C372-440D-8FFC-B206FE8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A58-DE7C-42B8-A2C9-C2A7430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2AE-50D9-4F27-9A6B-226E114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901-D44F-473F-823E-128AEB1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D5E-C124-489F-9102-327FAEC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2485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3040" y="62481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AB4343-2C2F-4A37-85D2-0B04F938A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82880"/>
            <a:ext cx="3962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9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2485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for an IEEE 802 Wireless Coexistenc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C46-A5D5-48B9-8642-5DBFC85ADB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members of 802.15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to 802.15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37D-F452-45C8-8661-E577E741AC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, 802.15 and 802.16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, 802.15 and 802.16 can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894-082A-4A00-A9A5-69A5E7CEB6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4D8-ECB9-4F11-AB77-30D399285C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ew structure meets the two needs of the 802 Wireless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forum to address all wireless coexistence issues of of relevance to the IEEE 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of the Wireless Coexistence Task Group can maintain membership in their “home” Working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520-6DD5-4E6F-85D5-98B0684534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Harry Worstell</cp:lastModifiedBy>
  <cp:lastPrinted>2000-09-20T20:30:42Z</cp:lastPrinted>
  <dcterms:modified xsi:type="dcterms:W3CDTF">2000-11-17T19:47:45Z</dcterms:modified>
  <cp:revision>273</cp:revision>
  <dc:subject>IEEE 802.15 &lt;subject&gt;</dc:subject>
  <dc:title>IEEE P802.15 Working Group for Wireless Personal Area Networks</dc:title>
</cp:coreProperties>
</file>