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7C86B-727D-408D-8DBF-DE4D97DFD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761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6BF4-7467-4226-B96B-34934C2A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4945-F5B6-4887-A602-3D774F85D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3"/>
          <p:cNvSpPr>
            <a:spLocks noGrp="1"/>
          </p:cNvSpPr>
          <p:nvPr>
            <p:ph/>
          </p:nvPr>
        </p:nvSpPr>
        <p:spPr>
          <a:xfrm>
            <a:off x="333972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4"/>
          <p:cNvSpPr>
            <a:spLocks noGrp="1"/>
          </p:cNvSpPr>
          <p:nvPr>
            <p:ph/>
          </p:nvPr>
        </p:nvSpPr>
        <p:spPr>
          <a:xfrm>
            <a:off x="599364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5"/>
          <p:cNvSpPr>
            <a:spLocks noGrp="1"/>
          </p:cNvSpPr>
          <p:nvPr>
            <p:ph/>
          </p:nvPr>
        </p:nvSpPr>
        <p:spPr>
          <a:xfrm>
            <a:off x="68580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6"/>
          <p:cNvSpPr>
            <a:spLocks noGrp="1"/>
          </p:cNvSpPr>
          <p:nvPr>
            <p:ph/>
          </p:nvPr>
        </p:nvSpPr>
        <p:spPr>
          <a:xfrm>
            <a:off x="333972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7"/>
          <p:cNvSpPr>
            <a:spLocks noGrp="1"/>
          </p:cNvSpPr>
          <p:nvPr>
            <p:ph/>
          </p:nvPr>
        </p:nvSpPr>
        <p:spPr>
          <a:xfrm>
            <a:off x="599364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39C2B-F1AF-4E9F-B672-A4A1C660E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76160"/>
            <a:ext cx="784872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9126-5AD9-4A7A-B7BF-37E683A9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E2B8B-1B3D-4775-B565-B4C348E8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C093A-099F-41CE-BE5B-905A9E2D0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60BA1-19A0-4FD2-BF81-A1DE90E9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713F-9566-4710-B150-ECB09E56F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D493-9032-4852-9A8B-D75084F2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FE2A-75C9-4D43-90CE-CD01D351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85058-FE39-4CCC-997E-7B522E92E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1E0FC9-68AE-4516-AC54-54A737808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52</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brid Coordination Function for Qo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295280" y="3276360"/>
            <a:ext cx="6400800" cy="24382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Fischer</a:t>
            </a:r>
            <a:endParaRPr b="0" lang="en-US" sz="1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sil Corporation</a:t>
            </a:r>
            <a:br>
              <a:rPr sz="1400"/>
            </a:br>
            <a:r>
              <a:rPr b="0" lang="en-US" sz="1400" spc="-1" strike="noStrike">
                <a:solidFill>
                  <a:srgbClr val="000000"/>
                </a:solidFill>
                <a:latin typeface="Times New Roman"/>
              </a:rPr>
              <a:t>4242-3 Medical Drive</a:t>
            </a:r>
            <a:br>
              <a:rPr sz="1400"/>
            </a:br>
            <a:r>
              <a:rPr b="0" lang="en-US" sz="1400" spc="-1" strike="noStrike">
                <a:solidFill>
                  <a:srgbClr val="000000"/>
                </a:solidFill>
                <a:latin typeface="Times New Roman"/>
              </a:rPr>
              <a:t>San Antonio, TX  78229</a:t>
            </a:r>
            <a:br>
              <a:rPr sz="1400"/>
            </a:br>
            <a:r>
              <a:rPr b="0" lang="en-US" sz="1400" spc="-1" strike="noStrike">
                <a:solidFill>
                  <a:srgbClr val="000000"/>
                </a:solidFill>
                <a:latin typeface="Times New Roman"/>
              </a:rPr>
              <a:t>voice:  +1-210-614-4096</a:t>
            </a:r>
            <a:br>
              <a:rPr sz="1400"/>
            </a:br>
            <a:r>
              <a:rPr b="0" lang="en-US" sz="1400" spc="-1" strike="noStrike">
                <a:solidFill>
                  <a:srgbClr val="000000"/>
                </a:solidFill>
                <a:latin typeface="Times New Roman"/>
              </a:rPr>
              <a:t>fax:  +1-210-614-8192</a:t>
            </a:r>
            <a:br>
              <a:rPr sz="1400"/>
            </a:br>
            <a:r>
              <a:rPr b="0" lang="en-US" sz="1400" spc="-1" strike="noStrike">
                <a:solidFill>
                  <a:srgbClr val="000000"/>
                </a:solidFill>
                <a:latin typeface="Times New Roman"/>
              </a:rPr>
              <a:t>mfischer@choicemicro.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2788E2F-6BD7-4114-80A8-2C2B4A131D40}" type="slidenum">
              <a:t>1</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S Usage for HCF QoS Transfer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ed to use within frame exchange sequences and between frame exchange sequences during individual TxOps and/or autonomous burst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nomous bursts can be viewed as very long frame exchange sequences, because the recipient of a +CF-Poll has to respond within SIF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for priority channel access by the Q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etween successive frame exchanges during a CFB to permit detection of inter-BSS CFB collision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FB ends immediately if CCA(busy) is detected between frame exchange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S/E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used for all other inter-frame spaces during the C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41FE0EC-516D-490E-BBB6-FD2BF294067A}" type="slidenum">
              <a:t>10</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V Usage for HCF QoS Transfer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00200"/>
            <a:ext cx="7848720" cy="373392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HCF the NAV is used to protect TxOps, not the entire CFB.</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inuation of a CFB is based on the use of PIFS by the QC.</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liminates the need for a frame to signal the end a CFB, allowing each burst to end after any frame exchange if interference is detect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value is set as follow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value in frames which include (+_x0008_)CF-Poll covers the full duration of the TxOp granted by that CF-Poll, plus one PIFS tim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reduce the duration value used in the subsequent frame by the duration of the current frame and its IFS.</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identical to the duration handling required in 802.11-1999 for CTS frames and for ACK frames within fragment bursts.</a:t>
            </a:r>
            <a:endParaRPr b="0" lang="en-US" sz="16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in frames of non-polled TxOps is set as specified in 802.11-1999.</a:t>
            </a:r>
            <a:endParaRPr b="0" lang="en-US" sz="1800" spc="-1" strike="noStrike">
              <a:solidFill>
                <a:srgbClr val="000000"/>
              </a:solidFill>
              <a:latin typeface="Times New Roman"/>
            </a:endParaRPr>
          </a:p>
        </p:txBody>
      </p:sp>
      <p:grpSp>
        <p:nvGrpSpPr>
          <p:cNvPr id="69" name=""/>
          <p:cNvGrpSpPr/>
          <p:nvPr/>
        </p:nvGrpSpPr>
        <p:grpSpPr>
          <a:xfrm>
            <a:off x="1447920" y="5638680"/>
            <a:ext cx="6095880" cy="733680"/>
            <a:chOff x="1447920" y="5638680"/>
            <a:chExt cx="6095880" cy="733680"/>
          </a:xfrm>
        </p:grpSpPr>
        <p:sp>
          <p:nvSpPr>
            <p:cNvPr id="70" name=""/>
            <p:cNvSpPr/>
            <p:nvPr/>
          </p:nvSpPr>
          <p:spPr>
            <a:xfrm>
              <a:off x="1447920" y="5943240"/>
              <a:ext cx="60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5638680"/>
              <a:ext cx="6854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828800" y="5638680"/>
              <a:ext cx="68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73" name=""/>
            <p:cNvSpPr/>
            <p:nvPr/>
          </p:nvSpPr>
          <p:spPr>
            <a:xfrm>
              <a:off x="2514600" y="6095880"/>
              <a:ext cx="39618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10600" y="609588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 from CF-Poll</a:t>
              </a:r>
              <a:endParaRPr b="0" lang="en-US" sz="1200" spc="-1" strike="noStrike">
                <a:solidFill>
                  <a:srgbClr val="000000"/>
                </a:solidFill>
                <a:latin typeface="Times New Roman"/>
              </a:endParaRPr>
            </a:p>
          </p:txBody>
        </p:sp>
        <p:sp>
          <p:nvSpPr>
            <p:cNvPr id="75" name=""/>
            <p:cNvSpPr/>
            <p:nvPr/>
          </p:nvSpPr>
          <p:spPr>
            <a:xfrm>
              <a:off x="2514600" y="5638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grpSp>
          <p:nvGrpSpPr>
            <p:cNvPr id="76" name=""/>
            <p:cNvGrpSpPr/>
            <p:nvPr/>
          </p:nvGrpSpPr>
          <p:grpSpPr>
            <a:xfrm>
              <a:off x="2971800" y="5638680"/>
              <a:ext cx="3047400" cy="304560"/>
              <a:chOff x="2971800" y="5638680"/>
              <a:chExt cx="3047400" cy="304560"/>
            </a:xfrm>
          </p:grpSpPr>
          <p:sp>
            <p:nvSpPr>
              <p:cNvPr id="77" name=""/>
              <p:cNvSpPr/>
              <p:nvPr/>
            </p:nvSpPr>
            <p:spPr>
              <a:xfrm>
                <a:off x="2971800" y="5638680"/>
                <a:ext cx="3047400" cy="3045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10600" y="563868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from CF-Poll</a:t>
                </a:r>
                <a:endParaRPr b="0" lang="en-US" sz="1200" spc="-1" strike="noStrike">
                  <a:solidFill>
                    <a:srgbClr val="000000"/>
                  </a:solidFill>
                  <a:latin typeface="Times New Roman"/>
                </a:endParaRPr>
              </a:p>
            </p:txBody>
          </p:sp>
        </p:grpSp>
        <p:sp>
          <p:nvSpPr>
            <p:cNvPr id="79" name=""/>
            <p:cNvSpPr/>
            <p:nvPr/>
          </p:nvSpPr>
          <p:spPr>
            <a:xfrm>
              <a:off x="6019560" y="5638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a:t>
              </a:r>
              <a:endParaRPr b="0" lang="en-US" sz="1200" spc="-1" strike="noStrike">
                <a:solidFill>
                  <a:srgbClr val="000000"/>
                </a:solidFill>
                <a:latin typeface="Times New Roman"/>
              </a:endParaRPr>
            </a:p>
          </p:txBody>
        </p:sp>
        <p:sp>
          <p:nvSpPr>
            <p:cNvPr id="80" name=""/>
            <p:cNvSpPr/>
            <p:nvPr/>
          </p:nvSpPr>
          <p:spPr>
            <a:xfrm>
              <a:off x="6476760" y="563868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02CFE0C-D062-47C2-A5D5-F6AE8DC5E436}" type="slidenum">
              <a:t>11</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 Rules at ESTA</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btained by winning EDCF contention can be used to send a single MPDU or MMPDU with total medium occupancy time not exceeding the TxOp limit from the QoS information in the beac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pursuant to a +CF-Poll includes a specified duration limit.</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use QoS data format for all exchanges to/from HC/EAP, and may use QoS data format for ESTA-to-ESTA transfer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monitor and HC assume all non-QoS frames are best effort traffic</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use (+)CF-Ack to QC/EAP</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only use +CF-Ack for ESTA-to-ESTA if the ability to detect +CF-Ack is known to exist at acknowledgement target.  This requires further discussion.</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ust respond to a (+)CF-Poll</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sponse of QoS-Null(+CF-Ack) is used when there is nothing to send or when the frame to send will not fit in the TxOp.  The HC can distinguish these cases by the queue state in the TCID fiel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E3DC91A-B9F3-4535-AA0C-99EED3687DEC}" type="slidenum">
              <a:t>12</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C/RR Usage Change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C can send a CC at any time (e.g. during the C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of the CC covers the CCI period plus one SIFS plus CF-Poll tim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end RR frames in response to CCs as currently specifi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also send RRs during any Tx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xOp longer than the limit in the beacon can be requested by sending an RR after winning EDCF conten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QC must respond to this RR with a CF-Poll frame, but is not required to grant a longer TxOp.</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which support parameterized QoS may an RR frame (to a QC which supports parameterized QoS) during any TxOp to request allocation of a periodic service TxO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5674F38-D6D8-40F2-9B98-A0AC3FE3D6C9}" type="slidenum">
              <a:t>13</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s</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number of subtle problems associated with the autonomous burst concept.  It is appropriate to consider whether the complexity of the autonomous burst facility is justifi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QoS data frames and container frames may be sent during autonomous burst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simplest rule to overcome the problem that legacy stations cannot participate properly in a burst, both because of duration field update and because of inability to respond to RTS during a burst (because their NAV will be set).</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duration of the burst must be bounded or the ability for the QC to provide periodic TxOps is destroyed.</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otal burst duration limit in the beacon is dependent on the subsequent ESTAs having received the original (+)CF-Poll from the QC.</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sending a (+)CF-Poll within a burst is responsible for informing the QC of non-response (presumably using a QoS-Nul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9FE2277-2DA6-413A-AC90-098DE6C75AB1}" type="slidenum">
              <a:t>14</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ybrid Coordination Function (HCF) combines the enhanced DCF with selected PCF features to simplify the QoS conformance mod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s 1 &amp; 2 merge into a single level for prioritized Q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ndatory ESTA functionality is identical for </a:t>
            </a:r>
            <a:r>
              <a:rPr b="1" lang="en-US" sz="1800" spc="-1" strike="noStrike">
                <a:solidFill>
                  <a:srgbClr val="ff0000"/>
                </a:solidFill>
                <a:latin typeface="Times New Roman"/>
              </a:rPr>
              <a:t>ALL</a:t>
            </a:r>
            <a:r>
              <a:rPr b="0" lang="en-US" sz="1800" spc="-1" strike="noStrike">
                <a:solidFill>
                  <a:srgbClr val="000000"/>
                </a:solidFill>
                <a:latin typeface="Times New Roman"/>
              </a:rPr>
              <a:t> level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pplies to receptions from the WM and service interface function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 implementations may choose not to initiate particular frames or frame exchange sequences that are allowed under the HC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is more robust than the EPCF in the presence of interference from overlapping BSSes, while also being friendler to legacy ST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makes more efficient use of the WM than the EPCF when handling periodic traffic at service rates faster than the CFP repetition rat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ears that the HCF could provide all of the centralized functions needed for QoS control, replacing the current EP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is still a "Level 3" to distinguish between EAPs which support parameterized QoS and EAPs which only support prioritized Qo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DF8653B-BD8C-4830-9405-F105BF5FF567}" type="slidenum">
              <a:t>2</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 concepts incorporated in the HCF originated in one of the following submission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uggested 802.11 PCF Enhancements and Contention Free Bursts</a:t>
            </a:r>
            <a:r>
              <a:rPr b="0" lang="en-GB" sz="1800" spc="-1" strike="noStrike">
                <a:solidFill>
                  <a:srgbClr val="000000"/>
                </a:solidFill>
                <a:latin typeface="Times New Roman"/>
              </a:rPr>
              <a:t> (document 00/113), by Maarten Hoeben and Menzo Wentin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DCF for Prioritised MAC Service</a:t>
            </a:r>
            <a:r>
              <a:rPr b="0" lang="en-GB" sz="1800" spc="-1" strike="noStrike">
                <a:solidFill>
                  <a:srgbClr val="000000"/>
                </a:solidFill>
                <a:latin typeface="Times New Roman"/>
              </a:rPr>
              <a:t> (document 00/367r1), by Jin-Meng Ho, Sid Schrum, and Khaled Turk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 Integrated 802.11 QoS Model with Point-controlled Contention Arbitration</a:t>
            </a:r>
            <a:r>
              <a:rPr b="0" lang="en-GB" sz="1800" spc="-1" strike="noStrike">
                <a:solidFill>
                  <a:srgbClr val="000000"/>
                </a:solidFill>
                <a:latin typeface="Times New Roman"/>
              </a:rPr>
              <a:t> (document 00/448), by Robert Mei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A1C4F1C-208C-43D2-871E-1B429A931F7E}" type="slidenum">
              <a:t>3</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99840"/>
            <a:ext cx="784872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Hybrid coordination function</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ordination function which combines a prioritized DCF and centrally controlled channel access by a QoC coordinator to provide most of the benefits of an EPCF.</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C:  QoS Coordinator</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ntity controlling QBSS operation under the HCF.  The QC is a type of point coordinator, but uses different rules than both the PC or EP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ounded-duration time interval during which an ESTA may transmit on the WM.  The ESTA obtains each TxOp either by winning an instance of EDCF contention or by receiving a (+)CF-Poll from the QC {or EP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B:  Contention Free Burs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quence of PIFS-separated frame exchanges each of which is either from the QC or in direct response to a (+)CF-Poll from the Q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nomous Burs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quence of SIFS-separated frame exchanges from a plurality of ESTAs, where the first ESTA receives a (+)CF-Poll from the QC, and the right to transmit is conveyed directly between successive ESTA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72682CE-6DCE-4A29-9B66-5DFB3535AF58}" type="slidenum">
              <a:t>4</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roperties of the HCF</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can be used in conjunction with any of the current EDCF proposals (vDCF, pDCF, or TCMA).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sic requirement is for the channel access mechanism to provide a means by which the QC can obtain priority access to the WM with low latency and a high probability of succes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ority access mechanism which is compatible with the legacy DCF and the EDCF proposals is for the QC to commence transmission after detecting the WM to be free (both CCA and NAV) for a PIFS interval.</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C could coexist with an EPC if there are reasons to use HCF and EPCF simultaneously (which is doubtfu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can benefit from BSS overlap mitigation, especially for the purpose of reducing beacon collisions.  However, in typical, low- or medium-density environments, the EDCF should be able to handle QBSS overlap interference without additional mechanis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66CF5CF-D622-4141-92CD-3035B508BB0D}" type="slidenum">
              <a:t>5</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hanges to QoS Baselin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o frame formats and contents of certain field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QoS information in Beacon and Probe Response fram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of information from Duration/ID field to TCID fiel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ed formats for CC and RR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o QoS frame exchange sequences and tim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PIFS and SIF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NAV coverage (duration valu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 Data fram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CC and RR frames during the CP and extra uses for R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9A17DBBC-208D-4BC3-B6A4-B3E172E7A418}" type="slidenum">
              <a:t>6</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Information in Beaco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 limi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time of medium occupancy by an ESTA per non-polled TxOp</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mit bounds the temporal extent of EDCF TxOps, and does not override the DCF rule of sending one MPDU or MMPDU per successful conten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0, TxOp limit is 1 maximum size MSDU at &lt;TBD&gt; data rat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nomous Burst limi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time that an autonomous burst may continue, following issuance by the QC of a QoS-(+)CF-Pol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0, autonomous burst limit equals TxOp limit (e.g. no bursts allow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EDCF mechanism uses a feedback function, the monitoring entity is collocated with the QC and provides a feedback information el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FD2833D3-E82A-4542-B275-FCE7CE5718D6}" type="slidenum">
              <a:t>7</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 of Duration/ID and TCID Field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QoS-specific frame subtypes (QoS Data, CC, RR, Container) are permitted during the CP, where a duration value is required, so the Duration/ID field reverts to its usage as specified in 802.11-1999.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oS information moves to the low-order 12 bits of the TCID fie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ncoding and units have been simplified from those in the QoS baseline.</a:t>
            </a:r>
            <a:endParaRPr b="0" lang="en-US" sz="1600" spc="-1" strike="noStrike">
              <a:solidFill>
                <a:srgbClr val="000000"/>
              </a:solidFill>
              <a:latin typeface="Times New Roman"/>
            </a:endParaRPr>
          </a:p>
        </p:txBody>
      </p:sp>
      <p:graphicFrame>
        <p:nvGraphicFramePr>
          <p:cNvPr id="61" name=""/>
          <p:cNvGraphicFramePr/>
          <p:nvPr/>
        </p:nvGraphicFramePr>
        <p:xfrm>
          <a:off x="1371600" y="3505320"/>
          <a:ext cx="6199200" cy="2962080"/>
        </p:xfrm>
        <a:graphic>
          <a:graphicData uri="http://schemas.openxmlformats.org/presentationml/2006/ole">
            <p:oleObj progId="Word.Document.12" r:id="rId1" spid="">
              <p:embed/>
              <p:pic>
                <p:nvPicPr>
                  <p:cNvPr id="62" name="" descr=""/>
                  <p:cNvPicPr/>
                  <p:nvPr/>
                </p:nvPicPr>
                <p:blipFill>
                  <a:blip r:embed="rId2"/>
                  <a:stretch/>
                </p:blipFill>
                <p:spPr>
                  <a:xfrm>
                    <a:off x="1371600" y="3505320"/>
                    <a:ext cx="6199200" cy="2962080"/>
                  </a:xfrm>
                  <a:prstGeom prst="rect">
                    <a:avLst/>
                  </a:prstGeom>
                  <a:ln w="0">
                    <a:noFill/>
                  </a:ln>
                </p:spPr>
              </p:pic>
            </p:oleObj>
          </a:graphicData>
        </a:graphic>
      </p:graphicFrame>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C02CD17-9E58-4085-AA70-944628144E3F}" type="slidenum">
              <a:t>8</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C and RR Frame Format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 Fram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CID field (with the format shown above for CC frames) is added immediately after the BSSID field to convey the priority limit, CCI length, and CCOP leng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ange also applies for CC+Cf-Ack frames, although it is unclear whether an HC will ever send such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 Fram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ield is replaced with a TCID field (of the format shown above for RR frames) to convey queue state in a uniform manner.</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vision is added to identify whether the reported length is the total amount of queued traffic or the size of the frame at the head of the queu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parate, 2-octet field containing the AID of the requesting ESTA is added immediately after the TCID field to identify the request sourc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C6A1736-2EAE-4820-A70E-9A9F61E85C02}" type="slidenum">
              <a:t>9</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16:41:17Z</dcterms:created>
  <dc:creator>Michael Fischer</dc:creator>
  <dc:description/>
  <dc:language>en-US</dc:language>
  <cp:lastModifiedBy>Michael Fischer</cp:lastModifiedBy>
  <cp:lastPrinted>1998-02-10T13:28:06Z</cp:lastPrinted>
  <dcterms:modified xsi:type="dcterms:W3CDTF">2001-01-05T20:46:14Z</dcterms:modified>
  <cp:revision>32</cp:revision>
  <dc:subject/>
  <dc:title>A Hybrid Coordination Function</dc:title>
</cp:coreProperties>
</file>