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5C5A-66EB-4AAE-88A4-269BADD0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1E89-E5F3-4733-B26A-7AF9B880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FACB-5A1E-4CE6-8564-66D777BD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F986-03B2-484B-A6EB-EC55A32A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186C-571A-40B6-B69A-B5ADC9B6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B081-3238-4581-989F-69C20E8B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E699-5C1D-46D3-9DD9-6B14C5C4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50C5-67AB-487A-9BCB-D891A6E7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DAC4-F6BB-4CA9-B937-CA29B4A0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FDD3-5E20-4636-906B-499A5016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776F-6CF6-4807-B63C-D03A2F5E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4D2C-CDFC-4E9E-A4F9-419D4362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182520"/>
            <a:ext cx="117180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c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991200" y="6474960"/>
            <a:ext cx="16192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wen Wu, Cisco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FDEB15E-6427-4AE2-8451-908AF29A0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ffic Police Enhancement for E-D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wen Wu, liwwu@cisco.com (408-853-406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b Meier, rmeier@cisco.com (330-664-785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g Smith, dsmit@cisco.com (905-305-004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sco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EB0E-35F0-479A-9111-543BCD8EACB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Compat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l 802.11 stations will set their NAV to the value in the ‘Duration’ field . Then, they all have to wait for that time perio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l other 802.11e stations will ignore this ‘Duration’ fiel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9D19-8358-4852-B099-B67A10F925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raffic Pol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ffic Police allows AP to limit the traffic from a single 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E6B7-BD20-4199-BC02-4AB5395381C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Traffic Pol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 unwanted excessive amount of traffic from going through AP into wire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 a abusive station from taking radio resources away from other stations of the same traffic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 premium class traffic from starving the best effort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SP operator may want to have a option not letting best effort user to use more than what they paid f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F780-3DBF-4E68-91B7-05AA600494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all Stations send data within its lim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066680" y="2514600"/>
            <a:ext cx="6342120" cy="3371760"/>
            <a:chOff x="1066680" y="2514600"/>
            <a:chExt cx="6342120" cy="337176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6019560" y="3620880"/>
              <a:ext cx="1389240" cy="8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1066680" y="2630520"/>
              <a:ext cx="914400" cy="74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1066680" y="3925800"/>
              <a:ext cx="914400" cy="74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1143000" y="5145120"/>
              <a:ext cx="91440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361960" y="3011400"/>
              <a:ext cx="3505320" cy="83808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61960" y="3849480"/>
              <a:ext cx="3505320" cy="838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361960" y="4687920"/>
              <a:ext cx="3505320" cy="838080"/>
            </a:xfrm>
            <a:prstGeom prst="rect">
              <a:avLst/>
            </a:prstGeom>
            <a:solidFill>
              <a:srgbClr val="00b15b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109320" y="2514600"/>
              <a:ext cx="2594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hare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Radio medi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04760" y="316368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1080" y="4383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2057400" y="506880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1B20-68C0-4580-B792-E5347353B1A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One Station is abusing the radio resource, other stations get less than they suppose to g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43000" y="4038480"/>
            <a:ext cx="914400" cy="741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2971800"/>
            <a:ext cx="914400" cy="74124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1219320" y="2590920"/>
            <a:ext cx="6265800" cy="3371760"/>
            <a:chOff x="1219320" y="2590920"/>
            <a:chExt cx="6265800" cy="3371760"/>
          </a:xfrm>
        </p:grpSpPr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6095880" y="3697200"/>
              <a:ext cx="1389240" cy="8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1219320" y="5221440"/>
              <a:ext cx="91440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438280" y="3087720"/>
              <a:ext cx="3505320" cy="114300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38280" y="4230720"/>
              <a:ext cx="350532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438280" y="4764240"/>
              <a:ext cx="3505320" cy="457200"/>
            </a:xfrm>
            <a:prstGeom prst="rect">
              <a:avLst/>
            </a:prstGeom>
            <a:solidFill>
              <a:srgbClr val="00b15b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85640" y="2590920"/>
              <a:ext cx="2594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hare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Radio medi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32400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57400" y="4459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2133720" y="514512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D45-513C-471B-9E43-A89637185A5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 we use Traffic Pol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Public Access environment, where stations are untrusted entities, such 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irports(e.g. DCF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tel(e.g. DCF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ference(e.g. DCF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net Café(e.g. DCF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t mile(e.g. PCF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FAFD-9C2C-449B-A965-72E22FB521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Traffic Pol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ffic Police inside AP, drop the unwanted excess packe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back: This does NOT protect radio 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ffic Police on radio medium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6DC6-C288-432D-A00E-29B13FBA9D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ffic Police Proposal for D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a new Action Code in Action Fr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 code=1; QoS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 code = 10; traffic pol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AP can send an “Traffic Police” Action frame t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ESTA, to police that 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 ESTA station is the RA of this “Traffic Police” Action frame, it must set its NAV to the value specified in the ‘Duration’ fiel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AC85-7C85-4859-BBF1-53FEEA1F95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ffic Police of a ES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15480" y="1828800"/>
            <a:ext cx="7995240" cy="4419720"/>
            <a:chOff x="915480" y="1828800"/>
            <a:chExt cx="7995240" cy="44197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6500880" y="1884600"/>
              <a:ext cx="138888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76240" y="1828800"/>
              <a:ext cx="91440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386080" y="2492640"/>
              <a:ext cx="0" cy="370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10360" y="2602080"/>
              <a:ext cx="0" cy="36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2614680" y="2646360"/>
              <a:ext cx="4343400" cy="507600"/>
              <a:chOff x="2614680" y="2646360"/>
              <a:chExt cx="4343400" cy="507600"/>
            </a:xfrm>
          </p:grpSpPr>
          <p:sp>
            <p:nvSpPr>
              <p:cNvPr id="90" name=""/>
              <p:cNvSpPr/>
              <p:nvPr/>
            </p:nvSpPr>
            <p:spPr>
              <a:xfrm>
                <a:off x="2614680" y="2823120"/>
                <a:ext cx="4343400" cy="33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591360" y="2646360"/>
                <a:ext cx="62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ata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606760" y="3276720"/>
              <a:ext cx="4343400" cy="507600"/>
              <a:chOff x="2606760" y="3276720"/>
              <a:chExt cx="4343400" cy="507600"/>
            </a:xfrm>
          </p:grpSpPr>
          <p:sp>
            <p:nvSpPr>
              <p:cNvPr id="93" name=""/>
              <p:cNvSpPr/>
              <p:nvPr/>
            </p:nvSpPr>
            <p:spPr>
              <a:xfrm>
                <a:off x="2606760" y="3453480"/>
                <a:ext cx="4343400" cy="33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583440" y="3276720"/>
                <a:ext cx="62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ata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178400" y="3862440"/>
              <a:ext cx="173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1706"/>
                  </a:solidFill>
                  <a:latin typeface="Times New Roman"/>
                </a:rPr>
                <a:t>exceed the limit!!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2462040" y="3983040"/>
              <a:ext cx="4572000" cy="607680"/>
              <a:chOff x="2462040" y="3983040"/>
              <a:chExt cx="4572000" cy="607680"/>
            </a:xfrm>
          </p:grpSpPr>
          <p:sp>
            <p:nvSpPr>
              <p:cNvPr id="97" name=""/>
              <p:cNvSpPr/>
              <p:nvPr/>
            </p:nvSpPr>
            <p:spPr>
              <a:xfrm flipH="1">
                <a:off x="2462040" y="4148640"/>
                <a:ext cx="4572000" cy="44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456720" y="3983040"/>
                <a:ext cx="1561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“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ffic Police”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1547640" y="481176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47640" y="55850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52560" y="4811760"/>
              <a:ext cx="0" cy="773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538360" y="5656320"/>
              <a:ext cx="4343400" cy="506160"/>
              <a:chOff x="2538360" y="5656320"/>
              <a:chExt cx="4343400" cy="506160"/>
            </a:xfrm>
          </p:grpSpPr>
          <p:sp>
            <p:nvSpPr>
              <p:cNvPr id="103" name=""/>
              <p:cNvSpPr/>
              <p:nvPr/>
            </p:nvSpPr>
            <p:spPr>
              <a:xfrm>
                <a:off x="2538360" y="5831280"/>
                <a:ext cx="4343400" cy="33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515040" y="5656320"/>
                <a:ext cx="62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ata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915480" y="5116680"/>
              <a:ext cx="4978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2454120" y="2971800"/>
              <a:ext cx="4496040" cy="337320"/>
              <a:chOff x="2454120" y="2971800"/>
              <a:chExt cx="4496040" cy="337320"/>
            </a:xfrm>
          </p:grpSpPr>
          <p:sp>
            <p:nvSpPr>
              <p:cNvPr id="107" name=""/>
              <p:cNvSpPr/>
              <p:nvPr/>
            </p:nvSpPr>
            <p:spPr>
              <a:xfrm>
                <a:off x="2454120" y="3276720"/>
                <a:ext cx="449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811320" y="297180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530440" y="3505320"/>
              <a:ext cx="4495680" cy="337320"/>
              <a:chOff x="2530440" y="3505320"/>
              <a:chExt cx="4495680" cy="337320"/>
            </a:xfrm>
          </p:grpSpPr>
          <p:sp>
            <p:nvSpPr>
              <p:cNvPr id="110" name=""/>
              <p:cNvSpPr/>
              <p:nvPr/>
            </p:nvSpPr>
            <p:spPr>
              <a:xfrm>
                <a:off x="2530440" y="3810240"/>
                <a:ext cx="449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887280" y="350532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38DF-5D03-4052-8975-A9556BA8C00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Harry Worstell</cp:lastModifiedBy>
  <cp:lastPrinted>1998-02-10T13:28:06Z</cp:lastPrinted>
  <dcterms:modified xsi:type="dcterms:W3CDTF">2001-01-15T13:56:21Z</dcterms:modified>
  <cp:revision>23</cp:revision>
  <dc:subject/>
  <dc:title>No Slide Title</dc:title>
</cp:coreProperties>
</file>