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7DC9-8347-4316-A33E-850B1F869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5931-DBEE-4376-8883-A637AE65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65BB-D139-404F-B98D-DC3519BFD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C7DB-3E1C-4939-9FA0-F28089F7A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042D-0D2E-45E8-843D-A097B1DA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A495-B476-44BB-AE25-5B318087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8DB3-BC5E-495F-B08D-59F92A48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9439-818E-4397-9D05-90E69100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23B8-15CA-4078-8A9C-4EB40ADD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F165-225E-48C6-94D3-408DC36B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7B90-B107-4DDC-BE63-A2E4B96F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DA18-F0AF-4B7E-91BB-DD7715A9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 Petrick, Parker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C9CF92A-5D70-4F9B-A8D5-F6DD34A1E9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4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4000" y="6446880"/>
            <a:ext cx="1828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ting Membership 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port of Voting Membership Statu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Petr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5A99-2AF0-4078-A153-164AD873486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embership Status November 6, 2000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ter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arly Voter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 in Tamp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pira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members (total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3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72200" y="3200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7080" y="350532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96BF-28A7-46DA-BB29-27063A7CA3A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85800" y="1219320"/>
          <a:ext cx="7848720" cy="431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19320"/>
                    <a:ext cx="7848720" cy="43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C906-463C-4160-A1D0-737C9CB0EAC3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3:03:53Z</dcterms:created>
  <dc:creator>Al Petrick</dc:creator>
  <dc:description/>
  <dc:language>en-US</dc:language>
  <cp:lastModifiedBy>Harry Worstell</cp:lastModifiedBy>
  <cp:lastPrinted>1998-02-10T13:28:06Z</cp:lastPrinted>
  <dcterms:modified xsi:type="dcterms:W3CDTF">2000-12-09T02:39:11Z</dcterms:modified>
  <cp:revision>51</cp:revision>
  <dc:subject/>
  <dc:title>04028W-Report-of-Voting-Membership-Status</dc:title>
</cp:coreProperties>
</file>