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1840" y="68868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CBC07EC-985F-4A6F-A0F2-8F5DC9FE6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7800" y="4363920"/>
            <a:ext cx="5645160" cy="4137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67800" y="4363920"/>
            <a:ext cx="5645160" cy="4137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871-0B7C-4B16-9997-B3730CBF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2B5-71EB-42E4-9DF9-BEB4F160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389-D19C-4BAA-8A6A-BBDBC3D8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77B-C207-4606-B31E-FCE1D8C2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3C8-8A6D-4928-A6D6-3684727E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109-D094-4836-AA05-7C229B42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5FA-CB06-4533-BCF6-76F18898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7BC-8821-4B0D-99EE-A63C6B43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F36-4D88-4BB1-B75C-B536389B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049-EAA1-4040-BF45-91B8AA12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53E3-D704-416F-BEB7-A6372395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C71-E258-48CE-AFC8-6BD020E0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8B0E056-2307-4833-8097-8BEC35764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kward Compatibility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‘Tiered Contention’ Multiple Access (TC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hilde Benve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&amp;T Labs,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A3D-2904-43B8-944D-5A8D9EF0D2A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0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ybrid differentiation (arbitration time and persistence proba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ample:  Constant persistence probability for each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constant persistence probability is equivalent to drawing a backoff counter from a geometric distribution with mean           and variance       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 upper bound on the number of retrials truncates the distributions on the r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3959280" y="2451240"/>
                <a:ext cx="3682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533920" y="2444760"/>
                <a:ext cx="3304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098800" y="4994280"/>
                <a:ext cx="392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995560" y="5013360"/>
                <a:ext cx="392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86080" y="5032440"/>
                <a:ext cx="392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1146240" y="2847960"/>
            <a:ext cx="68911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obability density function of initial backoff counter for the different class populations using the same UAT t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84520" y="3300480"/>
          <a:ext cx="535464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3300480"/>
                    <a:ext cx="535464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544-7DC0-4D2A-949B-848FB7A36C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ummary and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434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ered contention’ enables QoS management while achieving superior performance;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congestion, it prevents collisions between packets of different classes and allows high urgency packets to transmit before low urgency packe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apts to (class-specific) local congestion level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 backward-compatible with the current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ugh the use of Hybrid TCMA in the short term;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olution into its pure form, following PHY specification of a shorter clear channel assessment time for new st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F6B-B608-43CD-9CA8-4173113396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52720" y="46101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355760" y="2476440"/>
            <a:ext cx="2666880" cy="2133720"/>
            <a:chOff x="1355760" y="2476440"/>
            <a:chExt cx="2666880" cy="2133720"/>
          </a:xfrm>
        </p:grpSpPr>
        <p:sp>
          <p:nvSpPr>
            <p:cNvPr id="56" name=""/>
            <p:cNvSpPr/>
            <p:nvPr/>
          </p:nvSpPr>
          <p:spPr>
            <a:xfrm>
              <a:off x="3489480" y="2476440"/>
              <a:ext cx="53316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55960" y="2476440"/>
              <a:ext cx="53352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22440" y="2476440"/>
              <a:ext cx="53352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55760" y="2476440"/>
              <a:ext cx="53352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89280" y="2476440"/>
              <a:ext cx="53316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022640" y="2476440"/>
            <a:ext cx="533520" cy="2133720"/>
          </a:xfrm>
          <a:prstGeom prst="rect">
            <a:avLst/>
          </a:prstGeom>
          <a:noFill/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56160" y="2476440"/>
            <a:ext cx="533520" cy="2133720"/>
          </a:xfrm>
          <a:prstGeom prst="rect">
            <a:avLst/>
          </a:prstGeom>
          <a:noFill/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952720" y="2473200"/>
            <a:ext cx="533520" cy="3733920"/>
          </a:xfrm>
          <a:prstGeom prst="rect">
            <a:avLst/>
          </a:prstGeom>
          <a:noFill/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2954160" y="877680"/>
            <a:ext cx="533520" cy="3730680"/>
          </a:xfrm>
          <a:prstGeom prst="rect">
            <a:avLst/>
          </a:prstGeom>
          <a:noFill/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2952720" y="1942560"/>
            <a:ext cx="533160" cy="3733920"/>
          </a:xfrm>
          <a:prstGeom prst="rect">
            <a:avLst/>
          </a:prstGeom>
          <a:noFill/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2952720" y="1409760"/>
            <a:ext cx="533520" cy="3733920"/>
          </a:xfrm>
          <a:prstGeom prst="rect">
            <a:avLst/>
          </a:prstGeom>
          <a:noFill/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352520" y="24760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52520" y="3009960"/>
            <a:ext cx="3733920" cy="1600200"/>
            <a:chOff x="1352520" y="3009960"/>
            <a:chExt cx="3733920" cy="1600200"/>
          </a:xfrm>
        </p:grpSpPr>
        <p:sp>
          <p:nvSpPr>
            <p:cNvPr id="69" name=""/>
            <p:cNvSpPr/>
            <p:nvPr/>
          </p:nvSpPr>
          <p:spPr>
            <a:xfrm>
              <a:off x="1352520" y="300996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52520" y="4610160"/>
              <a:ext cx="3733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2520" y="354312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2520" y="407664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504800" y="2781360"/>
            <a:ext cx="609480" cy="228600"/>
            <a:chOff x="1504800" y="2781360"/>
            <a:chExt cx="609480" cy="228600"/>
          </a:xfrm>
        </p:grpSpPr>
        <p:sp>
          <p:nvSpPr>
            <p:cNvPr id="74" name=""/>
            <p:cNvSpPr/>
            <p:nvPr/>
          </p:nvSpPr>
          <p:spPr>
            <a:xfrm>
              <a:off x="1581120" y="2781360"/>
              <a:ext cx="5331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04800" y="2781360"/>
              <a:ext cx="745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04800" y="3314880"/>
            <a:ext cx="748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352520" y="3543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504800" y="3543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47720" y="3543120"/>
            <a:ext cx="162000" cy="228600"/>
            <a:chOff x="1647720" y="3543120"/>
            <a:chExt cx="162000" cy="228600"/>
          </a:xfrm>
        </p:grpSpPr>
        <p:sp>
          <p:nvSpPr>
            <p:cNvPr id="80" name=""/>
            <p:cNvSpPr/>
            <p:nvPr/>
          </p:nvSpPr>
          <p:spPr>
            <a:xfrm flipV="1">
              <a:off x="164772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80972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962000" y="3543120"/>
            <a:ext cx="152280" cy="228600"/>
            <a:chOff x="1962000" y="3543120"/>
            <a:chExt cx="152280" cy="228600"/>
          </a:xfrm>
        </p:grpSpPr>
        <p:sp>
          <p:nvSpPr>
            <p:cNvPr id="83" name=""/>
            <p:cNvSpPr/>
            <p:nvPr/>
          </p:nvSpPr>
          <p:spPr>
            <a:xfrm flipV="1">
              <a:off x="196200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11428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571840" y="4076280"/>
            <a:ext cx="304560" cy="228600"/>
            <a:chOff x="2571840" y="4076280"/>
            <a:chExt cx="304560" cy="228600"/>
          </a:xfrm>
        </p:grpSpPr>
        <p:grpSp>
          <p:nvGrpSpPr>
            <p:cNvPr id="86" name=""/>
            <p:cNvGrpSpPr/>
            <p:nvPr/>
          </p:nvGrpSpPr>
          <p:grpSpPr>
            <a:xfrm>
              <a:off x="2571840" y="4076280"/>
              <a:ext cx="161640" cy="228600"/>
              <a:chOff x="2571840" y="4076280"/>
              <a:chExt cx="161640" cy="22860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257184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273348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287640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 flipV="1">
            <a:off x="1352520" y="4076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04800" y="4076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47720" y="4076280"/>
            <a:ext cx="162000" cy="228600"/>
            <a:chOff x="1647720" y="4076280"/>
            <a:chExt cx="162000" cy="228600"/>
          </a:xfrm>
        </p:grpSpPr>
        <p:sp>
          <p:nvSpPr>
            <p:cNvPr id="93" name=""/>
            <p:cNvSpPr/>
            <p:nvPr/>
          </p:nvSpPr>
          <p:spPr>
            <a:xfrm flipV="1">
              <a:off x="164772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80972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962000" y="4076280"/>
            <a:ext cx="457200" cy="228600"/>
            <a:chOff x="1962000" y="4076280"/>
            <a:chExt cx="457200" cy="228600"/>
          </a:xfrm>
        </p:grpSpPr>
        <p:grpSp>
          <p:nvGrpSpPr>
            <p:cNvPr id="96" name=""/>
            <p:cNvGrpSpPr/>
            <p:nvPr/>
          </p:nvGrpSpPr>
          <p:grpSpPr>
            <a:xfrm>
              <a:off x="1962000" y="4076280"/>
              <a:ext cx="162000" cy="228600"/>
              <a:chOff x="1962000" y="4076280"/>
              <a:chExt cx="162000" cy="22860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196200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12400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57560" y="4076280"/>
              <a:ext cx="161640" cy="228600"/>
              <a:chOff x="2257560" y="4076280"/>
              <a:chExt cx="161640" cy="228600"/>
            </a:xfrm>
          </p:grpSpPr>
          <p:sp>
            <p:nvSpPr>
              <p:cNvPr id="100" name=""/>
              <p:cNvSpPr/>
              <p:nvPr/>
            </p:nvSpPr>
            <p:spPr>
              <a:xfrm flipV="1">
                <a:off x="225756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241920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1506600" y="3848040"/>
            <a:ext cx="7452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66920" y="3314880"/>
            <a:ext cx="762120" cy="228600"/>
            <a:chOff x="2266920" y="3314880"/>
            <a:chExt cx="762120" cy="228600"/>
          </a:xfrm>
        </p:grpSpPr>
        <p:sp>
          <p:nvSpPr>
            <p:cNvPr id="104" name=""/>
            <p:cNvSpPr/>
            <p:nvPr/>
          </p:nvSpPr>
          <p:spPr>
            <a:xfrm>
              <a:off x="2343240" y="3314880"/>
              <a:ext cx="68580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6920" y="3314880"/>
              <a:ext cx="745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14440" y="278136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de 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4440" y="33148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440" y="384804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3848040"/>
            <a:ext cx="74880" cy="228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182760" y="3848040"/>
            <a:ext cx="1522440" cy="228600"/>
            <a:chOff x="3182760" y="3848040"/>
            <a:chExt cx="1522440" cy="228600"/>
          </a:xfrm>
        </p:grpSpPr>
        <p:sp>
          <p:nvSpPr>
            <p:cNvPr id="111" name=""/>
            <p:cNvSpPr/>
            <p:nvPr/>
          </p:nvSpPr>
          <p:spPr>
            <a:xfrm>
              <a:off x="3257280" y="3848040"/>
              <a:ext cx="144792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nsmis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2760" y="3848040"/>
              <a:ext cx="7452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352520" y="278136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52520" y="384804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52520" y="331488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4640" y="384804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384804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14640" y="331488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66920" y="3543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343240" y="3543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29040" y="4076280"/>
            <a:ext cx="162000" cy="228600"/>
            <a:chOff x="3029040" y="4076280"/>
            <a:chExt cx="162000" cy="228600"/>
          </a:xfrm>
        </p:grpSpPr>
        <p:sp>
          <p:nvSpPr>
            <p:cNvPr id="122" name=""/>
            <p:cNvSpPr/>
            <p:nvPr/>
          </p:nvSpPr>
          <p:spPr>
            <a:xfrm flipV="1">
              <a:off x="302904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19104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V="1">
            <a:off x="3257640" y="4076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22766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52520" y="1866960"/>
            <a:ext cx="749880" cy="914400"/>
            <a:chOff x="1352520" y="1866960"/>
            <a:chExt cx="749880" cy="914400"/>
          </a:xfrm>
        </p:grpSpPr>
        <p:sp>
          <p:nvSpPr>
            <p:cNvPr id="127" name=""/>
            <p:cNvSpPr/>
            <p:nvPr/>
          </p:nvSpPr>
          <p:spPr>
            <a:xfrm flipV="1">
              <a:off x="1504800" y="1866960"/>
              <a:ext cx="0" cy="914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581120" y="1866960"/>
              <a:ext cx="0" cy="914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352520" y="2171520"/>
              <a:ext cx="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28480" y="2019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590480" y="2019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27560" y="1913040"/>
              <a:ext cx="47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BC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504800" y="22766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803160" y="2179800"/>
            <a:ext cx="66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BC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486080" y="3009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581120" y="3009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352520" y="299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ckoff countdown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400360" y="2523600"/>
            <a:ext cx="3057480" cy="29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legacy st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CPT=DI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CUT=slot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odes are legacy stations with backoff counters m at       equal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(A)=3; m(B)=2; m(C)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2520" y="4610160"/>
            <a:ext cx="0" cy="676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6120" y="48942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End of la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trans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241280" y="4600440"/>
                <a:ext cx="2970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483320" y="4035600"/>
                <a:ext cx="220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98400" y="5487840"/>
            <a:ext cx="3110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CPT =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ckoff counter preparatio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CUT = backoff counter updat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D3F-A035-4F0A-A860-1403509675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Urgency Arbitration Time (UAT) Differentiation by BCPT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tention resolution through backof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52840" y="2028600"/>
            <a:ext cx="3276360" cy="409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CMA Protocol 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urgency class is assigned a different urgency arbitration time (UAT) whose length decreases with increasing urg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rbitration Tim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= interval that the channel must be sensed idle by a node before 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decreasing its backoff counter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cong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igher urgency packets dominate the channel, as lower urgency packets get less of a chance to transmit - </a:t>
            </a:r>
            <a:r>
              <a:rPr b="1" lang="en-US" sz="1000" spc="-1" strike="noStrike">
                <a:solidFill>
                  <a:srgbClr val="ff0000"/>
                </a:solidFill>
                <a:latin typeface="Comic Sans MS"/>
              </a:rPr>
              <a:t>decrease their backoff count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ower urgency packets do not collide with higher urgency pack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stations with classification i= 0,1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086520" y="5699160"/>
                <a:ext cx="14605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A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317760" y="5343480"/>
                <a:ext cx="17640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523800" y="1866960"/>
            <a:ext cx="4575240" cy="3419280"/>
            <a:chOff x="523800" y="1866960"/>
            <a:chExt cx="4575240" cy="3419280"/>
          </a:xfrm>
        </p:grpSpPr>
        <p:sp>
          <p:nvSpPr>
            <p:cNvPr id="150" name=""/>
            <p:cNvSpPr/>
            <p:nvPr/>
          </p:nvSpPr>
          <p:spPr>
            <a:xfrm>
              <a:off x="1362240" y="3314880"/>
              <a:ext cx="2347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2440" y="461016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365120" y="2476440"/>
              <a:ext cx="2666880" cy="2133720"/>
              <a:chOff x="1365120" y="2476440"/>
              <a:chExt cx="2666880" cy="2133720"/>
            </a:xfrm>
          </p:grpSpPr>
          <p:sp>
            <p:nvSpPr>
              <p:cNvPr id="153" name=""/>
              <p:cNvSpPr/>
              <p:nvPr/>
            </p:nvSpPr>
            <p:spPr>
              <a:xfrm>
                <a:off x="3498840" y="2476440"/>
                <a:ext cx="53316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65320" y="2476440"/>
                <a:ext cx="53352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1800" y="2476440"/>
                <a:ext cx="53352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65120" y="2476440"/>
                <a:ext cx="53352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98640" y="2476440"/>
                <a:ext cx="53316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4032360" y="2476440"/>
              <a:ext cx="53316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65520" y="2476440"/>
              <a:ext cx="53352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2962080" y="2473200"/>
              <a:ext cx="533520" cy="37335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2963520" y="877680"/>
              <a:ext cx="533520" cy="373068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2962440" y="1942920"/>
              <a:ext cx="533160" cy="37335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2962080" y="1409760"/>
              <a:ext cx="533520" cy="37335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362240" y="247608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362240" y="3009960"/>
              <a:ext cx="3733560" cy="1600200"/>
              <a:chOff x="1362240" y="3009960"/>
              <a:chExt cx="3733560" cy="1600200"/>
            </a:xfrm>
          </p:grpSpPr>
          <p:sp>
            <p:nvSpPr>
              <p:cNvPr id="166" name=""/>
              <p:cNvSpPr/>
              <p:nvPr/>
            </p:nvSpPr>
            <p:spPr>
              <a:xfrm>
                <a:off x="1362240" y="300996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62240" y="4610160"/>
                <a:ext cx="373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62240" y="354312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62240" y="407664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514520" y="2781360"/>
              <a:ext cx="609480" cy="228600"/>
              <a:chOff x="1514520" y="2781360"/>
              <a:chExt cx="609480" cy="228600"/>
            </a:xfrm>
          </p:grpSpPr>
          <p:sp>
            <p:nvSpPr>
              <p:cNvPr id="171" name=""/>
              <p:cNvSpPr/>
              <p:nvPr/>
            </p:nvSpPr>
            <p:spPr>
              <a:xfrm>
                <a:off x="1590840" y="2781360"/>
                <a:ext cx="533160" cy="228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14520" y="2781360"/>
                <a:ext cx="74520" cy="228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V="1">
              <a:off x="136224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51452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657440" y="3543120"/>
              <a:ext cx="162000" cy="228600"/>
              <a:chOff x="1657440" y="3543120"/>
              <a:chExt cx="162000" cy="228600"/>
            </a:xfrm>
          </p:grpSpPr>
          <p:sp>
            <p:nvSpPr>
              <p:cNvPr id="176" name=""/>
              <p:cNvSpPr/>
              <p:nvPr/>
            </p:nvSpPr>
            <p:spPr>
              <a:xfrm flipV="1">
                <a:off x="165744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181944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971720" y="3543120"/>
              <a:ext cx="152280" cy="228600"/>
              <a:chOff x="1971720" y="3543120"/>
              <a:chExt cx="152280" cy="228600"/>
            </a:xfrm>
          </p:grpSpPr>
          <p:sp>
            <p:nvSpPr>
              <p:cNvPr id="179" name=""/>
              <p:cNvSpPr/>
              <p:nvPr/>
            </p:nvSpPr>
            <p:spPr>
              <a:xfrm flipV="1">
                <a:off x="197172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212400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581200" y="4076280"/>
              <a:ext cx="304920" cy="228600"/>
              <a:chOff x="2581200" y="4076280"/>
              <a:chExt cx="304920" cy="2286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2581200" y="4076280"/>
                <a:ext cx="162000" cy="228600"/>
                <a:chOff x="2581200" y="4076280"/>
                <a:chExt cx="162000" cy="228600"/>
              </a:xfrm>
            </p:grpSpPr>
            <p:sp>
              <p:nvSpPr>
                <p:cNvPr id="183" name=""/>
                <p:cNvSpPr/>
                <p:nvPr/>
              </p:nvSpPr>
              <p:spPr>
                <a:xfrm flipV="1">
                  <a:off x="258120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274320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 flipV="1">
                <a:off x="288612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flipV="1">
              <a:off x="136224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51452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657440" y="4076280"/>
              <a:ext cx="162000" cy="228600"/>
              <a:chOff x="1657440" y="4076280"/>
              <a:chExt cx="162000" cy="22860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165744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181944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1971720" y="4076280"/>
              <a:ext cx="457200" cy="228600"/>
              <a:chOff x="1971720" y="4076280"/>
              <a:chExt cx="457200" cy="2286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971720" y="4076280"/>
                <a:ext cx="162000" cy="228600"/>
                <a:chOff x="1971720" y="4076280"/>
                <a:chExt cx="162000" cy="22860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197172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213372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2267280" y="4076280"/>
                <a:ext cx="161640" cy="228600"/>
                <a:chOff x="2267280" y="4076280"/>
                <a:chExt cx="161640" cy="22860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226728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242892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2359080" y="3314880"/>
              <a:ext cx="762120" cy="228600"/>
              <a:chOff x="2359080" y="3314880"/>
              <a:chExt cx="762120" cy="228600"/>
            </a:xfrm>
          </p:grpSpPr>
          <p:sp>
            <p:nvSpPr>
              <p:cNvPr id="199" name=""/>
              <p:cNvSpPr/>
              <p:nvPr/>
            </p:nvSpPr>
            <p:spPr>
              <a:xfrm>
                <a:off x="2435400" y="3314880"/>
                <a:ext cx="685800" cy="2286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59080" y="3314880"/>
                <a:ext cx="74520" cy="228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23800" y="2781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de C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3800" y="33148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3800" y="384804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7560" y="3848040"/>
              <a:ext cx="1416960" cy="228600"/>
              <a:chOff x="3427560" y="3848040"/>
              <a:chExt cx="1416960" cy="228600"/>
            </a:xfrm>
          </p:grpSpPr>
          <p:sp>
            <p:nvSpPr>
              <p:cNvPr id="205" name=""/>
              <p:cNvSpPr/>
              <p:nvPr/>
            </p:nvSpPr>
            <p:spPr>
              <a:xfrm>
                <a:off x="3496680" y="3848040"/>
                <a:ext cx="134784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ransmi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27560" y="3848040"/>
                <a:ext cx="6912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362240" y="278136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27664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42244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03840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05000" y="22766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362240" y="1866960"/>
              <a:ext cx="749880" cy="914400"/>
              <a:chOff x="1362240" y="1866960"/>
              <a:chExt cx="749880" cy="91440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1514520" y="1866960"/>
                <a:ext cx="0" cy="9144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1590840" y="1866960"/>
                <a:ext cx="0" cy="9144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1362240" y="2171520"/>
                <a:ext cx="0" cy="6094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38200" y="20196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1600200" y="20196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37280" y="1913040"/>
                <a:ext cx="4748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BCU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1514520" y="22766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812880" y="2179800"/>
              <a:ext cx="660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BC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495440" y="3009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590840" y="3009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362240" y="299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62240" y="4610160"/>
              <a:ext cx="0" cy="6760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5840" y="489420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nd of la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mi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51000" y="4600440"/>
                  <a:ext cx="29664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2124000" y="3314880"/>
              <a:ext cx="2350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62240" y="3848040"/>
              <a:ext cx="3110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24000" y="3848040"/>
              <a:ext cx="3114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33800" y="3848040"/>
              <a:ext cx="2905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165480" y="4082760"/>
              <a:ext cx="162000" cy="228600"/>
              <a:chOff x="3165480" y="4082760"/>
              <a:chExt cx="162000" cy="228600"/>
            </a:xfrm>
          </p:grpSpPr>
          <p:sp>
            <p:nvSpPr>
              <p:cNvPr id="232" name=""/>
              <p:cNvSpPr/>
              <p:nvPr/>
            </p:nvSpPr>
            <p:spPr>
              <a:xfrm flipV="1">
                <a:off x="3165480" y="4082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3327480" y="4082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 flipV="1">
              <a:off x="3419640" y="4082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4530600" y="3333600"/>
                  <a:ext cx="100080" cy="1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236" name=""/>
          <p:cNvSpPr/>
          <p:nvPr/>
        </p:nvSpPr>
        <p:spPr>
          <a:xfrm>
            <a:off x="1542960" y="514368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he backoff counter m at     is equal to 1 for all nodes;    m(A)= m(B)=m(C)=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ansmit urgency ranking: (C, B, A); hence,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UAT(A) &gt;UAT(B)&gt;UAT(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314-D3F2-4948-B351-45F1D3B097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Urgency Arbitration Time (UAT) Differentiation by BCPT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tention resolution through use of persistence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23800" y="1866960"/>
            <a:ext cx="4575240" cy="3419280"/>
            <a:chOff x="523800" y="1866960"/>
            <a:chExt cx="4575240" cy="3419280"/>
          </a:xfrm>
        </p:grpSpPr>
        <p:sp>
          <p:nvSpPr>
            <p:cNvPr id="239" name=""/>
            <p:cNvSpPr/>
            <p:nvPr/>
          </p:nvSpPr>
          <p:spPr>
            <a:xfrm>
              <a:off x="1362240" y="3314880"/>
              <a:ext cx="2347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62440" y="461016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1365120" y="2476440"/>
              <a:ext cx="2666880" cy="2133720"/>
              <a:chOff x="1365120" y="2476440"/>
              <a:chExt cx="2666880" cy="2133720"/>
            </a:xfrm>
          </p:grpSpPr>
          <p:sp>
            <p:nvSpPr>
              <p:cNvPr id="242" name=""/>
              <p:cNvSpPr/>
              <p:nvPr/>
            </p:nvSpPr>
            <p:spPr>
              <a:xfrm>
                <a:off x="3498840" y="2476440"/>
                <a:ext cx="53316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965320" y="2476440"/>
                <a:ext cx="53352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31800" y="2476440"/>
                <a:ext cx="53352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365120" y="2476440"/>
                <a:ext cx="53352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898640" y="2476440"/>
                <a:ext cx="53316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4032360" y="2476440"/>
              <a:ext cx="53316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65520" y="2476440"/>
              <a:ext cx="53352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2962080" y="2473200"/>
              <a:ext cx="533520" cy="37335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2963520" y="877680"/>
              <a:ext cx="533520" cy="373068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2962440" y="1942920"/>
              <a:ext cx="533160" cy="37335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2962080" y="1409760"/>
              <a:ext cx="533520" cy="37335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362240" y="247608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362240" y="3009960"/>
              <a:ext cx="3733560" cy="1600200"/>
              <a:chOff x="1362240" y="3009960"/>
              <a:chExt cx="3733560" cy="1600200"/>
            </a:xfrm>
          </p:grpSpPr>
          <p:sp>
            <p:nvSpPr>
              <p:cNvPr id="255" name=""/>
              <p:cNvSpPr/>
              <p:nvPr/>
            </p:nvSpPr>
            <p:spPr>
              <a:xfrm>
                <a:off x="1362240" y="300996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62240" y="4610160"/>
                <a:ext cx="373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62240" y="354312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362240" y="407664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514520" y="2781360"/>
              <a:ext cx="609480" cy="228600"/>
              <a:chOff x="1514520" y="2781360"/>
              <a:chExt cx="609480" cy="228600"/>
            </a:xfrm>
          </p:grpSpPr>
          <p:sp>
            <p:nvSpPr>
              <p:cNvPr id="260" name=""/>
              <p:cNvSpPr/>
              <p:nvPr/>
            </p:nvSpPr>
            <p:spPr>
              <a:xfrm>
                <a:off x="1590840" y="2781360"/>
                <a:ext cx="533160" cy="228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14520" y="2781360"/>
                <a:ext cx="74520" cy="228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 flipV="1">
              <a:off x="136224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51452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657440" y="3543120"/>
              <a:ext cx="162000" cy="228600"/>
              <a:chOff x="1657440" y="3543120"/>
              <a:chExt cx="162000" cy="22860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165744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181944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1971720" y="3543120"/>
              <a:ext cx="152280" cy="228600"/>
              <a:chOff x="1971720" y="3543120"/>
              <a:chExt cx="152280" cy="228600"/>
            </a:xfrm>
          </p:grpSpPr>
          <p:sp>
            <p:nvSpPr>
              <p:cNvPr id="268" name=""/>
              <p:cNvSpPr/>
              <p:nvPr/>
            </p:nvSpPr>
            <p:spPr>
              <a:xfrm flipV="1">
                <a:off x="197172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12400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581200" y="4076280"/>
              <a:ext cx="304920" cy="228600"/>
              <a:chOff x="2581200" y="4076280"/>
              <a:chExt cx="304920" cy="22860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2581200" y="4076280"/>
                <a:ext cx="162000" cy="228600"/>
                <a:chOff x="2581200" y="4076280"/>
                <a:chExt cx="162000" cy="228600"/>
              </a:xfrm>
            </p:grpSpPr>
            <p:sp>
              <p:nvSpPr>
                <p:cNvPr id="272" name=""/>
                <p:cNvSpPr/>
                <p:nvPr/>
              </p:nvSpPr>
              <p:spPr>
                <a:xfrm flipV="1">
                  <a:off x="258120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274320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 flipV="1">
                <a:off x="288612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flipV="1">
              <a:off x="136224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51452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657440" y="4076280"/>
              <a:ext cx="162000" cy="228600"/>
              <a:chOff x="1657440" y="4076280"/>
              <a:chExt cx="162000" cy="228600"/>
            </a:xfrm>
          </p:grpSpPr>
          <p:sp>
            <p:nvSpPr>
              <p:cNvPr id="278" name=""/>
              <p:cNvSpPr/>
              <p:nvPr/>
            </p:nvSpPr>
            <p:spPr>
              <a:xfrm flipV="1">
                <a:off x="165744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81944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971720" y="4076280"/>
              <a:ext cx="457200" cy="228600"/>
              <a:chOff x="1971720" y="4076280"/>
              <a:chExt cx="457200" cy="2286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1971720" y="4076280"/>
                <a:ext cx="162000" cy="228600"/>
                <a:chOff x="1971720" y="4076280"/>
                <a:chExt cx="162000" cy="228600"/>
              </a:xfrm>
            </p:grpSpPr>
            <p:sp>
              <p:nvSpPr>
                <p:cNvPr id="282" name=""/>
                <p:cNvSpPr/>
                <p:nvPr/>
              </p:nvSpPr>
              <p:spPr>
                <a:xfrm flipV="1">
                  <a:off x="197172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213372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267280" y="4076280"/>
                <a:ext cx="161640" cy="228600"/>
                <a:chOff x="2267280" y="4076280"/>
                <a:chExt cx="161640" cy="228600"/>
              </a:xfrm>
            </p:grpSpPr>
            <p:sp>
              <p:nvSpPr>
                <p:cNvPr id="285" name=""/>
                <p:cNvSpPr/>
                <p:nvPr/>
              </p:nvSpPr>
              <p:spPr>
                <a:xfrm flipV="1">
                  <a:off x="226728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242892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2359080" y="3314880"/>
              <a:ext cx="762120" cy="228600"/>
              <a:chOff x="2359080" y="3314880"/>
              <a:chExt cx="762120" cy="228600"/>
            </a:xfrm>
          </p:grpSpPr>
          <p:sp>
            <p:nvSpPr>
              <p:cNvPr id="288" name=""/>
              <p:cNvSpPr/>
              <p:nvPr/>
            </p:nvSpPr>
            <p:spPr>
              <a:xfrm>
                <a:off x="2435400" y="3314880"/>
                <a:ext cx="685800" cy="2286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59080" y="3314880"/>
                <a:ext cx="74520" cy="228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23800" y="2781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de C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3800" y="33148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800" y="384804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427560" y="3848040"/>
              <a:ext cx="1416960" cy="228600"/>
              <a:chOff x="3427560" y="3848040"/>
              <a:chExt cx="1416960" cy="228600"/>
            </a:xfrm>
          </p:grpSpPr>
          <p:sp>
            <p:nvSpPr>
              <p:cNvPr id="294" name=""/>
              <p:cNvSpPr/>
              <p:nvPr/>
            </p:nvSpPr>
            <p:spPr>
              <a:xfrm>
                <a:off x="3496680" y="3848040"/>
                <a:ext cx="134784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ransmi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27560" y="3848040"/>
                <a:ext cx="6912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1362240" y="278136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27664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42244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03840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05000" y="22766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362240" y="1866960"/>
              <a:ext cx="749880" cy="914400"/>
              <a:chOff x="1362240" y="1866960"/>
              <a:chExt cx="749880" cy="914400"/>
            </a:xfrm>
          </p:grpSpPr>
          <p:sp>
            <p:nvSpPr>
              <p:cNvPr id="302" name=""/>
              <p:cNvSpPr/>
              <p:nvPr/>
            </p:nvSpPr>
            <p:spPr>
              <a:xfrm flipV="1">
                <a:off x="1514520" y="1866960"/>
                <a:ext cx="0" cy="9144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1590840" y="1866960"/>
                <a:ext cx="0" cy="9144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1362240" y="2171520"/>
                <a:ext cx="0" cy="6094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38200" y="20196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1600200" y="20196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37280" y="1913040"/>
                <a:ext cx="4748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BCU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1514520" y="22766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812880" y="2179800"/>
              <a:ext cx="660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BC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495440" y="3009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1590840" y="3009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362240" y="299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62240" y="4610160"/>
              <a:ext cx="0" cy="6760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5840" y="489420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nd of la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mi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1251000" y="4600440"/>
                  <a:ext cx="29664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"/>
            <p:cNvSpPr/>
            <p:nvPr/>
          </p:nvSpPr>
          <p:spPr>
            <a:xfrm>
              <a:off x="2124000" y="3314880"/>
              <a:ext cx="2350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62240" y="3848040"/>
              <a:ext cx="3110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4000" y="3848040"/>
              <a:ext cx="3114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33800" y="3848040"/>
              <a:ext cx="2905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65480" y="4082760"/>
              <a:ext cx="162000" cy="228600"/>
              <a:chOff x="3165480" y="4082760"/>
              <a:chExt cx="162000" cy="228600"/>
            </a:xfrm>
          </p:grpSpPr>
          <p:sp>
            <p:nvSpPr>
              <p:cNvPr id="321" name=""/>
              <p:cNvSpPr/>
              <p:nvPr/>
            </p:nvSpPr>
            <p:spPr>
              <a:xfrm flipV="1">
                <a:off x="3165480" y="4082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3327480" y="4082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flipV="1">
              <a:off x="3419640" y="4082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4530600" y="3333600"/>
                  <a:ext cx="100080" cy="1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060960" y="5575320"/>
                <a:ext cx="14605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A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1441440" y="4898880"/>
            <a:ext cx="32767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very node got a ‘success’ when checking for permission to transmit after the first idle slot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ansmit urgency ranking: (C, B, A); hence,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UAT(A) &gt;UAT(B)&gt;UAT(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04960" y="1905120"/>
            <a:ext cx="3305160" cy="410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CMA Protocol 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urgency class is assigned a different arbitration time (UAT) whose length decreases with increasing urg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rbitration Tim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= interval that the channel must be sensed idle by a node before 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checking for permission to transm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conges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igher urgency packets  dominate the channel, as lower urgency packets get less of a chance to transmit - </a:t>
            </a:r>
            <a:r>
              <a:rPr b="1" lang="en-US" sz="1000" spc="-1" strike="noStrike">
                <a:solidFill>
                  <a:srgbClr val="ff0000"/>
                </a:solidFill>
                <a:latin typeface="Comic Sans MS"/>
              </a:rPr>
              <a:t>check for permission to transm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ower urgency packets do not collide with higher urgency pack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stations with classification i= 0,1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FA3-9898-4AA1-BE45-B42218F8D1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827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dditional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40" y="161928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QoS-management featur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igns urgency class to access buffer packet by various QoS-driven scheduling algorithms that adapt to real-time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apts to estimates of (class-specific) local congestion levels, which are obtained by broadcasting the number and age of (class-specific) transmission attemp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justs starting backoff counter to provide proper dispersion of traffic bursts and reduce conten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s with traffic-adjusted backoff counter distribution, which may be made more persistent upon re-transmission to reduce contention and del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ollision avoidance through backoff with similar benef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cels transmission retrials based on delay-related criteria that discriminate between traffic 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EEC-3839-48B6-B245-073D63FBCF0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95160" y="723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equirements for backward Compatibility with IEEE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24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ith arbitration time differentiation,                          for stations with classification i= 0,1,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ckward compatibility with legacy stations requi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                              for all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                            ; the arbitration increment (AI)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must enable clear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nnel assess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;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backoff counter update time must enable clear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nnel assess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bitration time differentiation thus permits a single class with urgency higher than legacy packets, since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IFS=PIFS+slot.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 the short ter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Use a ‘hybrid’ approach to increase the number of high urgency classes; this emplo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CMA to generate a high-urgency class with UAT=PIFS;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fferentiates further by varying the contention resolution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ong-term approac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Changes in the PHY specification would accommodate shorter AI and BCUT times, thus yielding multiple UAT-differentiated classes with higher urg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365720" y="1486080"/>
                <a:ext cx="146052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A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739880" y="2343240"/>
                <a:ext cx="13050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A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PIF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735200" y="3191040"/>
                <a:ext cx="144936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UT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slo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i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36640" y="2654280"/>
                <a:ext cx="12621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I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slo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im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04B-88D5-40C4-8D32-4DC50EB428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ybrid differentiation (arbitration time and backoff distrib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187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AT differentiation generates a top-urgency class -- UAT(0)=PIF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rther differentiation is achieved through the probability distribution, from which backoff counters are drawn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lower mean value is used for higher priority packe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higher variance is used for higher traffic intens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ffic intensity is determined by remembering the number and age of transmission attempts of packets in different classes by a station;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y listening to the same information, contained in the transmissions of other st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*v-DCF differentiates between all classes through the use of different backoff p.d.f.s that are uni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303-679B-4075-AF94-A00EEE162C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ybrid differentiation (arbitration time and backoff distrib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ample:  Uniform Backoff Distribution for each cla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ree classes are shown, with means                       and variances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tiguous, non-overlapping uniform distributions are employed to obtain uniform envelop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ir boundaries are determined from class-specific traffic estim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    is the local congestion of class i, and                      is the window size needed for adequate dispersion of the composite cong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X is determined from  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superposition of the probability density functions of the backoff counter distributions yields a uniform density function,  thus achieving uniform dispersion of the contending stations’ backoff 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400640" y="1711440"/>
                <a:ext cx="780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599160" y="1681200"/>
                <a:ext cx="12384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1327320" y="5130720"/>
            <a:ext cx="68911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obability density function of initial backoff counter for the different class populations using the same UAT t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09720" y="5978520"/>
            <a:ext cx="4705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20920" y="5730840"/>
            <a:ext cx="1009800" cy="247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40080" y="5730840"/>
            <a:ext cx="1476360" cy="247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16440" y="5730840"/>
            <a:ext cx="1009800" cy="247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67200" y="6053040"/>
            <a:ext cx="34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48200" y="607212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2/U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72440" y="606276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/U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19680" y="603396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54440" y="6319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39920" y="63104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24600" y="544356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24840" y="543384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05800" y="543384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342880" y="5710320"/>
            <a:ext cx="3504960" cy="276480"/>
            <a:chOff x="2342880" y="5710320"/>
            <a:chExt cx="3504960" cy="276480"/>
          </a:xfrm>
        </p:grpSpPr>
        <p:sp>
          <p:nvSpPr>
            <p:cNvPr id="357" name=""/>
            <p:cNvSpPr/>
            <p:nvPr/>
          </p:nvSpPr>
          <p:spPr>
            <a:xfrm>
              <a:off x="2709720" y="571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66840" y="5854680"/>
              <a:ext cx="285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342880" y="5854680"/>
              <a:ext cx="285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00240" y="571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57360" y="5854680"/>
              <a:ext cx="552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371760" y="5854680"/>
              <a:ext cx="447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05240" y="571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2360" y="5854680"/>
              <a:ext cx="285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838040" y="5854680"/>
              <a:ext cx="285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77920" y="2971800"/>
                <a:ext cx="1413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4521240" y="3333600"/>
                <a:ext cx="10008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7074000" y="2736720"/>
                <a:ext cx="861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997520" y="3543480"/>
                <a:ext cx="93960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657440" y="3522600"/>
                <a:ext cx="2253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1803240" y="5981760"/>
            <a:ext cx="485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171880" y="548640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135-2CBE-459A-81D3-B4447FE4FF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ybrid differentiation (arbitration time and persistence proba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5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AT differentiation generates a master urgency class -- UAT(0)=PIF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rther differentiation is achieved through the persistence probability, which is used to determine whether to transmit following an idle slot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higher persistence probability is used for higher priority packets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variance of the distribution will depend on the traffic intens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ffic intensity is determined by remembering the number and age of transmission attempts of packets in different classes by a station;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y listening to a broadcast of the same in transmissions from other st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*p-DCF differentiates between all classes through the use of different persistence probabilities that are higher for higher priority packe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1EA-E16B-4CA3-B093-DE9F7E705B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5:24:53Z</dcterms:created>
  <dc:creator>Mathilde Benveniste</dc:creator>
  <dc:description/>
  <dc:language>en-US</dc:language>
  <cp:lastModifiedBy>Mathilde Benveniste</cp:lastModifiedBy>
  <cp:lastPrinted>2000-12-12T22:28:27Z</cp:lastPrinted>
  <dcterms:modified xsi:type="dcterms:W3CDTF">2000-12-20T22:21:18Z</dcterms:modified>
  <cp:revision>105</cp:revision>
  <dc:subject/>
  <dc:title>No Slide Title</dc:title>
</cp:coreProperties>
</file>