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1840" y="68868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3640176-BB4E-4BCE-B0F3-1FA6BF011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4DE-7588-4DFD-8FC4-E9DD1B80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707-D8AA-41BB-A320-D981404B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4FE-B420-4B96-A711-D69D097F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59FD-9C53-497D-88CD-E744FDEF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026-D15D-4DE1-AA8D-44B1B4B4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87C-0142-4135-891C-AEC35143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6B1-9D29-460C-8D65-F213AE36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4A9-F931-484F-90D5-D88FEBEF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E11-AB30-498B-84DF-FD0E3F78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52B-8EAC-48B3-BDC2-AFD36761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9E8-C405-4DCD-A262-7EB18E17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953-FF9C-41AD-A1E9-3EDB835F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2A3BCA-40B3-4C8D-A092-5F88F800F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nhanced-DCF Proposal Based on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‘Tiered Contention’ Multiple Access (TC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hilde Benven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&amp;T Labs,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B5C-5D77-4BD2-8629-C76BF6E4435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Key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E-DCF proposal enables QoS management while achieving the fo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s responsive to QoS performance with simple MAC protocol --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ftware mapping of 8 traffic classes into a fewer urgency classes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dapts in real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duces conten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ithout starving low priority classes --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imizes collision probability between certain traffi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sses, allowing high urgency packets to go firs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CF remains 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uly distributed protocol --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l nodes (APs and stations) are treated alike; the same DCF MAC protocol is used by bot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7AA-10E3-467A-83DC-937E33560E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Traffic class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re are nPC=8 priority classes defined for all traffic packets which are permanently assigned to a packet once generated,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according to 802.1d Annex H.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re are nUC=N urgency classes employed for channel contention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urgency class of a packet is updated in real time so that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reflects both the priority class of the packet and the speed with which packets of different traffic classes and ages (the time since arrival at the queue) must be trans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relies on the performance observed in real ti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*The value of N will be determined following further sensitivity analysis and opti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106640" y="3505320"/>
            <a:ext cx="6693120" cy="1966320"/>
            <a:chOff x="1106640" y="3505320"/>
            <a:chExt cx="6693120" cy="1966320"/>
          </a:xfrm>
        </p:grpSpPr>
        <p:sp>
          <p:nvSpPr>
            <p:cNvPr id="59" name=""/>
            <p:cNvSpPr/>
            <p:nvPr/>
          </p:nvSpPr>
          <p:spPr>
            <a:xfrm>
              <a:off x="1106640" y="466236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95600" y="4541760"/>
              <a:ext cx="9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95600" y="4770360"/>
              <a:ext cx="9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95600" y="4998960"/>
              <a:ext cx="9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95600" y="5227560"/>
              <a:ext cx="9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04000" y="4387680"/>
              <a:ext cx="38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06520" y="5149800"/>
              <a:ext cx="390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C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95600" y="5126040"/>
              <a:ext cx="9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5600" y="4643280"/>
              <a:ext cx="9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95600" y="4889520"/>
              <a:ext cx="9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2670120" y="4389480"/>
              <a:ext cx="2381400" cy="1066320"/>
              <a:chOff x="2670120" y="4389480"/>
              <a:chExt cx="2381400" cy="1066320"/>
            </a:xfrm>
          </p:grpSpPr>
          <p:sp>
            <p:nvSpPr>
              <p:cNvPr id="70" name=""/>
              <p:cNvSpPr/>
              <p:nvPr/>
            </p:nvSpPr>
            <p:spPr>
              <a:xfrm>
                <a:off x="2670120" y="4389480"/>
                <a:ext cx="1258560" cy="10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936240" y="4496760"/>
                <a:ext cx="1115280" cy="261720"/>
              </a:xfrm>
              <a:custGeom>
                <a:avLst/>
                <a:gdLst/>
                <a:ahLst/>
                <a:rect l="l" t="t" r="r" b="b"/>
                <a:pathLst>
                  <a:path w="1045" h="165">
                    <a:moveTo>
                      <a:pt x="784" y="0"/>
                    </a:moveTo>
                    <a:lnTo>
                      <a:pt x="784" y="40"/>
                    </a:lnTo>
                    <a:lnTo>
                      <a:pt x="0" y="40"/>
                    </a:lnTo>
                    <a:lnTo>
                      <a:pt x="0" y="124"/>
                    </a:lnTo>
                    <a:lnTo>
                      <a:pt x="784" y="124"/>
                    </a:lnTo>
                    <a:lnTo>
                      <a:pt x="784" y="165"/>
                    </a:lnTo>
                    <a:lnTo>
                      <a:pt x="1045" y="82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34440" y="4789080"/>
                <a:ext cx="1115280" cy="261360"/>
              </a:xfrm>
              <a:custGeom>
                <a:avLst/>
                <a:gdLst/>
                <a:ahLst/>
                <a:rect l="l" t="t" r="r" b="b"/>
                <a:pathLst>
                  <a:path w="1045" h="165">
                    <a:moveTo>
                      <a:pt x="784" y="0"/>
                    </a:moveTo>
                    <a:lnTo>
                      <a:pt x="784" y="40"/>
                    </a:lnTo>
                    <a:lnTo>
                      <a:pt x="0" y="40"/>
                    </a:lnTo>
                    <a:lnTo>
                      <a:pt x="0" y="124"/>
                    </a:lnTo>
                    <a:lnTo>
                      <a:pt x="784" y="124"/>
                    </a:lnTo>
                    <a:lnTo>
                      <a:pt x="784" y="165"/>
                    </a:lnTo>
                    <a:lnTo>
                      <a:pt x="1045" y="82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36240" y="5082840"/>
                <a:ext cx="1115280" cy="261360"/>
              </a:xfrm>
              <a:custGeom>
                <a:avLst/>
                <a:gdLst/>
                <a:ahLst/>
                <a:rect l="l" t="t" r="r" b="b"/>
                <a:pathLst>
                  <a:path w="1045" h="165">
                    <a:moveTo>
                      <a:pt x="784" y="0"/>
                    </a:moveTo>
                    <a:lnTo>
                      <a:pt x="784" y="40"/>
                    </a:lnTo>
                    <a:lnTo>
                      <a:pt x="0" y="40"/>
                    </a:lnTo>
                    <a:lnTo>
                      <a:pt x="0" y="124"/>
                    </a:lnTo>
                    <a:lnTo>
                      <a:pt x="784" y="124"/>
                    </a:lnTo>
                    <a:lnTo>
                      <a:pt x="784" y="165"/>
                    </a:lnTo>
                    <a:lnTo>
                      <a:pt x="1045" y="82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660760" y="4537080"/>
              <a:ext cx="1272960" cy="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71920" y="4537080"/>
              <a:ext cx="126180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660760" y="5233680"/>
              <a:ext cx="127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60760" y="4659120"/>
              <a:ext cx="12729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60760" y="4781520"/>
              <a:ext cx="127296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60760" y="5135400"/>
              <a:ext cx="126216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671920" y="4647600"/>
              <a:ext cx="12510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71920" y="4890960"/>
              <a:ext cx="125100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684520" y="4976280"/>
              <a:ext cx="12384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84520" y="5013360"/>
              <a:ext cx="1260360" cy="2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060880" y="4405320"/>
              <a:ext cx="2382480" cy="1066320"/>
              <a:chOff x="5060880" y="4405320"/>
              <a:chExt cx="2382480" cy="1066320"/>
            </a:xfrm>
          </p:grpSpPr>
          <p:sp>
            <p:nvSpPr>
              <p:cNvPr id="85" name=""/>
              <p:cNvSpPr/>
              <p:nvPr/>
            </p:nvSpPr>
            <p:spPr>
              <a:xfrm>
                <a:off x="5060880" y="4405320"/>
                <a:ext cx="1259280" cy="10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327720" y="4512600"/>
                <a:ext cx="1115640" cy="261720"/>
              </a:xfrm>
              <a:custGeom>
                <a:avLst/>
                <a:gdLst/>
                <a:ahLst/>
                <a:rect l="l" t="t" r="r" b="b"/>
                <a:pathLst>
                  <a:path w="1045" h="165">
                    <a:moveTo>
                      <a:pt x="784" y="0"/>
                    </a:moveTo>
                    <a:lnTo>
                      <a:pt x="784" y="40"/>
                    </a:lnTo>
                    <a:lnTo>
                      <a:pt x="0" y="40"/>
                    </a:lnTo>
                    <a:lnTo>
                      <a:pt x="0" y="124"/>
                    </a:lnTo>
                    <a:lnTo>
                      <a:pt x="784" y="124"/>
                    </a:lnTo>
                    <a:lnTo>
                      <a:pt x="784" y="165"/>
                    </a:lnTo>
                    <a:lnTo>
                      <a:pt x="1045" y="82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325920" y="4804920"/>
                <a:ext cx="1115640" cy="261360"/>
              </a:xfrm>
              <a:custGeom>
                <a:avLst/>
                <a:gdLst/>
                <a:ahLst/>
                <a:rect l="l" t="t" r="r" b="b"/>
                <a:pathLst>
                  <a:path w="1045" h="165">
                    <a:moveTo>
                      <a:pt x="784" y="0"/>
                    </a:moveTo>
                    <a:lnTo>
                      <a:pt x="784" y="40"/>
                    </a:lnTo>
                    <a:lnTo>
                      <a:pt x="0" y="40"/>
                    </a:lnTo>
                    <a:lnTo>
                      <a:pt x="0" y="124"/>
                    </a:lnTo>
                    <a:lnTo>
                      <a:pt x="784" y="124"/>
                    </a:lnTo>
                    <a:lnTo>
                      <a:pt x="784" y="165"/>
                    </a:lnTo>
                    <a:lnTo>
                      <a:pt x="1045" y="82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27720" y="5098680"/>
                <a:ext cx="1115640" cy="261360"/>
              </a:xfrm>
              <a:custGeom>
                <a:avLst/>
                <a:gdLst/>
                <a:ahLst/>
                <a:rect l="l" t="t" r="r" b="b"/>
                <a:pathLst>
                  <a:path w="1045" h="165">
                    <a:moveTo>
                      <a:pt x="784" y="0"/>
                    </a:moveTo>
                    <a:lnTo>
                      <a:pt x="784" y="40"/>
                    </a:lnTo>
                    <a:lnTo>
                      <a:pt x="0" y="40"/>
                    </a:lnTo>
                    <a:lnTo>
                      <a:pt x="0" y="124"/>
                    </a:lnTo>
                    <a:lnTo>
                      <a:pt x="784" y="124"/>
                    </a:lnTo>
                    <a:lnTo>
                      <a:pt x="784" y="165"/>
                    </a:lnTo>
                    <a:lnTo>
                      <a:pt x="1045" y="82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490760" y="3652560"/>
              <a:ext cx="85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ior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las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65480" y="39290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984840" y="3898800"/>
              <a:ext cx="16812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00040" y="3703680"/>
              <a:ext cx="677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Urge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las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950000" y="3505320"/>
              <a:ext cx="1438200" cy="855360"/>
              <a:chOff x="4950000" y="3505320"/>
              <a:chExt cx="1438200" cy="855360"/>
            </a:xfrm>
          </p:grpSpPr>
          <p:sp>
            <p:nvSpPr>
              <p:cNvPr id="94" name=""/>
              <p:cNvSpPr/>
              <p:nvPr/>
            </p:nvSpPr>
            <p:spPr>
              <a:xfrm>
                <a:off x="5058000" y="3589200"/>
                <a:ext cx="1266840" cy="70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ff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Classification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(t2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50000" y="3505320"/>
                <a:ext cx="1438200" cy="855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flipV="1">
              <a:off x="6399360" y="3903480"/>
              <a:ext cx="16992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77920" y="3708360"/>
              <a:ext cx="677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Urge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las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795920" y="3909960"/>
              <a:ext cx="16992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58000" y="4624200"/>
              <a:ext cx="12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058000" y="4636800"/>
              <a:ext cx="126180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67360" y="4917960"/>
              <a:ext cx="12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058000" y="4941720"/>
              <a:ext cx="126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58000" y="5209920"/>
              <a:ext cx="12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350480" y="4506840"/>
              <a:ext cx="449280" cy="902160"/>
              <a:chOff x="7350480" y="4506840"/>
              <a:chExt cx="449280" cy="902160"/>
            </a:xfrm>
          </p:grpSpPr>
          <p:sp>
            <p:nvSpPr>
              <p:cNvPr id="105" name=""/>
              <p:cNvSpPr/>
              <p:nvPr/>
            </p:nvSpPr>
            <p:spPr>
              <a:xfrm>
                <a:off x="7350480" y="4506840"/>
                <a:ext cx="40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UC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356960" y="517788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UC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350120" y="36622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08480" y="3511440"/>
              <a:ext cx="1438200" cy="855360"/>
              <a:chOff x="2508480" y="3511440"/>
              <a:chExt cx="1438200" cy="855360"/>
            </a:xfrm>
          </p:grpSpPr>
          <p:sp>
            <p:nvSpPr>
              <p:cNvPr id="109" name=""/>
              <p:cNvSpPr/>
              <p:nvPr/>
            </p:nvSpPr>
            <p:spPr>
              <a:xfrm>
                <a:off x="2616480" y="3595320"/>
                <a:ext cx="1266840" cy="70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ff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Classification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(t1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08480" y="3511440"/>
                <a:ext cx="1438200" cy="855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A47-08C2-4B10-B3AA-87E9812E90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lass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fferentiation between urgency classes is achieved through differentiation w.r.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rgency arbitration times (U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rter arbitration times are used for greater-urgency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ameters of the probability distribution for the  backoff counters (for the same UAT valu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ean and variance will reflect the traffic intensity in the differen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ckoff retry adjustment fun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vern the adjustment of the backoff distribution parameters on successive retries following transmission fail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llision avoidance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vern the degree to which new arrivals defer to contending 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cket age lim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ad to cancellation of transmission if the age exceeds the threshold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*S is an integer multiple of the slot time; its value will be determined following further sensitivity analysis and opti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12880" y="4610160"/>
          <a:ext cx="7569000" cy="167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4610160"/>
                    <a:ext cx="75690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78AB-D4E0-4ABB-BD89-B78B54FC98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728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Urgency Arbitration Times (UA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minimum UAT value is 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tention with the PCF is thus avo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different UAT values associated with different urgency classes differ by a time slo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carrier-sense mechanism thus has time to determine if the medium is bu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probability that packets from classes with different UAT values will collide is minimiz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congestion, when several nodes have packets of higher classifications with nearly expired backoff counters (that is, equal to 1) the possibility of collision is eli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congestion, higher urgency packets will be transmitted before lower urgency 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C43-5592-49C0-8A9B-5D263F517B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ackoff Counter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4908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andom backoff counter will be drawn initially from a uniform distribution with range [rLower,rUpp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anges of the backoff distributions are determined from estimates of traffic inten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higher variance is used for higher traffic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gher intensity in classes of greater urgency increase the mean of the distribu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lower bound of the backoff range, rLower, will be greater than or equal to 1, for all classes with UAT=PIF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tention with the PCF is thus avo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legacy packets with initial backoff=0  will transmit before classes 1,2, and 3 in congestion [This occurs for 1/(aCWmin+1)=3% of the legacy packets; the remaining 97% will defer to the higher urgency classe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lowing transmission failure, adjustment of th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ckoff range (aLower,aUpper) will depend 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packet’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gency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clas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traffic intensity estimate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packet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new backoff range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y lead to greater persistence (lower backoff counters) for aging packe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606-2A1E-4B48-B0F4-044E33794E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Adaptation to Traffic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cket headers and messages will be exchanged during reservation inclu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urgency class of the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number of the retrial attempt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packet ag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lass-specific traffic intensity estimates will be derived from information “remembered”  by a node concerning its own packets and from information received about packets of neighbouring node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raffic adaptation occurs when the parameters of the backoff distribution are determined initially and upon retrial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Distributed Coordination Function thus remains 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distributed,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s estimation of traffic intensity and adaptation of the backoff distribution is performed in a decentralized mann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*Formulas for the adaptation will be provided following further sensitivity analysis and optimizatio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CCA-7BF2-43DE-AC90-03CE056A3C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Scheduling of multiple stream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6168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rallel queues shall be maintained for each class at a node, each adhering to backoff principles consistent with that 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ackets will change queues when their urgency classifications are adju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 packet will leave its queue if its transmission is cancelled due to excessive latency; the age threshold, aAgeLimit, will be clas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When a packet’s backoff counter becomes 1 it shall be placed in the node’s access buffer; in case of a tie, the higher urgency packet is selec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ckets generated by stations with multiple traffic types will thus not be disadvant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* This is similar to the approach in the V-DCF proposal with a mod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57560" y="4197240"/>
            <a:ext cx="835200" cy="446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98680" y="4303800"/>
            <a:ext cx="1658880" cy="261720"/>
          </a:xfrm>
          <a:custGeom>
            <a:avLst/>
            <a:gdLst/>
            <a:ahLst/>
            <a:rect l="l" t="t" r="r" b="b"/>
            <a:pathLst>
              <a:path w="1045" h="165">
                <a:moveTo>
                  <a:pt x="784" y="0"/>
                </a:moveTo>
                <a:lnTo>
                  <a:pt x="784" y="40"/>
                </a:lnTo>
                <a:lnTo>
                  <a:pt x="0" y="40"/>
                </a:lnTo>
                <a:lnTo>
                  <a:pt x="0" y="124"/>
                </a:lnTo>
                <a:lnTo>
                  <a:pt x="784" y="124"/>
                </a:lnTo>
                <a:lnTo>
                  <a:pt x="784" y="165"/>
                </a:lnTo>
                <a:lnTo>
                  <a:pt x="1045" y="82"/>
                </a:lnTo>
                <a:lnTo>
                  <a:pt x="784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98680" y="4905360"/>
            <a:ext cx="1658880" cy="263520"/>
          </a:xfrm>
          <a:custGeom>
            <a:avLst/>
            <a:gdLst/>
            <a:ahLst/>
            <a:rect l="l" t="t" r="r" b="b"/>
            <a:pathLst>
              <a:path w="1045" h="166">
                <a:moveTo>
                  <a:pt x="784" y="0"/>
                </a:moveTo>
                <a:lnTo>
                  <a:pt x="784" y="41"/>
                </a:lnTo>
                <a:lnTo>
                  <a:pt x="0" y="41"/>
                </a:lnTo>
                <a:lnTo>
                  <a:pt x="0" y="123"/>
                </a:lnTo>
                <a:lnTo>
                  <a:pt x="784" y="123"/>
                </a:lnTo>
                <a:lnTo>
                  <a:pt x="784" y="166"/>
                </a:lnTo>
                <a:lnTo>
                  <a:pt x="1045" y="83"/>
                </a:lnTo>
                <a:lnTo>
                  <a:pt x="784" y="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57560" y="4809960"/>
            <a:ext cx="835200" cy="44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22360" y="4113360"/>
            <a:ext cx="114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3800" y="4179960"/>
            <a:ext cx="1155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cket Stream to Node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22360" y="4737240"/>
            <a:ext cx="1140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04440" y="4795920"/>
            <a:ext cx="1155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cket Stream to Node 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81600" y="4030560"/>
            <a:ext cx="1056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54000" y="3930480"/>
            <a:ext cx="634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 Buf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81600" y="4637160"/>
            <a:ext cx="10569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25600" y="5373720"/>
            <a:ext cx="11318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17040" y="5421240"/>
            <a:ext cx="1160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cket Stream to Node 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98680" y="5526000"/>
            <a:ext cx="1658880" cy="265320"/>
          </a:xfrm>
          <a:custGeom>
            <a:avLst/>
            <a:gdLst/>
            <a:ahLst/>
            <a:rect l="l" t="t" r="r" b="b"/>
            <a:pathLst>
              <a:path w="1045" h="167">
                <a:moveTo>
                  <a:pt x="784" y="0"/>
                </a:moveTo>
                <a:lnTo>
                  <a:pt x="784" y="42"/>
                </a:lnTo>
                <a:lnTo>
                  <a:pt x="0" y="42"/>
                </a:lnTo>
                <a:lnTo>
                  <a:pt x="0" y="125"/>
                </a:lnTo>
                <a:lnTo>
                  <a:pt x="784" y="125"/>
                </a:lnTo>
                <a:lnTo>
                  <a:pt x="784" y="167"/>
                </a:lnTo>
                <a:lnTo>
                  <a:pt x="1045" y="85"/>
                </a:lnTo>
                <a:lnTo>
                  <a:pt x="784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57560" y="5421240"/>
            <a:ext cx="835200" cy="44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81600" y="5248440"/>
            <a:ext cx="10569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1880" y="4853160"/>
            <a:ext cx="612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19800" y="4505400"/>
            <a:ext cx="716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89520" y="4419720"/>
            <a:ext cx="78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89520" y="5657760"/>
            <a:ext cx="784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634000" y="5452920"/>
            <a:ext cx="74520" cy="207360"/>
            <a:chOff x="5634000" y="5452920"/>
            <a:chExt cx="74520" cy="207360"/>
          </a:xfrm>
        </p:grpSpPr>
        <p:sp>
          <p:nvSpPr>
            <p:cNvPr id="144" name=""/>
            <p:cNvSpPr/>
            <p:nvPr/>
          </p:nvSpPr>
          <p:spPr>
            <a:xfrm flipV="1">
              <a:off x="5670720" y="5520960"/>
              <a:ext cx="7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34000" y="5452920"/>
              <a:ext cx="74520" cy="730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61"/>
                  </a:moveTo>
                  <a:lnTo>
                    <a:pt x="31" y="0"/>
                  </a:lnTo>
                  <a:lnTo>
                    <a:pt x="0" y="61"/>
                  </a:lnTo>
                  <a:lnTo>
                    <a:pt x="6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889520" y="4981680"/>
            <a:ext cx="377280" cy="100080"/>
            <a:chOff x="4889520" y="4981680"/>
            <a:chExt cx="377280" cy="100080"/>
          </a:xfrm>
        </p:grpSpPr>
        <p:sp>
          <p:nvSpPr>
            <p:cNvPr id="147" name=""/>
            <p:cNvSpPr/>
            <p:nvPr/>
          </p:nvSpPr>
          <p:spPr>
            <a:xfrm>
              <a:off x="4889520" y="5029560"/>
              <a:ext cx="286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0320" y="4981680"/>
              <a:ext cx="96480" cy="1000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0" y="63"/>
                  </a:moveTo>
                  <a:lnTo>
                    <a:pt x="61" y="30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021360" y="4886280"/>
            <a:ext cx="1206360" cy="262080"/>
          </a:xfrm>
          <a:custGeom>
            <a:avLst/>
            <a:gdLst/>
            <a:ahLst/>
            <a:rect l="l" t="t" r="r" b="b"/>
            <a:pathLst>
              <a:path w="760" h="165">
                <a:moveTo>
                  <a:pt x="570" y="0"/>
                </a:moveTo>
                <a:lnTo>
                  <a:pt x="570" y="40"/>
                </a:lnTo>
                <a:lnTo>
                  <a:pt x="0" y="40"/>
                </a:lnTo>
                <a:lnTo>
                  <a:pt x="0" y="123"/>
                </a:lnTo>
                <a:lnTo>
                  <a:pt x="570" y="123"/>
                </a:lnTo>
                <a:lnTo>
                  <a:pt x="570" y="165"/>
                </a:lnTo>
                <a:lnTo>
                  <a:pt x="760" y="82"/>
                </a:lnTo>
                <a:lnTo>
                  <a:pt x="570" y="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3120" y="4734000"/>
            <a:ext cx="790560" cy="609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77680" y="4886280"/>
            <a:ext cx="522000" cy="243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10000" y="448308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SS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19680" y="4203720"/>
            <a:ext cx="74520" cy="447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19680" y="4809960"/>
            <a:ext cx="74520" cy="44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29040" y="5419800"/>
            <a:ext cx="74880" cy="447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633640" y="4421880"/>
            <a:ext cx="74520" cy="207360"/>
            <a:chOff x="5633640" y="4421880"/>
            <a:chExt cx="74520" cy="207360"/>
          </a:xfrm>
        </p:grpSpPr>
        <p:sp>
          <p:nvSpPr>
            <p:cNvPr id="157" name=""/>
            <p:cNvSpPr/>
            <p:nvPr/>
          </p:nvSpPr>
          <p:spPr>
            <a:xfrm flipH="1">
              <a:off x="5670720" y="4421880"/>
              <a:ext cx="7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0800000">
              <a:off x="5633640" y="4556160"/>
              <a:ext cx="74520" cy="730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61"/>
                  </a:moveTo>
                  <a:lnTo>
                    <a:pt x="31" y="0"/>
                  </a:lnTo>
                  <a:lnTo>
                    <a:pt x="0" y="61"/>
                  </a:lnTo>
                  <a:lnTo>
                    <a:pt x="6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9" name=""/>
          <p:cNvCxnSpPr>
            <a:stCxn id="132" idx="2"/>
            <a:endCxn id="153" idx="0"/>
          </p:cNvCxnSpPr>
          <p:nvPr/>
        </p:nvCxnSpPr>
        <p:spPr>
          <a:xfrm flipH="1">
            <a:off x="4857120" y="4052520"/>
            <a:ext cx="147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60" name=""/>
          <p:cNvGrpSpPr/>
          <p:nvPr/>
        </p:nvGrpSpPr>
        <p:grpSpPr>
          <a:xfrm>
            <a:off x="4071600" y="4292640"/>
            <a:ext cx="747720" cy="271080"/>
            <a:chOff x="4071600" y="4292640"/>
            <a:chExt cx="747720" cy="271080"/>
          </a:xfrm>
        </p:grpSpPr>
        <p:sp>
          <p:nvSpPr>
            <p:cNvPr id="161" name=""/>
            <p:cNvSpPr/>
            <p:nvPr/>
          </p:nvSpPr>
          <p:spPr>
            <a:xfrm flipH="1" flipV="1">
              <a:off x="4071600" y="429264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071600" y="447336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4071600" y="456300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071600" y="4383720"/>
              <a:ext cx="747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059000" y="4902120"/>
            <a:ext cx="747720" cy="271080"/>
            <a:chOff x="4059000" y="4902120"/>
            <a:chExt cx="747720" cy="271080"/>
          </a:xfrm>
        </p:grpSpPr>
        <p:sp>
          <p:nvSpPr>
            <p:cNvPr id="166" name=""/>
            <p:cNvSpPr/>
            <p:nvPr/>
          </p:nvSpPr>
          <p:spPr>
            <a:xfrm flipH="1" flipV="1">
              <a:off x="4059000" y="490212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4059000" y="508284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4059000" y="517248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059000" y="4993200"/>
              <a:ext cx="747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059000" y="5511960"/>
            <a:ext cx="747720" cy="271080"/>
            <a:chOff x="4059000" y="5511960"/>
            <a:chExt cx="747720" cy="271080"/>
          </a:xfrm>
        </p:grpSpPr>
        <p:sp>
          <p:nvSpPr>
            <p:cNvPr id="171" name=""/>
            <p:cNvSpPr/>
            <p:nvPr/>
          </p:nvSpPr>
          <p:spPr>
            <a:xfrm flipH="1" flipV="1">
              <a:off x="4059000" y="551196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4059000" y="569268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4059000" y="578232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4059000" y="5603040"/>
              <a:ext cx="747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59B-9B19-44D8-BE98-275177A5FD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Fast adaptation to traffic with low latency j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continuous adaptation to traffic is desired, the backoff counter is scaled up or 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age of packets is thus resp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Leading to low latency jitter, which is desirable for real-time and isochronous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60240" y="3208320"/>
            <a:ext cx="7530840" cy="3289320"/>
            <a:chOff x="660240" y="3208320"/>
            <a:chExt cx="7530840" cy="3289320"/>
          </a:xfrm>
        </p:grpSpPr>
        <p:grpSp>
          <p:nvGrpSpPr>
            <p:cNvPr id="178" name=""/>
            <p:cNvGrpSpPr/>
            <p:nvPr/>
          </p:nvGrpSpPr>
          <p:grpSpPr>
            <a:xfrm>
              <a:off x="660240" y="3208320"/>
              <a:ext cx="7530840" cy="3289320"/>
              <a:chOff x="660240" y="3208320"/>
              <a:chExt cx="7530840" cy="328932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3375000" y="3233160"/>
                <a:ext cx="4816080" cy="3264480"/>
                <a:chOff x="3375000" y="3233160"/>
                <a:chExt cx="4816080" cy="3264480"/>
              </a:xfrm>
            </p:grpSpPr>
            <p:graphicFrame>
              <p:nvGraphicFramePr>
                <p:cNvPr id="180" name=""/>
                <p:cNvGraphicFramePr/>
                <p:nvPr/>
              </p:nvGraphicFramePr>
              <p:xfrm>
                <a:off x="3375000" y="3233160"/>
                <a:ext cx="4816080" cy="3264480"/>
              </p:xfrm>
              <a:graphic>
                <a:graphicData uri="http://schemas.openxmlformats.org/presentationml/2006/ole">
                  <p:oleObj progId="Word.Document.12" r:id="rId1" spid="">
                    <p:embed/>
                    <p:pic>
                      <p:nvPicPr>
                        <p:cNvPr id="18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3375000" y="3233160"/>
                          <a:ext cx="4816080" cy="3264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182" name=""/>
                <p:cNvGrpSpPr/>
                <p:nvPr/>
              </p:nvGrpSpPr>
              <p:grpSpPr>
                <a:xfrm>
                  <a:off x="5585040" y="3881520"/>
                  <a:ext cx="690840" cy="1621440"/>
                  <a:chOff x="5585040" y="3881520"/>
                  <a:chExt cx="690840" cy="1621440"/>
                </a:xfrm>
              </p:grpSpPr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5585040" y="3881520"/>
                    <a:ext cx="690840" cy="277920"/>
                    <a:chOff x="5585040" y="3881520"/>
                    <a:chExt cx="690840" cy="27792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 flipH="1" flipV="1">
                      <a:off x="5585040" y="3881520"/>
                      <a:ext cx="690840" cy="13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>
                      <a:off x="5585040" y="4020480"/>
                      <a:ext cx="690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H="1">
                      <a:off x="5585040" y="4020480"/>
                      <a:ext cx="690840" cy="13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5585040" y="4529880"/>
                    <a:ext cx="690840" cy="277920"/>
                    <a:chOff x="5585040" y="4529880"/>
                    <a:chExt cx="690840" cy="27792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 flipH="1" flipV="1">
                      <a:off x="5585040" y="4529880"/>
                      <a:ext cx="690840" cy="13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flipH="1">
                      <a:off x="5585040" y="4668840"/>
                      <a:ext cx="690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>
                      <a:off x="5585040" y="4668840"/>
                      <a:ext cx="690840" cy="13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5585040" y="5225040"/>
                    <a:ext cx="690840" cy="277920"/>
                    <a:chOff x="5585040" y="5225040"/>
                    <a:chExt cx="690840" cy="27792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 flipH="1" flipV="1">
                      <a:off x="5585040" y="5225040"/>
                      <a:ext cx="690840" cy="13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 flipH="1">
                      <a:off x="5585040" y="5364000"/>
                      <a:ext cx="690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flipH="1">
                      <a:off x="5585040" y="5364000"/>
                      <a:ext cx="690840" cy="13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aphicFrame>
            <p:nvGraphicFramePr>
              <p:cNvPr id="195" name=""/>
              <p:cNvGraphicFramePr/>
              <p:nvPr/>
            </p:nvGraphicFramePr>
            <p:xfrm>
              <a:off x="660240" y="3208320"/>
              <a:ext cx="5181840" cy="2395440"/>
            </p:xfrm>
            <a:graphic>
              <a:graphicData uri="http://schemas.openxmlformats.org/presentationml/2006/ole">
                <p:oleObj progId="Word.Document.12" r:id="rId3" spid="">
                  <p:embed/>
                  <p:pic>
                    <p:nvPicPr>
                      <p:cNvPr id="19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60240" y="3208320"/>
                        <a:ext cx="5181840" cy="239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97" name=""/>
            <p:cNvGrpSpPr/>
            <p:nvPr/>
          </p:nvGrpSpPr>
          <p:grpSpPr>
            <a:xfrm>
              <a:off x="2940120" y="3856320"/>
              <a:ext cx="690840" cy="1204200"/>
              <a:chOff x="2940120" y="3856320"/>
              <a:chExt cx="690840" cy="120420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2940120" y="3856320"/>
                <a:ext cx="690840" cy="138960"/>
                <a:chOff x="2940120" y="3856320"/>
                <a:chExt cx="690840" cy="138960"/>
              </a:xfrm>
            </p:grpSpPr>
            <p:sp>
              <p:nvSpPr>
                <p:cNvPr id="199" name=""/>
                <p:cNvSpPr/>
                <p:nvPr/>
              </p:nvSpPr>
              <p:spPr>
                <a:xfrm flipV="1">
                  <a:off x="2940120" y="3856320"/>
                  <a:ext cx="69084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940120" y="3995280"/>
                  <a:ext cx="69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940120" y="4411800"/>
                <a:ext cx="690840" cy="138960"/>
                <a:chOff x="2940120" y="4411800"/>
                <a:chExt cx="690840" cy="138960"/>
              </a:xfrm>
            </p:grpSpPr>
            <p:sp>
              <p:nvSpPr>
                <p:cNvPr id="202" name=""/>
                <p:cNvSpPr/>
                <p:nvPr/>
              </p:nvSpPr>
              <p:spPr>
                <a:xfrm flipV="1">
                  <a:off x="2940120" y="4411800"/>
                  <a:ext cx="69084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940120" y="4550760"/>
                  <a:ext cx="69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2940120" y="4921560"/>
                <a:ext cx="690840" cy="138960"/>
                <a:chOff x="2940120" y="4921560"/>
                <a:chExt cx="690840" cy="13896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2940120" y="4921560"/>
                  <a:ext cx="69084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940120" y="5060520"/>
                  <a:ext cx="69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DA64-BEA6-4017-8380-A7BF7FF061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5:24:53Z</dcterms:created>
  <dc:creator>Mathilde Benveniste</dc:creator>
  <dc:description/>
  <dc:language>en-US</dc:language>
  <cp:lastModifiedBy>Mathilde Benveniste</cp:lastModifiedBy>
  <cp:lastPrinted>2000-12-12T22:28:27Z</cp:lastPrinted>
  <dcterms:modified xsi:type="dcterms:W3CDTF">2001-01-03T05:00:20Z</dcterms:modified>
  <cp:revision>131</cp:revision>
  <dc:subject/>
  <dc:title>No Slide Title</dc:title>
</cp:coreProperties>
</file>