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93B-FFE3-4588-B38E-D6D82FDF4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9C5-6AE5-4302-8CAF-350D6DCF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F04-729F-4E43-A27D-064F8404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BFB-D120-419C-B7C8-37B3051D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350-088E-47C8-BFDC-2EDF3334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F224-BBB7-426A-969C-257BD266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B24-AFA1-4ACB-A06C-A0F74182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864-66AA-4DE6-AEBB-FED3DF6A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F78F-6314-4D3B-A579-D130BA84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6A8E-3379-4944-9619-66C62DC9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DE8-7F62-4739-B982-43FBAA89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986-F832-4509-A5F1-B436D0C5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FA0AEF-1CD6-456F-B7D1-1A5D4B91D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695480" y="396000"/>
            <a:ext cx="37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0 –15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air’s Pos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’s ruling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     All comments need to be addressed and revisions to the draft text must be completed before starting a re-circulation ballot.  This includes changes to the PICs and state mach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057400"/>
            <a:ext cx="7162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e work this week on comments and revised draf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work for 2 weeks after the January interim session and      make the revised comment resolution document and revised draft document available on the 802.11 website by Jan 31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teleconference call for Feb 7, 2000 to informally discuss, the changes to the draft, and report a revised version of the draft by Feb 8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 approval teleconference meeting on Feb 15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re-circulation on Feb 16, 2000 and close on March 2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vailable on March 6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8080" y="158904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os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: Ac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: To adopt the suggested outline for completing  the revise text of doc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Std 802.11d/D1.3 and submitting it to re-circulation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d by Dennis Kuwahara, Tal Kait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0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 pas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rsday 13:00 – 15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ess  Jan 13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d ALL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recommended text for the draft addressing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4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t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s were verified by Ad-Hoc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work to be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text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maining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the PICs and 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ed proposed plan to complete draft for next re-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ursday 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nteers for state machine editor “traine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 the changes to following documents as per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 resolu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: 0002-r4-8W-Letter-Ballot-Comments-802.11d-D1-r4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tex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: 802.11d-Draft1.5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 motion on  action plan to Friday’s  Ple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solutions of the comments of letter ballot 20 for 802.11d and the editing of the draft to reflect thos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wpoll 8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Vic, De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d Summary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3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 Summary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ressed ALL 60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d recommended text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4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6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remaining comments to provide text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to continue work after this session and complete a draft for re-circulation before the March 802 plenary m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s to d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: 0002-r4-8W-Letter-Ballot-Comments-802.11d-D1-r4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: 802.11d-Draft1.5.d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 Summary Re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057400"/>
            <a:ext cx="7162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e work this week on comments and revised draf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work for 2 weeks after the January interim session and      make the revised comment resolution document and revised draft document available on the 802.11 website by Jan 31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teleconference call for Feb 7, 2000 to informally discuss, the changes to the draft, and report a revised version of the draft by Feb 8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n approval teleconference meeting on Feb 15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re-circulation on Feb 16, 2000 and close on March 2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available on March 6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8080" y="1589040"/>
            <a:ext cx="132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pos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Letter Ballot 20, Comments received on 802.11d/D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802.11-02/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t conference call with Bob O’Hara, Chris Zegel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document:802.11d-Draft 1.0.doc and create new document for re-cir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2880" indent="-180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802.11d-Draft 2.0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to WG re-circulation Letter Ballot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 13:00 – 15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 13:00 – 15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10:30 – 12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13:00 – 15: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tion: Action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: To adopt the suggested outline for completing  the revise text of docu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Std 802.11d/D1.3 and submitting it to re-circulation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d by Dennis Kuwahara, Tal Kaitz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/0/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 pass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To approve the resolutions of the comments of letter ballot 20 for 802.11d and the editing of the draft to reflect those resolu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wpoll 8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r Vic, De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/0/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tion (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(1): To approve agenda as 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tter Ballot 20 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ot opened on: 11/27/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lot closed on: 1/7/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ting members NOT responding: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on in Novembe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 submit the contents of document IEEE 802.11d/D1.0 to Sponsor Bal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of people in Ballot Group of 802.11  :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of votes received                    : 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ratio = 82 %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required &gt;= 50 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roved without comments : 5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us 4 aspirant memb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roved with comments     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approved with comments   : 10 plus one ex-memb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Docu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: IEEE802.11-02/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ter Ballot 20, Comments received on 802.11d/D1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d-Draft1.0.do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esday 13:00 – 15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1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gress Monday Jan 10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about 65%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ted 2 confere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 Zege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ed comment document to Bob O’Hara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: IEEE 802.11-00/002-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: IEEE 802.11-00/002-r2 (from Bob O’Ha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d proposed recommendations for  ALL com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 Modif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esday Jan 11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through remaining comments as addressed             by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dnesday Jan 1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on editing the draft text with smaller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0:30AM – 12N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ew draft text with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sday Jan 13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draft changes the WG and move to 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: 13:00 – 15: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952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– T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dnesday 10:30 – 12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an 12,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Al Petrick</cp:lastModifiedBy>
  <cp:lastPrinted>1999-12-10T16:12:26Z</cp:lastPrinted>
  <dcterms:modified xsi:type="dcterms:W3CDTF">2000-01-13T14:43:33Z</dcterms:modified>
  <cp:revision>65</cp:revision>
  <dc:subject/>
  <dc:title>No Slide Title</dc:title>
</cp:coreProperties>
</file>