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4C4A-D25C-4A5D-9EAA-AB032886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7C7-366A-4B0A-9AB4-E1AE7EE7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160-9F5E-4008-8310-4B4E2BC8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218-67CD-44AB-A82A-AEBCA533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50D-704E-4599-A6BA-D9D855BB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C675-CC2F-400A-92F7-245CFF28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52A-487D-42F2-976A-956E9976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29BA-6512-4D99-8FD5-CCB3E870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325-BA07-4FA8-B844-8CCF05C1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B46-1CC3-4A2D-A46E-5E472DD5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FA46-E332-4CD9-B532-B01622DB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69D-5D7C-4590-BA4B-DE90A25C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E28F07F-A7AF-463B-9EAD-85A1A8554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95480" y="396000"/>
            <a:ext cx="376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Handbook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blished by:  IEEE 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EEE 802.11 Hand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esigner’s Compa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Bob O’Hara and Al Pet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BN 0-7381-1855-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Press Product Number: SP11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vailable: January 23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ieee.org/organizations/pubs/p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ed description of th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SS – DSSS – IR Physical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a – 5GHz – 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b – 2.4GHz 11Mb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K, PBCC, and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cur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–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reviewers: N. Chayht, M. Webster,               D. Engwer, I. Gifford, Matt Shoema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Al Petrick</cp:lastModifiedBy>
  <cp:lastPrinted>1999-12-10T16:12:26Z</cp:lastPrinted>
  <dcterms:modified xsi:type="dcterms:W3CDTF">2000-01-14T06:34:52Z</dcterms:modified>
  <cp:revision>56</cp:revision>
  <dc:subject/>
  <dc:title>No Slide Title</dc:title>
</cp:coreProperties>
</file>