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E1B-82C4-4107-AFA6-694BC75BB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F2F-2FFC-42C1-BF4A-C960859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56FD-9C3D-4951-93C6-7220633B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4BA4-0B8C-464F-A549-49CE9C41B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E7B7-E1F9-415E-BC2C-4C793F3A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EFA4-D41B-4BFC-BCE6-FFE55F2B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1E0-20AF-40BE-9907-47C26514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E12-0712-4E57-93A9-0A631503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644-4A6A-4D26-9804-B38296C4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340-87D8-4194-8EC5-2299FE76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24D1-D539-4480-9554-FCB5D6EB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71E-0AB2-4C69-827A-46F05175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BB7211-4129-4394-A60C-D160F3C0C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E6C-A564-4097-9D79-ECF923E877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43F-6576-4FE8-B2AF-06CCCC4C3C9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123920"/>
            <a:ext cx="7467480" cy="48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9FD-5A31-45B9-9FEA-B4266B958FF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F3F-9A6B-45BE-B26F-62B6281C916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4CF-E747-4D55-BF83-C255188BC92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4753-3561-45A6-B841-959725B4DEB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7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8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CDB-F98D-4BB6-BA40-6E95141F9CB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066680" y="9986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403-0794-476C-96C1-7CA8FF3FFA0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F28-F906-45F6-B3C8-B16B1E9F688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97776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FCE-055F-4649-95A0-D3E0F8AB0F2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782-AFC3-4003-9A88-59FBAD21BE7D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853920"/>
            <a:ext cx="7467840" cy="52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gress approves the WRC text and decides on the US table of frequency allo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25A3-5570-4CDD-9CC6-DEFDDF10359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Matsushita/Panasoni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15E-7FD0-4A41-A54A-163BD18794E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3T14:17:27Z</dcterms:created>
  <dc:creator>vichayes</dc:creator>
  <dc:description/>
  <dc:language>en-US</dc:language>
  <cp:lastModifiedBy>vichayes</cp:lastModifiedBy>
  <cp:lastPrinted>2000-01-13T14:25:30Z</cp:lastPrinted>
  <dcterms:modified xsi:type="dcterms:W3CDTF">2000-01-13T14:45:29Z</dcterms:modified>
  <cp:revision>3</cp:revision>
  <dc:subject/>
  <dc:title>The ITU-R Structure  and Process </dc:title>
</cp:coreProperties>
</file>