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F9E9-730B-44AB-91EB-977C492A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FD30-2501-4AB9-BA84-8D9A8B0B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EEA-B2CC-4667-BBBA-85CB3BD0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435-C312-4D8E-89E6-4923EB68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F67-3DC5-4D4C-AA2A-73E3A39D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D60-26B1-4AB5-AD38-1B773F38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133-588F-4512-934D-B5953917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C90-B086-45C5-8D8F-2F14D88A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16C-31A9-43D0-B3C9-B37CA79D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AFD-91DD-47D2-A608-02B099D5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34D-7798-4797-A584-0394135D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2B1B-8A5A-4976-9894-9DB7E359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356197-0185-45C7-9E6E-B2BA4869A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15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ITU-R Structur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d Proces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Bob Hua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Matsushita/Panas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25780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12 January 2000, Tel Av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685800"/>
            <a:ext cx="5486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D916-043A-4F95-BC1C-0E9C46AA2D0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1035000"/>
            <a:ext cx="746748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a company (or individual*) participate in the US ITU-R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y attending the meetings and bring contribu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ich Study Group deals with wireless LANS*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LANs are dealt with* in Working Party 8A (under Study Group 8 - Mobile Service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Mobile Services typically share with Fixed Services, there is a continuing need for close cooperation between WP 8A and WP 9B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achieved through Joint Rappeatuers Group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dio LANs (RL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**  Study Group 9, dealing with Fixed Services, has long contended that WLANs are in their dom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F52B-E4F3-43E5-A635-F2BBB2E92F1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1123920"/>
            <a:ext cx="7467480" cy="46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s the contribution approval pro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Study Group (includes approval by FCC and NT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US ‘National Committee’ for radio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JRG 8A-9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Study Group 8 (Recommendation for Mobile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roval by ITU Study Group 9 (Recommendation for Fixed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ote:  There are alternate fast track procedures for the final appro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818-F50E-44E1-A4EE-C1502CBF5E7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1066680"/>
            <a:ext cx="7315200" cy="45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U-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trum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wave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atellit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ienc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bile, Radiodetermination, Amateur and related Satellite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xed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S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oadcasting Service -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al Committee on Regulatory/Procedural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cv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ordination Committee for Vocabu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p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erence Preparator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DE01-64E1-4E36-9440-D42A4A63C3E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66680" y="1674720"/>
            <a:ext cx="73152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covered:  The WRC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haps this can be provided in the future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this time the ITU-R process is most importa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 algn="ctr">
              <a:lnSpc>
                <a:spcPct val="110000"/>
              </a:lnSpc>
              <a:tabLst>
                <a:tab algn="l" pos="0"/>
                <a:tab algn="l" pos="1031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5C2C-622C-4B6B-AE79-42D0C254430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19400" y="1371600"/>
            <a:ext cx="4832280" cy="350532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65720" y="2819520"/>
            <a:ext cx="27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733920"/>
            <a:ext cx="276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elecommunications Standardization S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2746440"/>
            <a:ext cx="18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velopment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94464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U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5238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cc"/>
                </a:solidFill>
                <a:latin typeface="Times New Roman"/>
              </a:rPr>
              <a:t>IT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181480"/>
            <a:ext cx="5715000" cy="990720"/>
          </a:xfrm>
          <a:prstGeom prst="wedgeRectCallout">
            <a:avLst>
              <a:gd name="adj1" fmla="val 12277"/>
              <a:gd name="adj2" fmla="val -137018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ld Radiocommunications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an ITU meeting, not a Sector mee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C82-2C14-4A93-9481-52B4D735E9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971800" y="1035000"/>
            <a:ext cx="51814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mic Sans MS"/>
              </a:rPr>
              <a:t>Radiocommunications Sec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-5409720" y="1143000"/>
            <a:ext cx="13562640" cy="5616720"/>
            <a:chOff x="-5409720" y="1143000"/>
            <a:chExt cx="13562640" cy="5616720"/>
          </a:xfrm>
        </p:grpSpPr>
        <p:grpSp>
          <p:nvGrpSpPr>
            <p:cNvPr id="58" name=""/>
            <p:cNvGrpSpPr/>
            <p:nvPr/>
          </p:nvGrpSpPr>
          <p:grpSpPr>
            <a:xfrm>
              <a:off x="-5409720" y="1143000"/>
              <a:ext cx="13562640" cy="5616720"/>
              <a:chOff x="-5409720" y="1143000"/>
              <a:chExt cx="13562640" cy="5616720"/>
            </a:xfrm>
          </p:grpSpPr>
          <p:sp>
            <p:nvSpPr>
              <p:cNvPr id="59" name=""/>
              <p:cNvSpPr/>
              <p:nvPr/>
            </p:nvSpPr>
            <p:spPr>
              <a:xfrm>
                <a:off x="-5409720" y="1143000"/>
                <a:ext cx="13562640" cy="56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941093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9410930"/>
                  </a:path>
                </a:pathLst>
              </a:custGeom>
              <a:solidFill>
                <a:srgbClr val="66ffff"/>
              </a:solidFill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71600" y="1143000"/>
                <a:ext cx="2743200" cy="54100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 flipV="1">
              <a:off x="2361960" y="1523520"/>
              <a:ext cx="236232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23880" y="1432080"/>
              <a:ext cx="289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adiocommunications Bureau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52280" y="3733920"/>
            <a:ext cx="2438640" cy="1218960"/>
          </a:xfrm>
          <a:prstGeom prst="wedgeRectCallout">
            <a:avLst>
              <a:gd name="adj1" fmla="val 49935"/>
              <a:gd name="adj2" fmla="val -1716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minister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adio Reg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Table of 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llo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43680" y="2057400"/>
            <a:ext cx="366156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adiocommun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eeting of all Study Grou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47920" y="3794040"/>
            <a:ext cx="18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1752480"/>
            <a:ext cx="2057400" cy="762120"/>
          </a:xfrm>
          <a:prstGeom prst="wedgeRectCallout">
            <a:avLst>
              <a:gd name="adj1" fmla="val -95060"/>
              <a:gd name="adj2" fmla="val 6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uides S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276720"/>
            <a:ext cx="2362320" cy="1143000"/>
          </a:xfrm>
          <a:prstGeom prst="wedgeRectCallout">
            <a:avLst>
              <a:gd name="adj1" fmla="val -75671"/>
              <a:gd name="adj2" fmla="val 11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lans and appro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Recommend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30560" y="47084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ing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13760" y="487692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105520"/>
            <a:ext cx="2438640" cy="1218960"/>
          </a:xfrm>
          <a:prstGeom prst="wedgeRectCallout">
            <a:avLst>
              <a:gd name="adj1" fmla="val 90625"/>
              <a:gd name="adj2" fmla="val -49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ork and draf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perman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5486400"/>
            <a:ext cx="3124440" cy="1219320"/>
          </a:xfrm>
          <a:prstGeom prst="wedgeRectCallout">
            <a:avLst>
              <a:gd name="adj1" fmla="val -26319"/>
              <a:gd name="adj2" fmla="val -731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s technical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rafts Recommend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(highly urgent, short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4952880" y="323856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8024600">
            <a:off x="4076640" y="415296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3575400">
            <a:off x="5676120" y="422892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6170-3509-46D9-8DFE-7C586DC0824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66680" y="1227240"/>
            <a:ext cx="746784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frequency use decided within a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vernment contr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llocation (designation to a servi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requency assignment (permission to u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d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onal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ormance with the Radio Regulations (contains the International Table of Frequency Allocation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 to cause harmful interference to radio systems another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8B4-8EBA-47EF-A452-E760F9CC937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1066680"/>
            <a:ext cx="74678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the Radio Regulations fit 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contain international treat-binding agreements on how to use frequ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are maintained by the WRC (World Radiocommunications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Formerly the WARC). The WRC is attended by ITU member count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for a new allocation have a small chance of success without frequency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ing criteria from ITU-R Recommendations are easily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us campaigns for a frequency allocation often start in the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1A6-7234-4411-95B3-1C3C844BC1C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1130400"/>
            <a:ext cx="7467480" cy="46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ITU-R shows that sharing is possible between existing services (in use) and the new service, is a new allocation as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An Administration (country) can oppose a new allocation based future use of a current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is a new allocation approv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administrations present at the WRC vote (one country one vote)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a single no vote stop an allocation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3800" indent="-336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.  However, any country can insert a footnote in the Table indicating an exception in their count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4F1-41A1-484C-A06E-0DCEF7719F0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90720" y="1117440"/>
            <a:ext cx="74674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bout the ITU process in the 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wo pa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TU-R process for obtaining a recomme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WRC process for obtaining an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t first, it is useful to understand the structure within the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503C-0FC1-40C5-B4B5-EA8CBC24E5B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1387440"/>
            <a:ext cx="7467840" cy="45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US structure for frequency allocation matters is a triumvant, consisting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partment of State (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al control due to treaty binding text and foreign relations nature of agre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non-government (commercial and public)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36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ministers frequency allocations within the US for government use (military, public service, FA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A91-9DD1-4E91-8B82-E7DF7D3D15A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285920"/>
            <a:ext cx="74674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partment of State administers the US ITU-R process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ing the US Stud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ointing a US chairman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y be from the government or private sec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uring that all US positions are agreed to by the FCC, NTIA and the private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rediting delegations to Study Group meetings and Radiocommunications assembl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uang, Panasonic/Matsushit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360-72CF-4126-9EAC-5977043AF40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8T22:14:45Z</dcterms:created>
  <dc:creator>Bob Huang</dc:creator>
  <dc:description/>
  <dc:language>en-US</dc:language>
  <cp:lastModifiedBy>vichayes</cp:lastModifiedBy>
  <cp:lastPrinted>2000-02-03T12:15:23Z</cp:lastPrinted>
  <dcterms:modified xsi:type="dcterms:W3CDTF">2000-02-03T12:16:29Z</dcterms:modified>
  <cp:revision>2</cp:revision>
  <dc:subject/>
  <dc:title>The ITU-R Structure  and Process </dc:title>
</cp:coreProperties>
</file>