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2CD4-81E5-4BF0-BE9A-79287FB9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1012-325D-4D76-9896-A1B22C3C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8C1-2076-45F7-989B-64CC5FBB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0ED-B2DC-415C-873B-2EE46BFC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DCE-6A56-4D6A-A0E6-5375139D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CDD-7F4E-4CC1-ABF0-9E91FB2B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B4C-C163-487B-8FCF-CD314AC4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ACD4-4600-4D84-8478-1F2DBDEF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D83-7902-45EB-BD42-3EF54C52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6B9-9771-4ECB-AD88-45D522A2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8183-6B6B-419B-868A-077653D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602-9C61-4EA7-B3EF-C23BE28A1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98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 Januar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74B053-E038-44F0-822C-6935FE582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Regulator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- 14 Jan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 Aviv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Regulator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ing Secretary - Bob Hu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Chair Formed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Regulatory Respon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Tues 10:30 - 12:00 Wed   8:30 - 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to WG Review Wed 3: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Group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d to Korean Regulatory 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 of ITU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/Identify 5GHz License Exempt pap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U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Ad_Hoc Draft/Ap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RG 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Draft 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Group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 Freq Mgm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draw from sub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U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Advisor to US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osition Development (US  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onal Presentation to ITU-R (US  NTI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 defines changes to Red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Gov Agency Dissemination (FC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7:28:10Z</dcterms:created>
  <dc:creator>Standard Software Service</dc:creator>
  <dc:description/>
  <dc:language>en-US</dc:language>
  <cp:lastModifiedBy>vichayes</cp:lastModifiedBy>
  <cp:lastPrinted>2000-01-18T12:57:04Z</cp:lastPrinted>
  <dcterms:modified xsi:type="dcterms:W3CDTF">2000-01-18T12:57:11Z</dcterms:modified>
  <cp:revision>7</cp:revision>
  <dc:subject/>
  <dc:title>ITU Report</dc:title>
</cp:coreProperties>
</file>