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25B-57BE-46A7-A520-50644ADF1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ldImg"/>
          </p:nvPr>
        </p:nvSpPr>
        <p:spPr>
          <a:xfrm>
            <a:off x="1601640" y="797040"/>
            <a:ext cx="3735360" cy="2801880"/>
          </a:xfrm>
          <a:prstGeom prst="rect">
            <a:avLst/>
          </a:prstGeom>
          <a:ln w="0">
            <a:noFill/>
          </a:ln>
        </p:spPr>
      </p:sp>
      <p:sp>
        <p:nvSpPr>
          <p:cNvPr id="2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6356-B3FB-484C-B020-C9588A1E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2DB1-C7DC-449A-B10D-2A7E97F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57C-0031-407B-800A-947C20DE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1FE-0C1B-49E5-9723-BAB1A805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E650-B7FC-4097-BFE6-45DCF99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A641-78C0-4E08-B8A9-DC675C3D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C14-B585-44CA-BABB-62B83270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469-881C-4834-B21B-B29478B5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1B51-0644-4678-8E7C-6D0B2433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B83D-6936-4D88-BBDC-71A4242A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FA3-57EC-4928-8AA1-05AFE2E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D519-676B-4FE2-A653-952EFDD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11920" y="6474960"/>
            <a:ext cx="1798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shid Khun-Jush, Erics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D46782-14A3-404A-A3F9-E5B4841EB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5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erLAN type 2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stem with QoS Support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man ETSI Project 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icsson, Nürn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and resource request transmissions from 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access in mobile stations: slotted ALOHA with exponential increase of contention wind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random access in the AP: acknowledgements of random access in the nex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-to-peer and multicas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 antenna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AC Frame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ngle secto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8" name=""/>
          <p:cNvGraphicFramePr/>
          <p:nvPr/>
        </p:nvGraphicFramePr>
        <p:xfrm>
          <a:off x="1447920" y="2133720"/>
          <a:ext cx="56116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133720"/>
                    <a:ext cx="56116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0" name=""/>
          <p:cNvSpPr/>
          <p:nvPr/>
        </p:nvSpPr>
        <p:spPr>
          <a:xfrm>
            <a:off x="685800" y="41148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multiple sector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1" name=""/>
          <p:cNvGraphicFramePr/>
          <p:nvPr/>
        </p:nvGraphicFramePr>
        <p:xfrm>
          <a:off x="1143000" y="4572000"/>
          <a:ext cx="6783480" cy="18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72000"/>
                    <a:ext cx="67834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MAC Frame Logical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57200" y="14479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CH (Broadcast Contro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y the necessary broadcast information concerning the whole radio cell e.g. Scrambler seed, Access point ID, Network I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CCH (Frame Control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vey information describing the structure of the MAC frame visible at the air interface (resource grant announc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CH (Random Access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d by MTs in the uplink to send signalling data (resource request, association request) for DLC or RL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FCH (Random access Feedback CHann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forms the MTs that have used the RACH in the previous MAC frame about the result of  their access attemp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 - Erro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ve repeat (SR) ARQ with partial bit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ansmission efficiency as conventional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overhead and delay of acknowle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arding cap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for real time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MAC frame (2 ms) allows re-transmission even for 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Adap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rate and modulation alphabet adaptive to current propagation and interference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physical layer modes (modulation alphabet and code rate combin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Link Adap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304560" y="1611000"/>
            <a:ext cx="3809880" cy="36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k throughput versus C/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Link quality measurements (C/I) in access point and mobile termin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 channel with an rms delay spread 100 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Selective-repeat ARQ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Mode with the highest throughput selected (ideal link adap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9" name="" descr=""/>
          <p:cNvPicPr/>
          <p:nvPr/>
        </p:nvPicPr>
        <p:blipFill>
          <a:blip r:embed="rId1"/>
          <a:stretch/>
        </p:blipFill>
        <p:spPr>
          <a:xfrm>
            <a:off x="3886200" y="1752480"/>
            <a:ext cx="525780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 - Radio Link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 hand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/ release of DLC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er-to-peer (ad-h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ment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ociation / de-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frequency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eep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link and downlink power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867280" y="137160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ion ke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 security nego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 great extent aligned with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rier spacing: 2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d OFDM (Orthogonal Frequency Division Multiplex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dles a large variety of delay spreads =&gt; No complex equalizer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sub-carriers (48 for data, four for pilo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d intervals: 800 ns mandatory, 400 ns op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 duration 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-carrier modulation: BPSK, QPSK, 16QAM, 64QAM (optiona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EC: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1/2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volution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her code with constraint length 7, additional rates 3/4 and 9/16 by pun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7 physical layer modes with bitrate (Mb/s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6,9,12,18,27,36,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difference to 802.11a: Preamble due to different multip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"/>
          <p:cNvSpPr/>
          <p:nvPr/>
        </p:nvSpPr>
        <p:spPr>
          <a:xfrm flipH="1">
            <a:off x="2466720" y="4572000"/>
            <a:ext cx="2485800" cy="73980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1157400" y="4886280"/>
            <a:ext cx="1371600" cy="1600200"/>
          </a:xfrm>
          <a:prstGeom prst="rect">
            <a:avLst/>
          </a:prstGeom>
          <a:ln w="0">
            <a:noFill/>
          </a:ln>
        </p:spPr>
      </p:pic>
      <p:sp>
        <p:nvSpPr>
          <p:cNvPr id="2277" name=""/>
          <p:cNvSpPr/>
          <p:nvPr/>
        </p:nvSpPr>
        <p:spPr>
          <a:xfrm>
            <a:off x="1478880" y="4270320"/>
            <a:ext cx="12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po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2629080" y="6086520"/>
            <a:ext cx="5688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3007440" y="5727600"/>
            <a:ext cx="46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 in public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054760" y="4987800"/>
            <a:ext cx="328428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207040" y="4603680"/>
            <a:ext cx="32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&amp; 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597560" y="3289320"/>
            <a:ext cx="4314600" cy="226836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57200" y="1736640"/>
            <a:ext cx="6667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d equival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fficient in business, residential and public access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negotiation of different security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s mobility (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/moderate processing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5" name=""/>
          <p:cNvGraphicFramePr/>
          <p:nvPr/>
        </p:nvGraphicFramePr>
        <p:xfrm>
          <a:off x="7402680" y="3154320"/>
          <a:ext cx="134460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02680" y="3154320"/>
                    <a:ext cx="134460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7" name=""/>
          <p:cNvGrpSpPr/>
          <p:nvPr/>
        </p:nvGrpSpPr>
        <p:grpSpPr>
          <a:xfrm>
            <a:off x="2955960" y="4656240"/>
            <a:ext cx="1567440" cy="798120"/>
            <a:chOff x="2955960" y="4656240"/>
            <a:chExt cx="1567440" cy="798120"/>
          </a:xfrm>
        </p:grpSpPr>
        <p:grpSp>
          <p:nvGrpSpPr>
            <p:cNvPr id="2288" name=""/>
            <p:cNvGrpSpPr/>
            <p:nvPr/>
          </p:nvGrpSpPr>
          <p:grpSpPr>
            <a:xfrm>
              <a:off x="2955960" y="4656240"/>
              <a:ext cx="1567440" cy="798120"/>
              <a:chOff x="2955960" y="4656240"/>
              <a:chExt cx="1567440" cy="798120"/>
            </a:xfrm>
          </p:grpSpPr>
          <p:grpSp>
            <p:nvGrpSpPr>
              <p:cNvPr id="2289" name=""/>
              <p:cNvGrpSpPr/>
              <p:nvPr/>
            </p:nvGrpSpPr>
            <p:grpSpPr>
              <a:xfrm>
                <a:off x="3877200" y="4728240"/>
                <a:ext cx="646200" cy="690480"/>
                <a:chOff x="3877200" y="4728240"/>
                <a:chExt cx="646200" cy="690480"/>
              </a:xfrm>
            </p:grpSpPr>
            <p:grpSp>
              <p:nvGrpSpPr>
                <p:cNvPr id="2290" name=""/>
                <p:cNvGrpSpPr/>
                <p:nvPr/>
              </p:nvGrpSpPr>
              <p:grpSpPr>
                <a:xfrm>
                  <a:off x="4121640" y="4728240"/>
                  <a:ext cx="401760" cy="556920"/>
                  <a:chOff x="4121640" y="4728240"/>
                  <a:chExt cx="401760" cy="556920"/>
                </a:xfrm>
              </p:grpSpPr>
              <p:grpSp>
                <p:nvGrpSpPr>
                  <p:cNvPr id="2291" name=""/>
                  <p:cNvGrpSpPr/>
                  <p:nvPr/>
                </p:nvGrpSpPr>
                <p:grpSpPr>
                  <a:xfrm>
                    <a:off x="4230000" y="4799880"/>
                    <a:ext cx="293400" cy="412920"/>
                    <a:chOff x="4230000" y="4799880"/>
                    <a:chExt cx="293400" cy="412920"/>
                  </a:xfrm>
                </p:grpSpPr>
                <p:grpSp>
                  <p:nvGrpSpPr>
                    <p:cNvPr id="2292" name=""/>
                    <p:cNvGrpSpPr/>
                    <p:nvPr/>
                  </p:nvGrpSpPr>
                  <p:grpSpPr>
                    <a:xfrm>
                      <a:off x="4230000" y="4799880"/>
                      <a:ext cx="293400" cy="412920"/>
                      <a:chOff x="4230000" y="4799880"/>
                      <a:chExt cx="293400" cy="412920"/>
                    </a:xfrm>
                  </p:grpSpPr>
                  <p:grpSp>
                    <p:nvGrpSpPr>
                      <p:cNvPr id="2293" name=""/>
                      <p:cNvGrpSpPr/>
                      <p:nvPr/>
                    </p:nvGrpSpPr>
                    <p:grpSpPr>
                      <a:xfrm>
                        <a:off x="4297680" y="4825800"/>
                        <a:ext cx="225720" cy="332280"/>
                        <a:chOff x="4297680" y="4825800"/>
                        <a:chExt cx="225720" cy="332280"/>
                      </a:xfrm>
                    </p:grpSpPr>
                    <p:grpSp>
                      <p:nvGrpSpPr>
                        <p:cNvPr id="2294" name=""/>
                        <p:cNvGrpSpPr/>
                        <p:nvPr/>
                      </p:nvGrpSpPr>
                      <p:grpSpPr>
                        <a:xfrm>
                          <a:off x="4326840" y="4825800"/>
                          <a:ext cx="196560" cy="332280"/>
                          <a:chOff x="4326840" y="4825800"/>
                          <a:chExt cx="196560" cy="332280"/>
                        </a:xfrm>
                      </p:grpSpPr>
                      <p:sp>
                        <p:nvSpPr>
                          <p:cNvPr id="2295" name=""/>
                          <p:cNvSpPr/>
                          <p:nvPr/>
                        </p:nvSpPr>
                        <p:spPr>
                          <a:xfrm>
                            <a:off x="4424040" y="502200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6" name=""/>
                          <p:cNvSpPr/>
                          <p:nvPr/>
                        </p:nvSpPr>
                        <p:spPr>
                          <a:xfrm>
                            <a:off x="4345920" y="503964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7" name=""/>
                          <p:cNvSpPr/>
                          <p:nvPr/>
                        </p:nvSpPr>
                        <p:spPr>
                          <a:xfrm>
                            <a:off x="4405320" y="489744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8" name=""/>
                          <p:cNvSpPr/>
                          <p:nvPr/>
                        </p:nvSpPr>
                        <p:spPr>
                          <a:xfrm>
                            <a:off x="4326840" y="482580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299" name=""/>
                          <p:cNvSpPr/>
                          <p:nvPr/>
                        </p:nvSpPr>
                        <p:spPr>
                          <a:xfrm>
                            <a:off x="4401720" y="489456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300" name=""/>
                        <p:cNvSpPr/>
                        <p:nvPr/>
                      </p:nvSpPr>
                      <p:spPr>
                        <a:xfrm>
                          <a:off x="4297680" y="492372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1" name=""/>
                        <p:cNvSpPr/>
                        <p:nvPr/>
                      </p:nvSpPr>
                      <p:spPr>
                        <a:xfrm>
                          <a:off x="4297680" y="502200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2" name=""/>
                        <p:cNvSpPr/>
                        <p:nvPr/>
                      </p:nvSpPr>
                      <p:spPr>
                        <a:xfrm>
                          <a:off x="4332240" y="487548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03" name=""/>
                      <p:cNvSpPr/>
                      <p:nvPr/>
                    </p:nvSpPr>
                    <p:spPr>
                      <a:xfrm>
                        <a:off x="4297680" y="512064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4230000" y="479988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4323960" y="509148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06" name=""/>
                    <p:cNvSpPr/>
                    <p:nvPr/>
                  </p:nvSpPr>
                  <p:spPr>
                    <a:xfrm>
                      <a:off x="4313160" y="485100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7" name=""/>
                  <p:cNvGrpSpPr/>
                  <p:nvPr/>
                </p:nvGrpSpPr>
                <p:grpSpPr>
                  <a:xfrm>
                    <a:off x="4121640" y="4728240"/>
                    <a:ext cx="275400" cy="502560"/>
                    <a:chOff x="4121640" y="4728240"/>
                    <a:chExt cx="275400" cy="502560"/>
                  </a:xfrm>
                </p:grpSpPr>
                <p:sp>
                  <p:nvSpPr>
                    <p:cNvPr id="2308" name=""/>
                    <p:cNvSpPr/>
                    <p:nvPr/>
                  </p:nvSpPr>
                  <p:spPr>
                    <a:xfrm>
                      <a:off x="4151160" y="502272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9" name=""/>
                    <p:cNvSpPr/>
                    <p:nvPr/>
                  </p:nvSpPr>
                  <p:spPr>
                    <a:xfrm>
                      <a:off x="4170600" y="487908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0" name=""/>
                    <p:cNvSpPr/>
                    <p:nvPr/>
                  </p:nvSpPr>
                  <p:spPr>
                    <a:xfrm>
                      <a:off x="4121640" y="472824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1" name=""/>
                    <p:cNvSpPr/>
                    <p:nvPr/>
                  </p:nvSpPr>
                  <p:spPr>
                    <a:xfrm>
                      <a:off x="4227840" y="482616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2" name=""/>
                    <p:cNvSpPr/>
                    <p:nvPr/>
                  </p:nvSpPr>
                  <p:spPr>
                    <a:xfrm>
                      <a:off x="4167000" y="480564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13" name=""/>
                    <p:cNvSpPr/>
                    <p:nvPr/>
                  </p:nvSpPr>
                  <p:spPr>
                    <a:xfrm>
                      <a:off x="4245120" y="505512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4" name=""/>
                  <p:cNvSpPr/>
                  <p:nvPr/>
                </p:nvSpPr>
                <p:spPr>
                  <a:xfrm>
                    <a:off x="4121640" y="516672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>
                    <a:off x="4196880" y="515484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16" name=""/>
                <p:cNvSpPr/>
                <p:nvPr/>
              </p:nvSpPr>
              <p:spPr>
                <a:xfrm>
                  <a:off x="3877200" y="527256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3993840" y="527256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4062240" y="523728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>
                  <a:off x="3960720" y="521676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0" name=""/>
              <p:cNvGrpSpPr/>
              <p:nvPr/>
            </p:nvGrpSpPr>
            <p:grpSpPr>
              <a:xfrm>
                <a:off x="2955960" y="4736880"/>
                <a:ext cx="393840" cy="476280"/>
                <a:chOff x="2955960" y="4736880"/>
                <a:chExt cx="393840" cy="476280"/>
              </a:xfrm>
            </p:grpSpPr>
            <p:grpSp>
              <p:nvGrpSpPr>
                <p:cNvPr id="2321" name=""/>
                <p:cNvGrpSpPr/>
                <p:nvPr/>
              </p:nvGrpSpPr>
              <p:grpSpPr>
                <a:xfrm>
                  <a:off x="2955960" y="4799880"/>
                  <a:ext cx="217800" cy="288360"/>
                  <a:chOff x="2955960" y="4799880"/>
                  <a:chExt cx="217800" cy="288360"/>
                </a:xfrm>
              </p:grpSpPr>
              <p:sp>
                <p:nvSpPr>
                  <p:cNvPr id="2322" name=""/>
                  <p:cNvSpPr/>
                  <p:nvPr/>
                </p:nvSpPr>
                <p:spPr>
                  <a:xfrm>
                    <a:off x="2955960" y="489780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2974680" y="496980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2994120" y="479988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2981880" y="490392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6" name=""/>
                <p:cNvGrpSpPr/>
                <p:nvPr/>
              </p:nvGrpSpPr>
              <p:grpSpPr>
                <a:xfrm>
                  <a:off x="3024000" y="4736880"/>
                  <a:ext cx="325800" cy="476280"/>
                  <a:chOff x="3024000" y="4736880"/>
                  <a:chExt cx="325800" cy="476280"/>
                </a:xfrm>
              </p:grpSpPr>
              <p:sp>
                <p:nvSpPr>
                  <p:cNvPr id="2327" name=""/>
                  <p:cNvSpPr/>
                  <p:nvPr/>
                </p:nvSpPr>
                <p:spPr>
                  <a:xfrm>
                    <a:off x="3132000" y="475416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>
                    <a:off x="3024000" y="48981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>
                    <a:off x="3053520" y="496872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>
                    <a:off x="3102120" y="504036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>
                    <a:off x="3112920" y="485244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>
                    <a:off x="3240360" y="473688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3157920" y="482328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3058560" y="494784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5" name=""/>
                <p:cNvSpPr/>
                <p:nvPr/>
              </p:nvSpPr>
              <p:spPr>
                <a:xfrm>
                  <a:off x="3226320" y="477756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6" name=""/>
              <p:cNvGrpSpPr/>
              <p:nvPr/>
            </p:nvGrpSpPr>
            <p:grpSpPr>
              <a:xfrm>
                <a:off x="3151800" y="4656240"/>
                <a:ext cx="1148040" cy="798120"/>
                <a:chOff x="3151800" y="4656240"/>
                <a:chExt cx="1148040" cy="798120"/>
              </a:xfrm>
            </p:grpSpPr>
            <p:sp>
              <p:nvSpPr>
                <p:cNvPr id="2337" name=""/>
                <p:cNvSpPr/>
                <p:nvPr/>
              </p:nvSpPr>
              <p:spPr>
                <a:xfrm>
                  <a:off x="3504240" y="468252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>
                  <a:off x="3738600" y="465624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3945240" y="487944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3279240" y="502308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>
                  <a:off x="3836520" y="506700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181320" y="509364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>
                  <a:off x="3151800" y="492480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3249360" y="472824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562200" y="512136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>
                  <a:off x="3993840" y="475452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>
                  <a:off x="3915360" y="465624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3235320" y="471636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9" name=""/>
            <p:cNvSpPr/>
            <p:nvPr/>
          </p:nvSpPr>
          <p:spPr>
            <a:xfrm>
              <a:off x="3229920" y="486936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0" name=""/>
          <p:cNvSpPr/>
          <p:nvPr/>
        </p:nvSpPr>
        <p:spPr>
          <a:xfrm rot="2184000">
            <a:off x="6253200" y="342900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1" name=""/>
          <p:cNvGrpSpPr/>
          <p:nvPr/>
        </p:nvGrpSpPr>
        <p:grpSpPr>
          <a:xfrm>
            <a:off x="5257800" y="3886200"/>
            <a:ext cx="533160" cy="618840"/>
            <a:chOff x="5257800" y="3886200"/>
            <a:chExt cx="533160" cy="618840"/>
          </a:xfrm>
        </p:grpSpPr>
        <p:sp>
          <p:nvSpPr>
            <p:cNvPr id="2352" name=""/>
            <p:cNvSpPr/>
            <p:nvPr/>
          </p:nvSpPr>
          <p:spPr>
            <a:xfrm>
              <a:off x="5257800" y="4179600"/>
              <a:ext cx="487080" cy="32544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743080" y="4156560"/>
              <a:ext cx="37080" cy="34848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747040" y="4224960"/>
              <a:ext cx="37080" cy="22860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53880" y="4303080"/>
              <a:ext cx="37080" cy="554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701320" y="4156560"/>
              <a:ext cx="67320" cy="349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5729400" y="4125240"/>
              <a:ext cx="0" cy="3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5360400" y="41252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5701320" y="4137840"/>
              <a:ext cx="0" cy="4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5334120" y="4137840"/>
              <a:ext cx="0" cy="4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655240" y="4119480"/>
              <a:ext cx="76680" cy="349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287680" y="4119480"/>
              <a:ext cx="76680" cy="349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76840" y="4127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09640" y="4127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403960" y="42249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543640" y="42267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655240" y="414000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287680" y="4142160"/>
              <a:ext cx="0" cy="2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655240" y="4175280"/>
              <a:ext cx="47880" cy="846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287680" y="4177080"/>
              <a:ext cx="47880" cy="8280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334120" y="4193640"/>
              <a:ext cx="56880" cy="475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364720" y="4216320"/>
              <a:ext cx="272880" cy="3492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50040" y="4226760"/>
              <a:ext cx="80640" cy="3492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V="1">
              <a:off x="5644440" y="4193280"/>
              <a:ext cx="2160" cy="3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257800" y="416484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66520" y="4261680"/>
              <a:ext cx="244800" cy="9072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375520" y="428040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380200" y="432576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21240" y="4402080"/>
              <a:ext cx="31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21240" y="4433040"/>
              <a:ext cx="31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23760" y="4464000"/>
              <a:ext cx="30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72440" y="439596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572440" y="442692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572440" y="445788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1360" y="43794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751360" y="4408200"/>
              <a:ext cx="37080" cy="349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672520" y="3892680"/>
              <a:ext cx="37080" cy="2430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305680" y="3886200"/>
              <a:ext cx="37080" cy="24372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identity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level encry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cast, multicast,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data, signa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6 bit to 168 bit key encryption (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llenge/response based mutual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pre-shared key or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based handover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ie-Hellman exchange for ke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r key refr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ERLAN/2 for Emerging Nomad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e Data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 to 54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lity of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gence Lay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L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Requirements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47560"/>
            <a:ext cx="7953480" cy="484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 of IP transporting networks as well as ATM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supporting QoS based multimedia communications (802.1p, RSVP, AT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mpact on the chosen medium access control (MAC)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access point (or base station) based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ut “Direct Mode” operation for peer-to-peer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offering access, switching and management functions within a large cover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age in indoor and outdoor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pable of handling different interference and propagation sit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Requirements -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360" y="1611000"/>
            <a:ext cx="833436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verage of radio cell @ 25 Mb/s: 30-40 m in a typical office indoor environment, 150 m in a large open indoor or typical outdoor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uts limit on the sensitivity of the modulation scheme to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ing asymmetrical traffic load fluctuating in up- and downlink and for different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 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38080" y="1523880"/>
            <a:ext cx="3124440" cy="2017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29520" rIns="29520" tIns="14760" bIns="14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274320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1247200">
            <a:off x="5028840" y="3429000"/>
            <a:ext cx="3886200" cy="281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886200"/>
            <a:ext cx="4068720" cy="228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685800"/>
            <a:ext cx="3505320" cy="2057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2640" rIns="62640" tIns="31320" bIns="313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362320" y="2133720"/>
            <a:ext cx="909360" cy="724680"/>
            <a:chOff x="2362320" y="2133720"/>
            <a:chExt cx="909360" cy="724680"/>
          </a:xfrm>
        </p:grpSpPr>
        <p:sp>
          <p:nvSpPr>
            <p:cNvPr id="66" name=""/>
            <p:cNvSpPr/>
            <p:nvPr/>
          </p:nvSpPr>
          <p:spPr>
            <a:xfrm>
              <a:off x="2362320" y="2133720"/>
              <a:ext cx="9093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405880" y="2329200"/>
              <a:ext cx="395280" cy="529200"/>
              <a:chOff x="2405880" y="2329200"/>
              <a:chExt cx="395280" cy="529200"/>
            </a:xfrm>
          </p:grpSpPr>
          <p:sp>
            <p:nvSpPr>
              <p:cNvPr id="68" name=""/>
              <p:cNvSpPr/>
              <p:nvPr/>
            </p:nvSpPr>
            <p:spPr>
              <a:xfrm>
                <a:off x="27190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410920" y="2367360"/>
                <a:ext cx="34488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7205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44548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5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6460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6120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05880" y="2329200"/>
                <a:ext cx="39528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50520" y="2829960"/>
                <a:ext cx="26460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3124080" y="2133720"/>
            <a:ext cx="909720" cy="726120"/>
            <a:chOff x="3124080" y="2133720"/>
            <a:chExt cx="909720" cy="726120"/>
          </a:xfrm>
        </p:grpSpPr>
        <p:sp>
          <p:nvSpPr>
            <p:cNvPr id="78" name=""/>
            <p:cNvSpPr/>
            <p:nvPr/>
          </p:nvSpPr>
          <p:spPr>
            <a:xfrm>
              <a:off x="312408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GS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3167640" y="2329560"/>
              <a:ext cx="396360" cy="530280"/>
              <a:chOff x="3167640" y="2329560"/>
              <a:chExt cx="396360" cy="530280"/>
            </a:xfrm>
          </p:grpSpPr>
          <p:sp>
            <p:nvSpPr>
              <p:cNvPr id="80" name=""/>
              <p:cNvSpPr/>
              <p:nvPr/>
            </p:nvSpPr>
            <p:spPr>
              <a:xfrm>
                <a:off x="3481560" y="279216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172680" y="2367720"/>
                <a:ext cx="345960" cy="452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48300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072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345840" y="2363760"/>
                <a:ext cx="0" cy="46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408480" y="236772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524040" y="2329560"/>
                <a:ext cx="39600" cy="49788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167640" y="2329560"/>
                <a:ext cx="396360" cy="3420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12280" y="283140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1600200" y="2133720"/>
            <a:ext cx="909720" cy="724680"/>
            <a:chOff x="1600200" y="2133720"/>
            <a:chExt cx="909720" cy="724680"/>
          </a:xfrm>
        </p:grpSpPr>
        <p:sp>
          <p:nvSpPr>
            <p:cNvPr id="90" name=""/>
            <p:cNvSpPr/>
            <p:nvPr/>
          </p:nvSpPr>
          <p:spPr>
            <a:xfrm>
              <a:off x="1600200" y="2133720"/>
              <a:ext cx="90972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9880" rIns="29880" tIns="14760" bIns="1476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757080"/>
                  <a:tab algn="l" pos="1514520"/>
                  <a:tab algn="l" pos="2271600"/>
                  <a:tab algn="l" pos="3029040"/>
                  <a:tab algn="l" pos="3786120"/>
                  <a:tab algn="l" pos="4543560"/>
                  <a:tab algn="l" pos="5300640"/>
                  <a:tab algn="l" pos="6058080"/>
                  <a:tab algn="l" pos="6815160"/>
                  <a:tab algn="l" pos="7572240"/>
                  <a:tab algn="l" pos="8329680"/>
                  <a:tab algn="l" pos="9086760"/>
                  <a:tab algn="l" pos="9844200"/>
                  <a:tab algn="l" pos="106012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W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1643760" y="2329200"/>
              <a:ext cx="396360" cy="529200"/>
              <a:chOff x="1643760" y="2329200"/>
              <a:chExt cx="396360" cy="529200"/>
            </a:xfrm>
          </p:grpSpPr>
          <p:sp>
            <p:nvSpPr>
              <p:cNvPr id="92" name=""/>
              <p:cNvSpPr/>
              <p:nvPr/>
            </p:nvSpPr>
            <p:spPr>
              <a:xfrm>
                <a:off x="1957680" y="2790720"/>
                <a:ext cx="42120" cy="6768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0" y="24"/>
                    </a:moveTo>
                    <a:lnTo>
                      <a:pt x="32" y="0"/>
                    </a:lnTo>
                    <a:lnTo>
                      <a:pt x="32" y="24"/>
                    </a:lnTo>
                    <a:lnTo>
                      <a:pt x="0" y="49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648800" y="2367360"/>
                <a:ext cx="345960" cy="4518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5912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6833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21960" y="2363040"/>
                <a:ext cx="0" cy="46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884600" y="2367360"/>
                <a:ext cx="29160" cy="568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00160" y="2329200"/>
                <a:ext cx="39600" cy="496800"/>
              </a:xfrm>
              <a:custGeom>
                <a:avLst/>
                <a:gdLst/>
                <a:ahLst/>
                <a:rect l="l" t="t" r="r" b="b"/>
                <a:pathLst>
                  <a:path w="31" h="366">
                    <a:moveTo>
                      <a:pt x="0" y="24"/>
                    </a:moveTo>
                    <a:lnTo>
                      <a:pt x="30" y="0"/>
                    </a:lnTo>
                    <a:lnTo>
                      <a:pt x="30" y="340"/>
                    </a:lnTo>
                    <a:lnTo>
                      <a:pt x="0" y="365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43760" y="2329200"/>
                <a:ext cx="396360" cy="33840"/>
              </a:xfrm>
              <a:custGeom>
                <a:avLst/>
                <a:gdLst/>
                <a:ahLst/>
                <a:rect l="l" t="t" r="r" b="b"/>
                <a:pathLst>
                  <a:path w="309" h="25">
                    <a:moveTo>
                      <a:pt x="276" y="24"/>
                    </a:moveTo>
                    <a:lnTo>
                      <a:pt x="308" y="0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b2b2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14760" bIns="1476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88400" y="2829960"/>
                <a:ext cx="265320" cy="2160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9520" rIns="29520" tIns="6840" bIns="68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7110360" y="4343400"/>
            <a:ext cx="1354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94480" y="4343400"/>
            <a:ext cx="86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409720" y="365760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0960" y="3581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f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7280" y="3962520"/>
            <a:ext cx="5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5240" y="83808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1640" y="1676520"/>
            <a:ext cx="16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GPRS/U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3581280"/>
            <a:ext cx="190476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38680" y="2590920"/>
            <a:ext cx="60984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3040" y="4067280"/>
            <a:ext cx="85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343400" y="2895480"/>
            <a:ext cx="1567440" cy="798120"/>
            <a:chOff x="4343400" y="2895480"/>
            <a:chExt cx="1567440" cy="798120"/>
          </a:xfrm>
        </p:grpSpPr>
        <p:grpSp>
          <p:nvGrpSpPr>
            <p:cNvPr id="112" name=""/>
            <p:cNvGrpSpPr/>
            <p:nvPr/>
          </p:nvGrpSpPr>
          <p:grpSpPr>
            <a:xfrm>
              <a:off x="4343400" y="2895480"/>
              <a:ext cx="1567440" cy="798120"/>
              <a:chOff x="4343400" y="2895480"/>
              <a:chExt cx="1567440" cy="7981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5264640" y="2967480"/>
                <a:ext cx="646200" cy="690480"/>
                <a:chOff x="5264640" y="2967480"/>
                <a:chExt cx="646200" cy="69048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5509080" y="2967480"/>
                  <a:ext cx="401760" cy="556920"/>
                  <a:chOff x="5509080" y="2967480"/>
                  <a:chExt cx="401760" cy="55692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5617440" y="3039120"/>
                    <a:ext cx="293400" cy="412920"/>
                    <a:chOff x="5617440" y="3039120"/>
                    <a:chExt cx="293400" cy="412920"/>
                  </a:xfrm>
                </p:grpSpPr>
                <p:grpSp>
                  <p:nvGrpSpPr>
                    <p:cNvPr id="116" name=""/>
                    <p:cNvGrpSpPr/>
                    <p:nvPr/>
                  </p:nvGrpSpPr>
                  <p:grpSpPr>
                    <a:xfrm>
                      <a:off x="5617440" y="3039120"/>
                      <a:ext cx="293400" cy="412920"/>
                      <a:chOff x="5617440" y="3039120"/>
                      <a:chExt cx="293400" cy="412920"/>
                    </a:xfrm>
                  </p:grpSpPr>
                  <p:grpSp>
                    <p:nvGrpSpPr>
                      <p:cNvPr id="117" name=""/>
                      <p:cNvGrpSpPr/>
                      <p:nvPr/>
                    </p:nvGrpSpPr>
                    <p:grpSpPr>
                      <a:xfrm>
                        <a:off x="5685120" y="3065040"/>
                        <a:ext cx="225720" cy="332280"/>
                        <a:chOff x="5685120" y="3065040"/>
                        <a:chExt cx="225720" cy="332280"/>
                      </a:xfrm>
                    </p:grpSpPr>
                    <p:grpSp>
                      <p:nvGrpSpPr>
                        <p:cNvPr id="118" name=""/>
                        <p:cNvGrpSpPr/>
                        <p:nvPr/>
                      </p:nvGrpSpPr>
                      <p:grpSpPr>
                        <a:xfrm>
                          <a:off x="5714280" y="3065040"/>
                          <a:ext cx="196560" cy="332280"/>
                          <a:chOff x="5714280" y="3065040"/>
                          <a:chExt cx="196560" cy="332280"/>
                        </a:xfrm>
                      </p:grpSpPr>
                      <p:sp>
                        <p:nvSpPr>
                          <p:cNvPr id="119" name=""/>
                          <p:cNvSpPr/>
                          <p:nvPr/>
                        </p:nvSpPr>
                        <p:spPr>
                          <a:xfrm>
                            <a:off x="5811480" y="3261240"/>
                            <a:ext cx="993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" name=""/>
                          <p:cNvSpPr/>
                          <p:nvPr/>
                        </p:nvSpPr>
                        <p:spPr>
                          <a:xfrm>
                            <a:off x="5733360" y="3278880"/>
                            <a:ext cx="12852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" name=""/>
                          <p:cNvSpPr/>
                          <p:nvPr/>
                        </p:nvSpPr>
                        <p:spPr>
                          <a:xfrm>
                            <a:off x="5792760" y="3136680"/>
                            <a:ext cx="88560" cy="9216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8720" bIns="1872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2" name=""/>
                          <p:cNvSpPr/>
                          <p:nvPr/>
                        </p:nvSpPr>
                        <p:spPr>
                          <a:xfrm>
                            <a:off x="5714280" y="3065040"/>
                            <a:ext cx="118080" cy="118440"/>
                          </a:xfrm>
                          <a:prstGeom prst="ellipse">
                            <a:avLst/>
                          </a:pr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7080" bIns="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3" name=""/>
                          <p:cNvSpPr/>
                          <p:nvPr/>
                        </p:nvSpPr>
                        <p:spPr>
                          <a:xfrm>
                            <a:off x="5789160" y="3133800"/>
                            <a:ext cx="88560" cy="19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1" h="134">
                                <a:moveTo>
                                  <a:pt x="50" y="133"/>
                                </a:moveTo>
                                <a:lnTo>
                                  <a:pt x="28" y="133"/>
                                </a:lnTo>
                                <a:lnTo>
                                  <a:pt x="0" y="0"/>
                                </a:lnTo>
                                <a:lnTo>
                                  <a:pt x="28" y="12"/>
                                </a:lnTo>
                                <a:lnTo>
                                  <a:pt x="33" y="79"/>
                                </a:lnTo>
                                <a:lnTo>
                                  <a:pt x="50" y="133"/>
                                </a:lnTo>
                              </a:path>
                            </a:pathLst>
                          </a:custGeom>
                          <a:gradFill rotWithShape="0">
                            <a:gsLst>
                              <a:gs pos="0">
                                <a:srgbClr val="d5e9fe"/>
                              </a:gs>
                              <a:gs pos="100000">
                                <a:srgbClr val="99ccff"/>
                              </a:gs>
                            </a:gsLst>
                            <a:lin ang="5400000"/>
                          </a:gra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>
                          <a:off x="5685120" y="3162960"/>
                          <a:ext cx="177120" cy="16272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>
                          <a:off x="5685120" y="3261240"/>
                          <a:ext cx="128520" cy="118440"/>
                        </a:xfrm>
                        <a:prstGeom prst="ellipse">
                          <a:avLst/>
                        </a:pr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7080" bIns="37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>
                          <a:off x="5719680" y="3114720"/>
                          <a:ext cx="90360" cy="206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2" h="141">
                              <a:moveTo>
                                <a:pt x="51" y="24"/>
                              </a:moveTo>
                              <a:lnTo>
                                <a:pt x="45" y="55"/>
                              </a:lnTo>
                              <a:lnTo>
                                <a:pt x="51" y="122"/>
                              </a:lnTo>
                              <a:lnTo>
                                <a:pt x="34" y="140"/>
                              </a:lnTo>
                              <a:lnTo>
                                <a:pt x="0" y="61"/>
                              </a:lnTo>
                              <a:lnTo>
                                <a:pt x="28" y="0"/>
                              </a:lnTo>
                              <a:lnTo>
                                <a:pt x="51" y="24"/>
                              </a:lnTo>
                            </a:path>
                          </a:pathLst>
                        </a:custGeom>
                        <a:gradFill rotWithShape="0">
                          <a:gsLst>
                            <a:gs pos="0">
                              <a:srgbClr val="d5e9fe"/>
                            </a:gs>
                            <a:gs pos="100000">
                              <a:srgbClr val="99ccff"/>
                            </a:gs>
                          </a:gsLst>
                          <a:lin ang="5400000"/>
                        </a:gra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5685120" y="3359880"/>
                        <a:ext cx="99000" cy="9216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5617440" y="3039120"/>
                        <a:ext cx="119880" cy="118440"/>
                      </a:xfrm>
                      <a:prstGeom prst="ellipse">
                        <a:avLst/>
                      </a:pr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7080" bIns="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5711400" y="3330720"/>
                        <a:ext cx="69480" cy="4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31">
                            <a:moveTo>
                              <a:pt x="39" y="18"/>
                            </a:moveTo>
                            <a:lnTo>
                              <a:pt x="28" y="30"/>
                            </a:lnTo>
                            <a:lnTo>
                              <a:pt x="0" y="18"/>
                            </a:lnTo>
                            <a:lnTo>
                              <a:pt x="28" y="0"/>
                            </a:lnTo>
                            <a:lnTo>
                              <a:pt x="39" y="18"/>
                            </a:lnTo>
                          </a:path>
                        </a:pathLst>
                      </a:custGeom>
                      <a:gradFill rotWithShape="0">
                        <a:gsLst>
                          <a:gs pos="0">
                            <a:srgbClr val="d5e9fe"/>
                          </a:gs>
                          <a:gs pos="100000">
                            <a:srgbClr val="99ccff"/>
                          </a:gs>
                        </a:gsLst>
                        <a:lin ang="54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" bIns="-1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5700600" y="3090240"/>
                      <a:ext cx="41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49">
                          <a:moveTo>
                            <a:pt x="11" y="0"/>
                          </a:moveTo>
                          <a:lnTo>
                            <a:pt x="23" y="6"/>
                          </a:lnTo>
                          <a:lnTo>
                            <a:pt x="23" y="48"/>
                          </a:lnTo>
                          <a:lnTo>
                            <a:pt x="0" y="4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5509080" y="2967480"/>
                    <a:ext cx="275400" cy="502560"/>
                    <a:chOff x="5509080" y="2967480"/>
                    <a:chExt cx="275400" cy="50256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5538600" y="3261960"/>
                      <a:ext cx="226440" cy="208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5558040" y="3118320"/>
                      <a:ext cx="226440" cy="2095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5509080" y="2967480"/>
                      <a:ext cx="177840" cy="1638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5615280" y="3065400"/>
                      <a:ext cx="90360" cy="921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720" bIns="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554440" y="3044880"/>
                      <a:ext cx="15696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0" h="129">
                          <a:moveTo>
                            <a:pt x="61" y="6"/>
                          </a:moveTo>
                          <a:lnTo>
                            <a:pt x="61" y="18"/>
                          </a:lnTo>
                          <a:lnTo>
                            <a:pt x="83" y="49"/>
                          </a:lnTo>
                          <a:lnTo>
                            <a:pt x="89" y="55"/>
                          </a:lnTo>
                          <a:lnTo>
                            <a:pt x="56" y="128"/>
                          </a:lnTo>
                          <a:lnTo>
                            <a:pt x="0" y="0"/>
                          </a:lnTo>
                          <a:lnTo>
                            <a:pt x="61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5632560" y="3294360"/>
                      <a:ext cx="9756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44">
                          <a:moveTo>
                            <a:pt x="49" y="6"/>
                          </a:moveTo>
                          <a:lnTo>
                            <a:pt x="55" y="18"/>
                          </a:lnTo>
                          <a:lnTo>
                            <a:pt x="0" y="43"/>
                          </a:lnTo>
                          <a:lnTo>
                            <a:pt x="0" y="0"/>
                          </a:lnTo>
                          <a:lnTo>
                            <a:pt x="49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d5e9fe"/>
                        </a:gs>
                        <a:gs pos="100000">
                          <a:srgbClr val="99cc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" name=""/>
                  <p:cNvSpPr/>
                  <p:nvPr/>
                </p:nvSpPr>
                <p:spPr>
                  <a:xfrm>
                    <a:off x="5509080" y="340596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5584320" y="3394080"/>
                    <a:ext cx="6948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43">
                        <a:moveTo>
                          <a:pt x="17" y="42"/>
                        </a:moveTo>
                        <a:lnTo>
                          <a:pt x="39" y="30"/>
                        </a:lnTo>
                        <a:lnTo>
                          <a:pt x="11" y="0"/>
                        </a:lnTo>
                        <a:lnTo>
                          <a:pt x="0" y="12"/>
                        </a:lnTo>
                        <a:lnTo>
                          <a:pt x="17" y="4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5264640" y="3511800"/>
                  <a:ext cx="150120" cy="146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381280" y="3511800"/>
                  <a:ext cx="131040" cy="11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49680" y="3476520"/>
                  <a:ext cx="131040" cy="118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48160" y="3456000"/>
                  <a:ext cx="246240" cy="162720"/>
                </a:xfrm>
                <a:custGeom>
                  <a:avLst/>
                  <a:gdLst/>
                  <a:ahLst/>
                  <a:rect l="l" t="t" r="r" b="b"/>
                  <a:pathLst>
                    <a:path w="141" h="111">
                      <a:moveTo>
                        <a:pt x="134" y="31"/>
                      </a:moveTo>
                      <a:lnTo>
                        <a:pt x="118" y="37"/>
                      </a:lnTo>
                      <a:lnTo>
                        <a:pt x="78" y="79"/>
                      </a:lnTo>
                      <a:lnTo>
                        <a:pt x="73" y="98"/>
                      </a:lnTo>
                      <a:lnTo>
                        <a:pt x="28" y="98"/>
                      </a:lnTo>
                      <a:lnTo>
                        <a:pt x="22" y="110"/>
                      </a:lnTo>
                      <a:lnTo>
                        <a:pt x="0" y="73"/>
                      </a:lnTo>
                      <a:lnTo>
                        <a:pt x="95" y="0"/>
                      </a:lnTo>
                      <a:lnTo>
                        <a:pt x="140" y="18"/>
                      </a:lnTo>
                      <a:lnTo>
                        <a:pt x="134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43400" y="2976120"/>
                <a:ext cx="393840" cy="476280"/>
                <a:chOff x="4343400" y="2976120"/>
                <a:chExt cx="393840" cy="4762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4343400" y="3039120"/>
                  <a:ext cx="217800" cy="288360"/>
                  <a:chOff x="4343400" y="3039120"/>
                  <a:chExt cx="217800" cy="28836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4343400" y="3137040"/>
                    <a:ext cx="10116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362120" y="3209040"/>
                    <a:ext cx="12060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381560" y="303912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369320" y="3143160"/>
                    <a:ext cx="6948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68">
                        <a:moveTo>
                          <a:pt x="22" y="0"/>
                        </a:moveTo>
                        <a:lnTo>
                          <a:pt x="0" y="12"/>
                        </a:lnTo>
                        <a:lnTo>
                          <a:pt x="0" y="55"/>
                        </a:lnTo>
                        <a:lnTo>
                          <a:pt x="11" y="67"/>
                        </a:lnTo>
                        <a:lnTo>
                          <a:pt x="39" y="55"/>
                        </a:lnTo>
                        <a:lnTo>
                          <a:pt x="2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4411440" y="2976120"/>
                  <a:ext cx="325800" cy="476280"/>
                  <a:chOff x="4411440" y="2976120"/>
                  <a:chExt cx="325800" cy="47628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4519440" y="2993400"/>
                    <a:ext cx="217800" cy="21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411440" y="3137400"/>
                    <a:ext cx="120240" cy="1184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4440960" y="3207960"/>
                    <a:ext cx="16920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4489560" y="3279600"/>
                    <a:ext cx="179640" cy="172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500360" y="3091680"/>
                    <a:ext cx="158400" cy="146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627800" y="2976120"/>
                    <a:ext cx="99000" cy="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545360" y="3062520"/>
                    <a:ext cx="1184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12"/>
                        </a:moveTo>
                        <a:lnTo>
                          <a:pt x="11" y="37"/>
                        </a:lnTo>
                        <a:lnTo>
                          <a:pt x="67" y="55"/>
                        </a:lnTo>
                        <a:lnTo>
                          <a:pt x="67" y="18"/>
                        </a:lnTo>
                        <a:lnTo>
                          <a:pt x="6" y="0"/>
                        </a:lnTo>
                        <a:lnTo>
                          <a:pt x="0" y="1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446000" y="3187080"/>
                    <a:ext cx="13068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05">
                        <a:moveTo>
                          <a:pt x="46" y="0"/>
                        </a:moveTo>
                        <a:lnTo>
                          <a:pt x="0" y="24"/>
                        </a:lnTo>
                        <a:lnTo>
                          <a:pt x="17" y="49"/>
                        </a:lnTo>
                        <a:lnTo>
                          <a:pt x="17" y="98"/>
                        </a:lnTo>
                        <a:lnTo>
                          <a:pt x="28" y="104"/>
                        </a:lnTo>
                        <a:lnTo>
                          <a:pt x="68" y="73"/>
                        </a:lnTo>
                        <a:lnTo>
                          <a:pt x="74" y="12"/>
                        </a:lnTo>
                        <a:lnTo>
                          <a:pt x="46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5e9fe"/>
                      </a:gs>
                      <a:gs pos="100000">
                        <a:srgbClr val="99cc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>
                  <a:off x="4613760" y="3016800"/>
                  <a:ext cx="80280" cy="82080"/>
                </a:xfrm>
                <a:custGeom>
                  <a:avLst/>
                  <a:gdLst/>
                  <a:ahLst/>
                  <a:rect l="l" t="t" r="r" b="b"/>
                  <a:pathLst>
                    <a:path w="46" h="56">
                      <a:moveTo>
                        <a:pt x="0" y="31"/>
                      </a:moveTo>
                      <a:lnTo>
                        <a:pt x="22" y="0"/>
                      </a:lnTo>
                      <a:lnTo>
                        <a:pt x="45" y="31"/>
                      </a:lnTo>
                      <a:lnTo>
                        <a:pt x="22" y="55"/>
                      </a:lnTo>
                      <a:lnTo>
                        <a:pt x="0" y="31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539240" y="2895480"/>
                <a:ext cx="1148040" cy="798120"/>
                <a:chOff x="4539240" y="2895480"/>
                <a:chExt cx="1148040" cy="7981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4891680" y="2921760"/>
                  <a:ext cx="2869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126040" y="2895480"/>
                  <a:ext cx="22896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32680" y="3118680"/>
                  <a:ext cx="354600" cy="33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666680" y="3262320"/>
                  <a:ext cx="403200" cy="387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223960" y="3306240"/>
                  <a:ext cx="306000" cy="2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568760" y="3332880"/>
                  <a:ext cx="218160" cy="21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39240" y="3164040"/>
                  <a:ext cx="226800" cy="21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636800" y="2967480"/>
                  <a:ext cx="354600" cy="34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949640" y="3360600"/>
                  <a:ext cx="356400" cy="33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381280" y="2993760"/>
                  <a:ext cx="276120" cy="26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302800" y="2895480"/>
                  <a:ext cx="256680" cy="234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622760" y="2955600"/>
                  <a:ext cx="1001520" cy="635400"/>
                </a:xfrm>
                <a:custGeom>
                  <a:avLst/>
                  <a:gdLst/>
                  <a:ahLst/>
                  <a:rect l="l" t="t" r="r" b="b"/>
                  <a:pathLst>
                    <a:path w="573" h="433">
                      <a:moveTo>
                        <a:pt x="179" y="43"/>
                      </a:moveTo>
                      <a:lnTo>
                        <a:pt x="202" y="12"/>
                      </a:lnTo>
                      <a:lnTo>
                        <a:pt x="308" y="12"/>
                      </a:lnTo>
                      <a:lnTo>
                        <a:pt x="381" y="0"/>
                      </a:lnTo>
                      <a:lnTo>
                        <a:pt x="477" y="55"/>
                      </a:lnTo>
                      <a:lnTo>
                        <a:pt x="527" y="37"/>
                      </a:lnTo>
                      <a:lnTo>
                        <a:pt x="550" y="43"/>
                      </a:lnTo>
                      <a:lnTo>
                        <a:pt x="555" y="170"/>
                      </a:lnTo>
                      <a:lnTo>
                        <a:pt x="572" y="195"/>
                      </a:lnTo>
                      <a:lnTo>
                        <a:pt x="527" y="292"/>
                      </a:lnTo>
                      <a:lnTo>
                        <a:pt x="477" y="219"/>
                      </a:lnTo>
                      <a:lnTo>
                        <a:pt x="465" y="256"/>
                      </a:lnTo>
                      <a:lnTo>
                        <a:pt x="398" y="395"/>
                      </a:lnTo>
                      <a:lnTo>
                        <a:pt x="174" y="432"/>
                      </a:lnTo>
                      <a:lnTo>
                        <a:pt x="56" y="402"/>
                      </a:lnTo>
                      <a:lnTo>
                        <a:pt x="22" y="316"/>
                      </a:lnTo>
                      <a:lnTo>
                        <a:pt x="22" y="231"/>
                      </a:lnTo>
                      <a:lnTo>
                        <a:pt x="0" y="164"/>
                      </a:lnTo>
                      <a:lnTo>
                        <a:pt x="179" y="43"/>
                      </a:lnTo>
                    </a:path>
                  </a:pathLst>
                </a:custGeom>
                <a:gradFill rotWithShape="0">
                  <a:gsLst>
                    <a:gs pos="0">
                      <a:srgbClr val="d5e9fe"/>
                    </a:gs>
                    <a:gs pos="100000">
                      <a:srgbClr val="99cc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4617360" y="3108600"/>
              <a:ext cx="93384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400" rIns="95400" tIns="47520" bIns="475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791320" y="3581280"/>
            <a:ext cx="436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6705720" y="4648320"/>
            <a:ext cx="1294920" cy="685440"/>
            <a:chOff x="6705720" y="4648320"/>
            <a:chExt cx="1294920" cy="685440"/>
          </a:xfrm>
        </p:grpSpPr>
        <p:grpSp>
          <p:nvGrpSpPr>
            <p:cNvPr id="176" name=""/>
            <p:cNvGrpSpPr/>
            <p:nvPr/>
          </p:nvGrpSpPr>
          <p:grpSpPr>
            <a:xfrm>
              <a:off x="6705720" y="4648320"/>
              <a:ext cx="1005480" cy="685440"/>
              <a:chOff x="6705720" y="4648320"/>
              <a:chExt cx="1005480" cy="685440"/>
            </a:xfrm>
          </p:grpSpPr>
          <p:sp>
            <p:nvSpPr>
              <p:cNvPr id="177" name=""/>
              <p:cNvSpPr/>
              <p:nvPr/>
            </p:nvSpPr>
            <p:spPr>
              <a:xfrm>
                <a:off x="734940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34112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31760" y="464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2348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14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9612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28676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7740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6804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5868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25040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40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316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22196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260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036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9496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8560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176240" y="4660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166880" y="4660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57520" y="4663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148160" y="4665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13988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3016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120800" y="4669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11440" y="4671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102080" y="46738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92720" y="467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4440" y="467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75080" y="4679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66800" y="4682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58520" y="4683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48800" y="4686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39440" y="4690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030080" y="469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020720" y="4695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011360" y="46994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03800" y="4700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994800" y="4705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985080" y="4707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975720" y="471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67440" y="4713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959160" y="471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949800" y="4722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941520" y="472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32160" y="4727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923880" y="473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15600" y="4736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905880" y="4740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897600" y="474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888240" y="475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881040" y="4754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71320" y="475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64120" y="4766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54760" y="477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847560" y="4776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838200" y="4780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30640" y="47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822360" y="4793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813000" y="479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05800" y="4806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798600" y="481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89960" y="4818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82760" y="4827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4480" y="483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69080" y="484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60800" y="4849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54680" y="48589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47480" y="4867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41000" y="4874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34880" y="4885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30560" y="48956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24440" y="4907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19400" y="4917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15080" y="49269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11840" y="4938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08600" y="4949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7520" y="4962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05720" y="497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05720" y="4988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705720" y="5001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707520" y="501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08600" y="5025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11840" y="5036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15080" y="5049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19400" y="5059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25520" y="506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30560" y="5080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34880" y="5090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41000" y="5099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48200" y="5109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54680" y="511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60800" y="512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69080" y="5134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76640" y="5141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782760" y="51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89960" y="5155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8600" y="5164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805800" y="5170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813000" y="5177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822360" y="5182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830640" y="5188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38200" y="5195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47560" y="5200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854760" y="5205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864120" y="5210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71320" y="5217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881040" y="522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888240" y="5224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97600" y="5231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05880" y="5235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915600" y="5240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923880" y="5244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32160" y="5248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41520" y="5249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49800" y="5254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59160" y="5258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967440" y="5262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975720" y="5264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85080" y="5268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9480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00380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011360" y="5276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02072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30080" y="5284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039440" y="5285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04880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5852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66800" y="529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07508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08444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92720" y="5299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02080" y="5302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11144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120800" y="530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13016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13988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48160" y="5311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157520" y="5312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1668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76240" y="5315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18560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496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203600" y="5319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2126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22196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231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2406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25040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25868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26804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7740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2867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961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05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3148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323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3324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422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3515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3609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37028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378560" y="532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38792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3976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07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160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42356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3292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4228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5164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5992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6928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790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88000" y="532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97720" y="5319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0708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1644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52472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5340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543440" y="5312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552800" y="531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562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5715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580160" y="5306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58952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598880" y="53028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8240" y="5299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61760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2696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4520" y="5293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64388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65288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661520" y="5285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670880" y="5284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8024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689600" y="5276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9896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70616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7715880" y="526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5240" y="5264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34600" y="52628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742160" y="525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751520" y="5254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60880" y="52498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770240" y="5248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777440" y="5244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86800" y="52401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96160" y="5235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03720" y="5231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813080" y="5224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20280" y="5220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829640" y="5217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36840" y="5210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846560" y="5205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854840" y="5200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863120" y="5195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71400" y="5188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78960" y="5182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87960" y="51775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895520" y="5170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903800" y="5164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11000" y="5155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918200" y="5148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24680" y="5141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32960" y="5134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40520" y="512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4664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52760" y="5109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960320" y="509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66440" y="5090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1480" y="5080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76880" y="5069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81920" y="5059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986240" y="504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89480" y="5036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92360" y="5025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94520" y="501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95600" y="5001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95600" y="4988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95600" y="4975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4520" y="496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92360" y="4949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89480" y="493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240" y="49269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81920" y="4917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76880" y="4907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971480" y="48956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966440" y="4885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60320" y="48744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53840" y="4867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46640" y="4858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40520" y="4849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32960" y="4841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26840" y="483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918200" y="48276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11000" y="4818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903800" y="4811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95520" y="4806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87960" y="4799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878960" y="4793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871400" y="4787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63120" y="4780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54840" y="4776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46560" y="4770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836840" y="476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29640" y="475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20280" y="475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13080" y="4750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03720" y="4744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796160" y="4740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86800" y="4736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77440" y="4731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0240" y="4727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60880" y="4723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51520" y="4722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42160" y="4717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34600" y="4713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25240" y="4710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15880" y="4707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06520" y="47052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97160" y="47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689960" y="4699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80600" y="4695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670880" y="4692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661880" y="4690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53240" y="4686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43880" y="4683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34520" y="4682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27320" y="4679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17600" y="4678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08600" y="4675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98880" y="46738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89520" y="4671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80520" y="46695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7188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6252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553160" y="4665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3800" y="4663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53444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2508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1680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0708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49772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88360" y="4655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479000" y="4655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46964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028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52000" y="4652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42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4332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23560" y="4651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41420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40484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9656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8720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7784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68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591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51560" y="46483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 flipV="1">
            <a:off x="75438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90920" y="4724280"/>
            <a:ext cx="1353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174680" y="4724280"/>
            <a:ext cx="862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-31320" bIns="-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414520" y="5029200"/>
            <a:ext cx="1295280" cy="685440"/>
            <a:chOff x="2414520" y="5029200"/>
            <a:chExt cx="1295280" cy="685440"/>
          </a:xfrm>
        </p:grpSpPr>
        <p:grpSp>
          <p:nvGrpSpPr>
            <p:cNvPr id="502" name=""/>
            <p:cNvGrpSpPr/>
            <p:nvPr/>
          </p:nvGrpSpPr>
          <p:grpSpPr>
            <a:xfrm>
              <a:off x="2414520" y="5029200"/>
              <a:ext cx="1005840" cy="685440"/>
              <a:chOff x="2414520" y="5029200"/>
              <a:chExt cx="1005840" cy="685440"/>
            </a:xfrm>
          </p:grpSpPr>
          <p:sp>
            <p:nvSpPr>
              <p:cNvPr id="503" name=""/>
              <p:cNvSpPr/>
              <p:nvPr/>
            </p:nvSpPr>
            <p:spPr>
              <a:xfrm>
                <a:off x="305856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050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040560" y="502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0322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400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0146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00528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99556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98656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7720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6748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95920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94984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404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93112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92176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912400" y="5037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903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8947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85040" y="5041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875680" y="5041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66320" y="5044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856960" y="5046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84868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83932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29960" y="505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820600" y="5051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11240" y="5054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1520" y="505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3240" y="5059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83880" y="506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75600" y="5063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67320" y="506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57960" y="5067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748240" y="507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739240" y="5073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729520" y="5076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720160" y="5080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712960" y="508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703600" y="5086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94240" y="5088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684520" y="5091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676240" y="509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667960" y="5098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658600" y="510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650320" y="5104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640960" y="5108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632680" y="5112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624400" y="5117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14680" y="5121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06400" y="5125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97040" y="513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89840" y="5135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80120" y="514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72920" y="5146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3560" y="5151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56360" y="5157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47000" y="516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39440" y="5168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31160" y="5174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21800" y="518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14600" y="5187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07400" y="5192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98760" y="51998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91920" y="5208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483280" y="521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477880" y="5222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469600" y="5230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463480" y="52398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456280" y="5248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49800" y="5255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43680" y="5266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439360" y="5276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433240" y="5288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428200" y="5298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23880" y="5307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0640" y="5319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17400" y="5330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416320" y="5343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14520" y="5356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414520" y="5369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4520" y="5382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16320" y="5394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17400" y="5406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20640" y="5417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23880" y="5430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28200" y="5440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34320" y="545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439360" y="54615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43680" y="547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449800" y="5479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457360" y="549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463480" y="549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69600" y="5507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477880" y="5515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485440" y="5522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491920" y="5529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498760" y="553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07400" y="5545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514600" y="5551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521800" y="55584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531160" y="556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539440" y="5569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47000" y="557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56360" y="558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63560" y="558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72920" y="559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580120" y="559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589840" y="5600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597040" y="560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06400" y="5612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14680" y="5616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624400" y="5621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632680" y="562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640960" y="5629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650320" y="563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658600" y="5635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67960" y="5639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676240" y="564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684520" y="564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694240" y="5649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70360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1296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720160" y="5657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72952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739240" y="5664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748240" y="5666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5796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76732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775600" y="5674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78388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79324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801520" y="568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811240" y="568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82060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829960" y="56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8393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848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856960" y="569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66320" y="569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8756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885040" y="569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894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9037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12400" y="5700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92176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93112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9404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94984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9592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96748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97720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98656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9955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052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146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024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322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164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510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607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0700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079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087720" y="570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0970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1064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116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25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3272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14208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15144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1608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16908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17844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78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197160" y="570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206520" y="5700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1624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2560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2338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24324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252600" y="569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261960" y="5691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271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2806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289320" y="5687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29868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308040" y="5683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17400" y="5680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32676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33612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343320" y="5674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35304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36204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370680" y="56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380040" y="566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38940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398760" y="5657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40812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1532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425040" y="5649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4400" y="564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443760" y="564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50960" y="5639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60680" y="5635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469680" y="563076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79400" y="5629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86600" y="5625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95960" y="5621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05320" y="5616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12520" y="5612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22240" y="5605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529440" y="56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538800" y="5598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46000" y="5591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555360" y="558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63640" y="5581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572280" y="5576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80560" y="5569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587760" y="5563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97120" y="55584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04680" y="5551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12960" y="5545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20160" y="5536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627360" y="55296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633840" y="5522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642120" y="5515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649320" y="5507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55800" y="5498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661920" y="5490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69480" y="5479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675600" y="5471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80640" y="54615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686040" y="5450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91080" y="5440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695400" y="5430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698640" y="5417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701520" y="5406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703680" y="539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704760" y="5382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704760" y="536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704760" y="5356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0368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70152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98640" y="531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95400" y="530784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691080" y="5298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86040" y="5288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80640" y="527652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75600" y="52668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69480" y="5255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63000" y="5248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55800" y="5239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649320" y="5230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642120" y="5222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36000" y="52138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627360" y="520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20160" y="5199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612960" y="5192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604680" y="5187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97120" y="51800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87760" y="5174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80560" y="516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72280" y="516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63640" y="5157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55360" y="51512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546000" y="5146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38800" y="514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9440" y="513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22240" y="5131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12520" y="5125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05320" y="5121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596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86600" y="5112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79400" y="5108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69680" y="5104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60680" y="510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50960" y="5098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443760" y="509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434400" y="5091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425040" y="5088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15680" y="50860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05960" y="5081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399120" y="5080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89400" y="5076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380040" y="5073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70680" y="507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362400" y="5067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353040" y="506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343680" y="5063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36120" y="5060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326760" y="5059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317400" y="505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308040" y="5054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98680" y="5051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89320" y="505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8104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7168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62320" y="5046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2600" y="5044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4360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3388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2560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1624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06880" y="5037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7160" y="5036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88160" y="503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7844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6908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60800" y="503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5144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420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032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2336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1400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05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963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08664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07728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679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60720" y="502920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 flipV="1">
            <a:off x="325296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762120" y="5029200"/>
            <a:ext cx="1294920" cy="685440"/>
            <a:chOff x="762120" y="5029200"/>
            <a:chExt cx="1294920" cy="685440"/>
          </a:xfrm>
        </p:grpSpPr>
        <p:grpSp>
          <p:nvGrpSpPr>
            <p:cNvPr id="826" name=""/>
            <p:cNvGrpSpPr/>
            <p:nvPr/>
          </p:nvGrpSpPr>
          <p:grpSpPr>
            <a:xfrm>
              <a:off x="762120" y="5029200"/>
              <a:ext cx="1005480" cy="685440"/>
              <a:chOff x="762120" y="5029200"/>
              <a:chExt cx="1005480" cy="685440"/>
            </a:xfrm>
          </p:grpSpPr>
          <p:sp>
            <p:nvSpPr>
              <p:cNvPr id="827" name=""/>
              <p:cNvSpPr/>
              <p:nvPr/>
            </p:nvSpPr>
            <p:spPr>
              <a:xfrm>
                <a:off x="140580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39752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388160" y="502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379880" y="502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3712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36224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35252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343160" y="5029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33380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32444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315080" y="5032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0680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2970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288080" y="5033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27836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269000" y="5036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60000" y="5037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25136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242000" y="504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232640" y="5041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223280" y="5041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213920" y="5044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04560" y="5046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19628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186560" y="504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177200" y="5050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167840" y="5051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158480" y="50547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149120" y="505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140840" y="50590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131480" y="5060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123200" y="5063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114920" y="506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05200" y="5067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095840" y="507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086480" y="5073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077120" y="5076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067760" y="5080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60200" y="508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051200" y="5086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041480" y="5088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032120" y="5091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023840" y="509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015560" y="5098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006200" y="510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97920" y="5104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88560" y="5108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80280" y="5112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72000" y="5117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2280" y="5121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54000" y="5125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944640" y="5131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937440" y="5135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927720" y="5140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920520" y="5146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911160" y="5151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903960" y="5157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894600" y="5161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87040" y="5168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78760" y="5174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69400" y="518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62200" y="5187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55000" y="5192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46360" y="51998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39160" y="5208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30880" y="521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825480" y="5222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817200" y="5230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811080" y="523980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803880" y="5248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97400" y="5255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91280" y="5266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86960" y="527652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80840" y="5288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75800" y="5298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1480" y="53078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68240" y="5319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65000" y="5330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920" y="5343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2120" y="5356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62120" y="5369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2120" y="5382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3920" y="5394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5000" y="5406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68240" y="5417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1480" y="5430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75800" y="5440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81920" y="5450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6960" y="54615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91280" y="547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97400" y="5479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04600" y="549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811080" y="5498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817200" y="5507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25480" y="5515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33040" y="5522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39160" y="5529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46360" y="5536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55000" y="5545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62200" y="5551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69400" y="55584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78760" y="556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7040" y="5569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94600" y="557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03960" y="558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11160" y="558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0520" y="559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927720" y="559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37440" y="5600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944640" y="560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954000" y="5612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962280" y="5616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972000" y="5621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980280" y="562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988560" y="56293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997920" y="5630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006200" y="56350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015560" y="5639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023840" y="564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032120" y="5645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041480" y="56494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05120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06020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067760" y="5657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07712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086480" y="5664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095840" y="5666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10520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11492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123200" y="56746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13148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14084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149120" y="568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158480" y="568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16784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177200" y="56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18656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19628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204560" y="569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213920" y="5693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2232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232640" y="569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24200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25136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260000" y="5700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2690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27836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2880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29708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30680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31508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32444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3380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3431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3525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3622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3712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3798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38888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3986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0796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41732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42668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434960" y="570888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444320" y="5708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404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634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72400" y="5708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479960" y="5706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48932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498680" y="5706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508040" y="57049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1632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25680" y="570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535400" y="5702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544400" y="570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54120" y="5700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56348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572840" y="5697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58112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590480" y="56962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599840" y="569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609200" y="56919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6189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627920" y="568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36560" y="56876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45920" y="5684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55280" y="5683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64640" y="56808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674000" y="5679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83360" y="567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90920" y="5674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700280" y="5673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709280" y="56692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717920" y="566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727280" y="566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736640" y="566208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746000" y="5657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755360" y="56563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762560" y="565236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1772280" y="5649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781640" y="5645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791000" y="564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98560" y="5639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7920" y="5635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817280" y="563076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826640" y="5629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33840" y="5625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43200" y="5621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52560" y="5616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860120" y="56124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69480" y="5605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876680" y="56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886040" y="5598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93240" y="5591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02960" y="55868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911240" y="5581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919520" y="5576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927800" y="5569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35360" y="5563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944360" y="55584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51920" y="5551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960200" y="5545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67400" y="5536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4600" y="55296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981080" y="5522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989360" y="5515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996920" y="5507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03040" y="5498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009160" y="5490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016720" y="5479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22840" y="5471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027880" y="54615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033280" y="5450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038320" y="5440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042640" y="5430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045880" y="5417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48760" y="5406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050920" y="539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052000" y="5382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052000" y="536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052000" y="5356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050920" y="5343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048760" y="5330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045880" y="531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042640" y="530784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8320" y="5298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33280" y="52880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27880" y="527652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22840" y="52668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016720" y="5255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010240" y="5248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03040" y="5239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96920" y="5230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989360" y="5222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983240" y="52138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974600" y="520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967400" y="5199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960200" y="5192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951920" y="518724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944360" y="51800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935360" y="51742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927800" y="516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919520" y="5161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911240" y="5157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902960" y="51512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893240" y="5146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86040" y="5140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76680" y="513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869480" y="5131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860120" y="5125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52560" y="5121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84320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833840" y="51127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26640" y="5108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17280" y="51044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807920" y="510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798560" y="50986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791000" y="509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781640" y="5091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772280" y="5088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762920" y="50860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753560" y="5081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46360" y="5080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737000" y="5076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727280" y="5073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718280" y="507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709640" y="5067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700280" y="506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690920" y="5063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683720" y="5060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74000" y="50590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665000" y="505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655280" y="50547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645920" y="5051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636920" y="50504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62828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8920" y="5049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09560" y="5046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00200" y="5044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59084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81480" y="5041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7320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563480" y="5040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554120" y="5037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544760" y="5036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535400" y="503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52604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516680" y="5033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08400" y="5033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986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89680" y="50320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79960" y="50320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7060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61240" y="5029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5296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443600" y="502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43424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4245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15520" y="502920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07960" y="502920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 flipV="1">
            <a:off x="1600200" y="472392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9" name="E286%20cop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6400800" y="5334120"/>
            <a:ext cx="574560" cy="84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0" name=""/>
          <p:cNvGraphicFramePr/>
          <p:nvPr/>
        </p:nvGraphicFramePr>
        <p:xfrm>
          <a:off x="7620120" y="5246640"/>
          <a:ext cx="1523880" cy="10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5246640"/>
                    <a:ext cx="152388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52" name=""/>
          <p:cNvGrpSpPr/>
          <p:nvPr/>
        </p:nvGrpSpPr>
        <p:grpSpPr>
          <a:xfrm>
            <a:off x="5334120" y="4648320"/>
            <a:ext cx="1294920" cy="685440"/>
            <a:chOff x="5334120" y="4648320"/>
            <a:chExt cx="1294920" cy="685440"/>
          </a:xfrm>
        </p:grpSpPr>
        <p:grpSp>
          <p:nvGrpSpPr>
            <p:cNvPr id="1153" name=""/>
            <p:cNvGrpSpPr/>
            <p:nvPr/>
          </p:nvGrpSpPr>
          <p:grpSpPr>
            <a:xfrm>
              <a:off x="5334120" y="4648320"/>
              <a:ext cx="1005480" cy="685440"/>
              <a:chOff x="5334120" y="4648320"/>
              <a:chExt cx="1005480" cy="685440"/>
            </a:xfrm>
          </p:grpSpPr>
          <p:sp>
            <p:nvSpPr>
              <p:cNvPr id="1154" name=""/>
              <p:cNvSpPr/>
              <p:nvPr/>
            </p:nvSpPr>
            <p:spPr>
              <a:xfrm>
                <a:off x="597780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6952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60160" y="4648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951880" y="4648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432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3424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2452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915160" y="4648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90580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9644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87080" y="4651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7880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690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60080" y="4652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5036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41000" y="4655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2000" y="4656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2336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14000" y="4659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04640" y="4660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795280" y="4660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785920" y="4663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776560" y="4665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6828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758560" y="466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49200" y="4669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39840" y="4671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730480" y="46738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721120" y="467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712840" y="467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703480" y="4679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695200" y="4682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686920" y="4683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677200" y="4686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667840" y="4690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658480" y="4692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49120" y="4695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39760" y="46994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632200" y="4700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623200" y="4705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13480" y="4707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04120" y="4710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595840" y="4713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587560" y="471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578200" y="4722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569920" y="4723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560560" y="4727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552280" y="47318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544000" y="4736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534280" y="4740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526000" y="474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516640" y="475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509440" y="4754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499720" y="4759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492520" y="4766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83160" y="4770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75960" y="4776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466600" y="47804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459040" y="4787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50760" y="4793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41400" y="479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434200" y="4806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427000" y="4811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418360" y="4818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411160" y="4827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402880" y="4833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397480" y="4841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389200" y="4849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383080" y="48589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375880" y="4867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369400" y="4874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63280" y="4885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358960" y="48956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52840" y="4907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47800" y="4917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343480" y="49269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340240" y="4938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337000" y="4949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335920" y="49626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334120" y="4975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334120" y="49881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34120" y="5001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335920" y="50137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337000" y="50252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340240" y="5036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343480" y="50493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347800" y="50594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353920" y="5069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358960" y="50806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363280" y="5090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69400" y="5099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376600" y="5109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383080" y="511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9200" y="5126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397480" y="5134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05040" y="5141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411160" y="5148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418360" y="5155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427000" y="5164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34200" y="5170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41400" y="5177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0760" y="5182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59040" y="5188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66600" y="5195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475960" y="5200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483160" y="5205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492520" y="52102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499720" y="52171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509440" y="5220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516640" y="5224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526000" y="5231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534280" y="52354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544000" y="5240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552280" y="52441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560560" y="5248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569920" y="52498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578200" y="52542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587560" y="5258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595840" y="5262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604120" y="52642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613480" y="52686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62320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63220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639760" y="5276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64912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58480" y="5284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667840" y="5285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7720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68692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695200" y="5293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70348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1284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721120" y="5299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730480" y="53028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3984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749200" y="53067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75856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76828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76560" y="5311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785920" y="5312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7952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04640" y="53154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1400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2336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32000" y="5319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410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5036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600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6908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7880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8708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9644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90580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9151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245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9342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9432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9518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96088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9706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97996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98932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99868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006960" y="53280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016320" y="5328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02604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0354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044400" y="5328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51960" y="532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06132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70680" y="5325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080040" y="53240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08832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097680" y="5324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107400" y="53211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116400" y="53211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126120" y="5319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13548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144840" y="53168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15312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162480" y="53154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171840" y="5312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181200" y="53110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1909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9920" y="5308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08560" y="5306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17920" y="53038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27280" y="53028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236640" y="5299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46000" y="52981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255360" y="52970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62920" y="5293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272280" y="52927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81280" y="5288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289920" y="52855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299280" y="52840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308640" y="52812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318000" y="52768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327360" y="52754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334560" y="52714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6344280" y="5268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353640" y="5264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63000" y="52628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70560" y="5258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379920" y="5254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89280" y="52498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98640" y="5248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405840" y="52441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415200" y="52401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424560" y="5235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432120" y="5231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41480" y="5224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48680" y="5220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458040" y="5217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465240" y="5210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74960" y="5205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483240" y="5200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491520" y="5195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499800" y="5188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507360" y="5182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16360" y="51775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523920" y="5170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532200" y="51645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539400" y="51559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546600" y="5148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553080" y="51418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61360" y="5134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68920" y="5126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575040" y="5117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581160" y="5109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588720" y="5099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594840" y="5090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599880" y="5080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605280" y="50691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10320" y="50594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14640" y="5049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617880" y="5036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620760" y="5025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622920" y="5013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24000" y="5001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624000" y="4988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624000" y="4975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622920" y="4962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620760" y="49496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617880" y="49384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14640" y="49269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610320" y="4917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05280" y="4907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599880" y="48956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594840" y="4885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588720" y="48744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582240" y="4867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575040" y="4858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568920" y="4849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561360" y="4841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55240" y="4833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46600" y="48276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539400" y="4818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532200" y="4811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23920" y="48063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516360" y="47991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507360" y="47934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499800" y="4787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491520" y="4780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483240" y="4776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474960" y="4770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6465240" y="47660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458040" y="4759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48680" y="4754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441480" y="4750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432120" y="4744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424560" y="4740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415200" y="47365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405840" y="47318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6398640" y="47278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6389280" y="4723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379920" y="4722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370560" y="4717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363000" y="4713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353640" y="4710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344280" y="4707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4920" y="47052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325560" y="47008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318360" y="4699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09000" y="46951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299280" y="4692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290280" y="46908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81640" y="4686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2280" y="46836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62920" y="4682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55720" y="4679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46000" y="46782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237000" y="4675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227280" y="46738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7920" y="4671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208920" y="46695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20028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90920" y="46681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181560" y="4665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172200" y="46638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16284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153480" y="46609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14520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135480" y="46594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26120" y="4656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116760" y="46551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07400" y="4655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09804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088680" y="46522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080400" y="46522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0706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1680" y="46512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51960" y="4651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4260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033240" y="46483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02496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015600" y="4648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00624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9965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987520" y="46483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979960" y="46483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5" name=""/>
          <p:cNvSpPr/>
          <p:nvPr/>
        </p:nvSpPr>
        <p:spPr>
          <a:xfrm flipV="1">
            <a:off x="6172200" y="43430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304920" y="3048120"/>
            <a:ext cx="1294920" cy="685440"/>
            <a:chOff x="304920" y="3048120"/>
            <a:chExt cx="1294920" cy="685440"/>
          </a:xfrm>
        </p:grpSpPr>
        <p:grpSp>
          <p:nvGrpSpPr>
            <p:cNvPr id="1477" name=""/>
            <p:cNvGrpSpPr/>
            <p:nvPr/>
          </p:nvGrpSpPr>
          <p:grpSpPr>
            <a:xfrm>
              <a:off x="304920" y="3048120"/>
              <a:ext cx="1005480" cy="685440"/>
              <a:chOff x="304920" y="3048120"/>
              <a:chExt cx="1005480" cy="685440"/>
            </a:xfrm>
          </p:grpSpPr>
          <p:sp>
            <p:nvSpPr>
              <p:cNvPr id="1478" name=""/>
              <p:cNvSpPr/>
              <p:nvPr/>
            </p:nvSpPr>
            <p:spPr>
              <a:xfrm>
                <a:off x="94860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4032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4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30960" y="304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5"/>
                    </a:moveTo>
                    <a:lnTo>
                      <a:pt x="6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22680" y="3048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1404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0504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89532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885960" y="3048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87660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86724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857880" y="30510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84960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3988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30880" y="3052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821160" y="305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811800" y="3054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802800" y="30567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94160" y="3059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84800" y="3059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775440" y="3060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766080" y="3060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56720" y="3063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747360" y="30650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39080" y="306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29360" y="306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720000" y="3069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10640" y="3070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701280" y="30736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91920" y="3075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83640" y="30780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74280" y="3079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66000" y="3081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657720" y="308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000" y="3086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38640" y="3090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29280" y="30920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19920" y="3094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610560" y="309924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03000" y="3100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94000" y="3105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584280" y="31075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574920" y="3110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566640" y="3113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58360" y="3117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49000" y="3121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40720" y="31233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31360" y="3127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23080" y="31316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14800" y="3136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05080" y="3140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96800" y="3144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87440" y="31503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80240" y="3154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70520" y="3159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63320" y="3165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53960" y="31701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46760" y="3175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37400" y="31802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29840" y="3187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21560" y="3193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12200" y="319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5"/>
                    </a:move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5000" y="3206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97800" y="32115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389160" y="32187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81960" y="32274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73680" y="3232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68280" y="32414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4"/>
                    </a:move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360000" y="3249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4"/>
                    </a:move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53880" y="3258720"/>
                <a:ext cx="540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346680" y="3267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40200" y="32742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34080" y="32857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29760" y="329544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23640" y="3306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18600" y="33170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14280" y="332676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11040" y="3338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7800" y="33494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6720" y="3362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04920" y="33750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3"/>
                    </a:move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04920" y="33879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04920" y="3400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3"/>
                    </a:move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06720" y="34135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07800" y="342504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11040" y="3436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14280" y="34491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18600" y="34592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24720" y="3468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29760" y="348048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1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34080" y="34905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40200" y="3498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47400" y="3508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53880" y="351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2"/>
                    </a:move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60000" y="35262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68280" y="3534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75840" y="3541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960" y="35485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89160" y="3555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7800" y="35643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05000" y="35701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12200" y="35773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21560" y="35827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429840" y="35884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37400" y="35956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46760" y="36000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53960" y="36057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63320" y="36100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70520" y="36169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80240" y="36198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7440" y="36241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96800" y="3631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05080" y="36352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14800" y="363996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23080" y="36439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31360" y="36482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40720" y="3649680"/>
                <a:ext cx="3960" cy="72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49000" y="36540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58360" y="365832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66640" y="36626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4920" y="36640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4280" y="366840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94000" y="3671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03000" y="3675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10560" y="3676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19920" y="3681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29280" y="3683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38640" y="3685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48000" y="368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57720" y="3692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66000" y="36936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74280" y="3696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83640" y="369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91920" y="36997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01280" y="370260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10640" y="3703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20000" y="370656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2936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3908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47360" y="3710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56720" y="3712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6608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75440" y="37152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8480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9416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02800" y="371952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1180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82116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3088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3988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4960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5788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6724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7660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8596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9532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9050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9140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92268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3168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9414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95076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96012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96948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977760" y="3727800"/>
                <a:ext cx="540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987120" y="3727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99684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0062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015200" y="37278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3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022760" y="37249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32120" y="3724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041480" y="37249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050840" y="37238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59120" y="3723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068480" y="372384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078200" y="372096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087200" y="372096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096920" y="3719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10628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115640" y="371664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12392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133280" y="37152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142640" y="37123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152000" y="371088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16172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170720" y="37080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179360" y="370656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188720" y="370368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198080" y="37026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207440" y="369972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216800" y="369792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226160" y="369684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233720" y="3693600"/>
                <a:ext cx="3960" cy="57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243080" y="369252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252080" y="368820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260720" y="3685320"/>
                <a:ext cx="5040" cy="68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270080" y="368388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279440" y="3681000"/>
                <a:ext cx="5040" cy="72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288800" y="367668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298160" y="3675240"/>
                <a:ext cx="3960" cy="5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05360" y="3671280"/>
                <a:ext cx="5040" cy="5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8" name=""/>
            <p:cNvSpPr/>
            <p:nvPr/>
          </p:nvSpPr>
          <p:spPr>
            <a:xfrm>
              <a:off x="1315080" y="3668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324440" y="3664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333800" y="36626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41360" y="3658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350720" y="3654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080" y="364968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369440" y="3648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376640" y="36439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386000" y="363996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395360" y="3635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402920" y="36313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412280" y="3624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419480" y="3619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428840" y="3616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436040" y="3610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445760" y="36057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454040" y="3600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462320" y="3595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470600" y="3588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478160" y="3582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487160" y="35773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494720" y="3570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03000" y="35643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510200" y="355572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517400" y="35485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23880" y="354168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532160" y="35344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39720" y="3526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2" y="0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545840" y="35172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51960" y="35089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59520" y="3498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65640" y="34905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70680" y="34804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2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76080" y="346896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81120" y="34592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2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85440" y="3449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88680" y="3436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1"/>
                  </a:moveTo>
                  <a:lnTo>
                    <a:pt x="0" y="3"/>
                  </a:ln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91560" y="3425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593720" y="3413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0" y="3"/>
                  </a:ln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94800" y="3400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94800" y="3387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594800" y="33750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93720" y="3362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91560" y="33494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88680" y="333828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85440" y="3326760"/>
              <a:ext cx="5040" cy="72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81120" y="331704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76080" y="33069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70680" y="3295440"/>
              <a:ext cx="3960" cy="720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3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65640" y="32857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59520" y="32742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3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53040" y="32670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2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45840" y="325872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3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39720" y="32497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32160" y="3241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26040" y="32328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17400" y="32274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2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10200" y="32187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03000" y="32115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494720" y="320616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487160" y="31989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478160" y="31932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470600" y="31874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462320" y="31802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54040" y="31759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445760" y="31701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436040" y="316584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428840" y="31590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419480" y="31546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12280" y="31503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402920" y="3144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395360" y="3140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386000" y="31363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376640" y="313164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369440" y="31276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360080" y="31233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350720" y="3121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341360" y="31176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333800" y="3113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324440" y="3110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315080" y="31075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305720" y="310500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296360" y="31006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289160" y="30992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79800" y="3094920"/>
              <a:ext cx="5040" cy="540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270080" y="309204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261080" y="30906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52440" y="3086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43080" y="308340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33720" y="30819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226520" y="3079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216800" y="30780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207800" y="3075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198080" y="307368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188720" y="307080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179720" y="30693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71080" y="3067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161720" y="306792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152360" y="306504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143000" y="3063600"/>
              <a:ext cx="3960" cy="540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133640" y="3060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124280" y="30607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116000" y="3059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2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106280" y="305928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096920" y="305676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087560" y="305496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078200" y="305496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068840" y="3052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59480" y="305208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5"/>
                  </a:moveTo>
                  <a:lnTo>
                    <a:pt x="3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051200" y="305208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5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041480" y="3051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032480" y="3051000"/>
              <a:ext cx="3960" cy="57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lnTo>
                    <a:pt x="3" y="4"/>
                  </a:lnTo>
                  <a:lnTo>
                    <a:pt x="4" y="3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022760" y="3051000"/>
              <a:ext cx="5040" cy="57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4"/>
                  </a:moveTo>
                  <a:lnTo>
                    <a:pt x="3" y="4"/>
                  </a:lnTo>
                  <a:lnTo>
                    <a:pt x="5" y="3"/>
                  </a:lnTo>
                  <a:lnTo>
                    <a:pt x="5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013400" y="3048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004040" y="3048120"/>
              <a:ext cx="5040" cy="68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5"/>
                  </a:moveTo>
                  <a:lnTo>
                    <a:pt x="5" y="3"/>
                  </a:lnTo>
                  <a:lnTo>
                    <a:pt x="5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995760" y="3048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986400" y="3048120"/>
              <a:ext cx="3960" cy="68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3" y="5"/>
                  </a:moveTo>
                  <a:lnTo>
                    <a:pt x="4" y="3"/>
                  </a:lnTo>
                  <a:lnTo>
                    <a:pt x="4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97704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4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96732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958320" y="3048120"/>
              <a:ext cx="6120" cy="68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5" y="5"/>
                  </a:moveTo>
                  <a:lnTo>
                    <a:pt x="6" y="3"/>
                  </a:lnTo>
                  <a:lnTo>
                    <a:pt x="6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950760" y="3048120"/>
              <a:ext cx="2880" cy="684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3" y="5"/>
                  </a:moveTo>
                  <a:lnTo>
                    <a:pt x="3" y="2"/>
                  </a:lnTo>
                  <a:lnTo>
                    <a:pt x="3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9" name=""/>
          <p:cNvSpPr/>
          <p:nvPr/>
        </p:nvSpPr>
        <p:spPr>
          <a:xfrm flipV="1">
            <a:off x="1143000" y="2742840"/>
            <a:ext cx="307800" cy="52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0" name=""/>
          <p:cNvGraphicFramePr/>
          <p:nvPr/>
        </p:nvGraphicFramePr>
        <p:xfrm>
          <a:off x="5867280" y="990720"/>
          <a:ext cx="838440" cy="600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990720"/>
                    <a:ext cx="8384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LAN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657600" y="281952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4" name=""/>
          <p:cNvGraphicFramePr/>
          <p:nvPr/>
        </p:nvGraphicFramePr>
        <p:xfrm>
          <a:off x="762120" y="1523880"/>
          <a:ext cx="46512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1523880"/>
                    <a:ext cx="4651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06" name="" descr=""/>
          <p:cNvPicPr/>
          <p:nvPr/>
        </p:nvPicPr>
        <p:blipFill>
          <a:blip r:embed="rId9"/>
          <a:stretch/>
        </p:blipFill>
        <p:spPr>
          <a:xfrm>
            <a:off x="3809880" y="4572000"/>
            <a:ext cx="1019160" cy="114300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10"/>
          <a:stretch/>
        </p:blipFill>
        <p:spPr>
          <a:xfrm>
            <a:off x="6781680" y="5943600"/>
            <a:ext cx="685800" cy="162000"/>
          </a:xfrm>
          <a:prstGeom prst="rect">
            <a:avLst/>
          </a:prstGeom>
          <a:ln w="0">
            <a:noFill/>
          </a:ln>
        </p:spPr>
      </p:pic>
      <p:pic>
        <p:nvPicPr>
          <p:cNvPr id="1808" name="" descr=""/>
          <p:cNvPicPr/>
          <p:nvPr/>
        </p:nvPicPr>
        <p:blipFill>
          <a:blip r:embed="rId11"/>
          <a:stretch/>
        </p:blipFill>
        <p:spPr>
          <a:xfrm>
            <a:off x="7924680" y="1752480"/>
            <a:ext cx="576360" cy="58608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12"/>
          <a:stretch/>
        </p:blipFill>
        <p:spPr>
          <a:xfrm>
            <a:off x="7010280" y="1219320"/>
            <a:ext cx="631800" cy="43632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 rot="18856800">
            <a:off x="6028200" y="1633680"/>
            <a:ext cx="468360" cy="4795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rot="1344000">
            <a:off x="7009920" y="5374800"/>
            <a:ext cx="692280" cy="6066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 flipH="1" rot="18857400">
            <a:off x="7003440" y="2028600"/>
            <a:ext cx="716040" cy="49680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 flipH="1" rot="19755000">
            <a:off x="7322760" y="1566360"/>
            <a:ext cx="339840" cy="63180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flipH="1" rot="20192400">
            <a:off x="6277320" y="5014440"/>
            <a:ext cx="401760" cy="5000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 flipH="1" rot="20192400">
            <a:off x="7728480" y="4806720"/>
            <a:ext cx="401760" cy="50004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6" name=""/>
          <p:cNvGrpSpPr/>
          <p:nvPr/>
        </p:nvGrpSpPr>
        <p:grpSpPr>
          <a:xfrm>
            <a:off x="2089080" y="4624560"/>
            <a:ext cx="430200" cy="177480"/>
            <a:chOff x="2089080" y="4624560"/>
            <a:chExt cx="430200" cy="177480"/>
          </a:xfrm>
        </p:grpSpPr>
        <p:sp>
          <p:nvSpPr>
            <p:cNvPr id="1817" name=""/>
            <p:cNvSpPr/>
            <p:nvPr/>
          </p:nvSpPr>
          <p:spPr>
            <a:xfrm>
              <a:off x="2089080" y="4624560"/>
              <a:ext cx="430200" cy="17748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2190240" y="46688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 flipV="1">
              <a:off x="2192040" y="467244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6600960" y="4243320"/>
            <a:ext cx="430200" cy="177840"/>
            <a:chOff x="6600960" y="4243320"/>
            <a:chExt cx="430200" cy="177840"/>
          </a:xfrm>
        </p:grpSpPr>
        <p:sp>
          <p:nvSpPr>
            <p:cNvPr id="1821" name=""/>
            <p:cNvSpPr/>
            <p:nvPr/>
          </p:nvSpPr>
          <p:spPr>
            <a:xfrm>
              <a:off x="6600960" y="4243320"/>
              <a:ext cx="430200" cy="17784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6702120" y="428760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6703920" y="4291560"/>
              <a:ext cx="245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4" name=""/>
          <p:cNvGrpSpPr/>
          <p:nvPr/>
        </p:nvGrpSpPr>
        <p:grpSpPr>
          <a:xfrm>
            <a:off x="2817720" y="5105520"/>
            <a:ext cx="388800" cy="474120"/>
            <a:chOff x="2817720" y="5105520"/>
            <a:chExt cx="388800" cy="474120"/>
          </a:xfrm>
        </p:grpSpPr>
        <p:sp>
          <p:nvSpPr>
            <p:cNvPr id="1825" name=""/>
            <p:cNvSpPr/>
            <p:nvPr/>
          </p:nvSpPr>
          <p:spPr>
            <a:xfrm>
              <a:off x="2817720" y="5330160"/>
              <a:ext cx="355320" cy="24948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171600" y="5312520"/>
              <a:ext cx="27000" cy="26712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174480" y="5365080"/>
              <a:ext cx="27000" cy="17532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179520" y="5424840"/>
              <a:ext cx="27000" cy="424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141360" y="5312520"/>
              <a:ext cx="48960" cy="2664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V="1">
              <a:off x="3161880" y="5288760"/>
              <a:ext cx="0" cy="2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V="1">
              <a:off x="2892240" y="5289120"/>
              <a:ext cx="0" cy="5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3141360" y="5298120"/>
              <a:ext cx="0" cy="3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2873160" y="52977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07520" y="5284440"/>
              <a:ext cx="558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839680" y="5284440"/>
              <a:ext cx="5580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23360" y="5290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855520" y="529056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24280" y="53650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026160" y="5366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107520" y="529992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2839680" y="5301360"/>
              <a:ext cx="0" cy="2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107520" y="532692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839680" y="5328360"/>
              <a:ext cx="34920" cy="6336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873160" y="5340960"/>
              <a:ext cx="41400" cy="363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895840" y="5358600"/>
              <a:ext cx="199080" cy="2664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957760" y="5366520"/>
              <a:ext cx="58680" cy="2664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V="1">
              <a:off x="3099600" y="5340960"/>
              <a:ext cx="180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817720" y="531900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897280" y="5393160"/>
              <a:ext cx="178560" cy="6948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903760" y="5407560"/>
              <a:ext cx="16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907000" y="5442480"/>
              <a:ext cx="16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936880" y="5500800"/>
              <a:ext cx="22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936880" y="5524560"/>
              <a:ext cx="22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938680" y="5548320"/>
              <a:ext cx="2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047040" y="54961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047040" y="55198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047040" y="554364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77720" y="548352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177720" y="5505480"/>
              <a:ext cx="27000" cy="266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120120" y="5110200"/>
              <a:ext cx="27000" cy="18648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52640" y="5105520"/>
              <a:ext cx="27000" cy="18684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1143000" y="5105520"/>
            <a:ext cx="387360" cy="476280"/>
            <a:chOff x="1143000" y="5105520"/>
            <a:chExt cx="387360" cy="476280"/>
          </a:xfrm>
        </p:grpSpPr>
        <p:sp>
          <p:nvSpPr>
            <p:cNvPr id="1863" name=""/>
            <p:cNvSpPr/>
            <p:nvPr/>
          </p:nvSpPr>
          <p:spPr>
            <a:xfrm>
              <a:off x="1143000" y="53312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95440" y="53136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98320" y="53661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503360" y="54262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65200" y="53136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485720" y="52898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217520" y="52894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465200" y="52988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198440" y="52992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431720" y="52851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164960" y="52851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47560" y="5291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180800" y="5291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49200" y="536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0720" y="53676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31720" y="53010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164960" y="53024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431720" y="53280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164960" y="53294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198440" y="53420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20760" y="53596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82680" y="53676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1423800" y="53416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143000" y="5320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222200" y="53946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228680" y="54090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31920" y="54439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61800" y="55026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261800" y="5526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263600" y="55501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371600" y="5497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371600" y="5521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371600" y="5545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501560" y="5484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01560" y="55072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444320" y="51105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177920" y="51055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85800" y="3124080"/>
            <a:ext cx="387360" cy="476280"/>
            <a:chOff x="685800" y="3124080"/>
            <a:chExt cx="387360" cy="476280"/>
          </a:xfrm>
        </p:grpSpPr>
        <p:sp>
          <p:nvSpPr>
            <p:cNvPr id="1901" name=""/>
            <p:cNvSpPr/>
            <p:nvPr/>
          </p:nvSpPr>
          <p:spPr>
            <a:xfrm>
              <a:off x="685800" y="33498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038240" y="33321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041120" y="33847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046160" y="34448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008000" y="33321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1028520" y="33084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760320" y="33080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1008000" y="33174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741240" y="33177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74520" y="3303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7760" y="33037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90360" y="330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23600" y="3309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92000" y="3384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93520" y="3386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974520" y="33195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07760" y="33210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974520" y="33465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07760" y="33480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41240" y="33606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63560" y="33782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25480" y="33861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966600" y="33602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85800" y="3338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65000" y="34131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71480" y="34275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4720" y="34624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804600" y="352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4600" y="35449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6400" y="35686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914400" y="3516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14400" y="3540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914400" y="3564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044360" y="35035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044360" y="352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987120" y="31291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20720" y="31240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5638680" y="4724280"/>
            <a:ext cx="387360" cy="476280"/>
            <a:chOff x="5638680" y="4724280"/>
            <a:chExt cx="387360" cy="476280"/>
          </a:xfrm>
        </p:grpSpPr>
        <p:sp>
          <p:nvSpPr>
            <p:cNvPr id="1939" name=""/>
            <p:cNvSpPr/>
            <p:nvPr/>
          </p:nvSpPr>
          <p:spPr>
            <a:xfrm>
              <a:off x="5638680" y="49500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991120" y="49323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994000" y="49849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999040" y="5045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960880" y="49323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5981400" y="49086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5713200" y="49082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5960880" y="4917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5694120" y="49179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740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66064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4324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67648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744880" y="498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846400" y="498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927400" y="49197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660640" y="4921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927400" y="49467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660640" y="49482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694120" y="4960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716440" y="49784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78360" y="49863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5919480" y="49604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638680" y="49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717880" y="50133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724360" y="50277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727600" y="50626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757480" y="5121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57480" y="51451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759280" y="51688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867280" y="51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867280" y="514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867280" y="516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997240" y="510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997240" y="512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5940000" y="47293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673600" y="47242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6" name=""/>
          <p:cNvGrpSpPr/>
          <p:nvPr/>
        </p:nvGrpSpPr>
        <p:grpSpPr>
          <a:xfrm>
            <a:off x="7086600" y="4724280"/>
            <a:ext cx="387360" cy="476280"/>
            <a:chOff x="7086600" y="4724280"/>
            <a:chExt cx="387360" cy="476280"/>
          </a:xfrm>
        </p:grpSpPr>
        <p:sp>
          <p:nvSpPr>
            <p:cNvPr id="1977" name=""/>
            <p:cNvSpPr/>
            <p:nvPr/>
          </p:nvSpPr>
          <p:spPr>
            <a:xfrm>
              <a:off x="7086600" y="495000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439040" y="493236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441920" y="498492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446960" y="504504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408800" y="493236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7429320" y="490860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7161120" y="490824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408800" y="49176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7142040" y="491796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737532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108560" y="490392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739116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124400" y="4910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192800" y="4984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294320" y="4986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75320" y="491976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108560" y="49212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75320" y="494676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108560" y="494820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7142040" y="496080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164360" y="497844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7226280" y="498636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367400" y="496044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086600" y="4938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165800" y="501336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172280" y="502776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175520" y="506268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205400" y="51213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205400" y="514512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207200" y="516888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315200" y="511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315200" y="5140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315200" y="5164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445160" y="510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445160" y="5126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387920" y="472932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7121520" y="472428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400800" y="2057400"/>
            <a:ext cx="387360" cy="476280"/>
            <a:chOff x="6400800" y="2057400"/>
            <a:chExt cx="387360" cy="476280"/>
          </a:xfrm>
        </p:grpSpPr>
        <p:sp>
          <p:nvSpPr>
            <p:cNvPr id="2015" name=""/>
            <p:cNvSpPr/>
            <p:nvPr/>
          </p:nvSpPr>
          <p:spPr>
            <a:xfrm>
              <a:off x="6400800" y="22831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53240" y="22654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756120" y="23180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761160" y="23781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723000" y="22654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43520" y="22417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6475320" y="2241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6723000" y="22507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6456240" y="22510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689520" y="2237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22760" y="2237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705360" y="224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38600" y="2243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507000" y="2318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08520" y="2319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689520" y="22528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22760" y="22543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689520" y="22798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422760" y="22813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56240" y="22939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78560" y="23115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40480" y="23194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V="1">
              <a:off x="6681600" y="22935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400800" y="227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480000" y="23464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86480" y="23608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489720" y="23958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6519600" y="24544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519600" y="24782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521400" y="25020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6629400" y="2449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6629400" y="247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6629400" y="2497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6759360" y="2436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759360" y="2459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702120" y="20624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435720" y="20574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 rot="988200">
            <a:off x="3009600" y="2589120"/>
            <a:ext cx="3535200" cy="2436840"/>
          </a:xfrm>
          <a:prstGeom prst="ellipse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3" name="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1154160" cy="1295280"/>
          </a:xfrm>
          <a:prstGeom prst="rect">
            <a:avLst/>
          </a:prstGeom>
          <a:ln w="0">
            <a:noFill/>
          </a:ln>
        </p:spPr>
      </p:pic>
      <p:sp>
        <p:nvSpPr>
          <p:cNvPr id="2054" name=""/>
          <p:cNvSpPr/>
          <p:nvPr/>
        </p:nvSpPr>
        <p:spPr>
          <a:xfrm>
            <a:off x="1539720" y="1241280"/>
            <a:ext cx="609624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E286%20copy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791320" y="3886200"/>
            <a:ext cx="574560" cy="84780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>
            <a:off x="3909960" y="2678040"/>
            <a:ext cx="80064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08400" y="1905120"/>
            <a:ext cx="1024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915120" y="4876920"/>
            <a:ext cx="10051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7315560" y="1828800"/>
            <a:ext cx="105660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8381880" y="2057400"/>
          <a:ext cx="513000" cy="13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1880" y="2057400"/>
                    <a:ext cx="5130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2" name=""/>
          <p:cNvSpPr/>
          <p:nvPr/>
        </p:nvSpPr>
        <p:spPr>
          <a:xfrm rot="19838400">
            <a:off x="7005240" y="2588760"/>
            <a:ext cx="733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rot="1182600">
            <a:off x="1914120" y="2635200"/>
            <a:ext cx="13647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rot="19759800">
            <a:off x="2110320" y="4572000"/>
            <a:ext cx="13647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PERLAN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rot="787800">
            <a:off x="7179120" y="3659040"/>
            <a:ext cx="102636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-CD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6" name="" descr=""/>
          <p:cNvPicPr/>
          <p:nvPr/>
        </p:nvPicPr>
        <p:blipFill>
          <a:blip r:embed="rId5"/>
          <a:stretch/>
        </p:blipFill>
        <p:spPr>
          <a:xfrm>
            <a:off x="4724280" y="4572000"/>
            <a:ext cx="990720" cy="233280"/>
          </a:xfrm>
          <a:prstGeom prst="rect">
            <a:avLst/>
          </a:prstGeom>
          <a:ln w="0">
            <a:noFill/>
          </a:ln>
        </p:spPr>
      </p:pic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Wireless PAN Scen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8" name=""/>
          <p:cNvGraphicFramePr/>
          <p:nvPr/>
        </p:nvGraphicFramePr>
        <p:xfrm>
          <a:off x="3276720" y="3200400"/>
          <a:ext cx="1143000" cy="817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76720" y="3200400"/>
                    <a:ext cx="114300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0" name=""/>
          <p:cNvGraphicFramePr/>
          <p:nvPr/>
        </p:nvGraphicFramePr>
        <p:xfrm>
          <a:off x="8381880" y="3809880"/>
          <a:ext cx="513000" cy="1319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1880" y="3809880"/>
                    <a:ext cx="513000" cy="13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2" name=""/>
          <p:cNvSpPr/>
          <p:nvPr/>
        </p:nvSpPr>
        <p:spPr>
          <a:xfrm>
            <a:off x="152280" y="1676520"/>
            <a:ext cx="2362320" cy="281916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6781680" y="1447920"/>
            <a:ext cx="2210040" cy="3581280"/>
          </a:xfrm>
          <a:prstGeom prst="ellipse">
            <a:avLst/>
          </a:prstGeom>
          <a:noFill/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 rot="399000">
            <a:off x="620640" y="4648320"/>
            <a:ext cx="3886200" cy="1676160"/>
          </a:xfrm>
          <a:prstGeom prst="ellipse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5" name="" descr=""/>
          <p:cNvPicPr/>
          <p:nvPr/>
        </p:nvPicPr>
        <p:blipFill>
          <a:blip r:embed="rId10"/>
          <a:stretch/>
        </p:blipFill>
        <p:spPr>
          <a:xfrm>
            <a:off x="3200400" y="5638680"/>
            <a:ext cx="990720" cy="233640"/>
          </a:xfrm>
          <a:prstGeom prst="rect">
            <a:avLst/>
          </a:prstGeom>
          <a:ln w="0">
            <a:noFill/>
          </a:ln>
        </p:spPr>
      </p:pic>
      <p:sp>
        <p:nvSpPr>
          <p:cNvPr id="2076" name=""/>
          <p:cNvSpPr/>
          <p:nvPr/>
        </p:nvSpPr>
        <p:spPr>
          <a:xfrm flipH="1" rot="20192400">
            <a:off x="1763280" y="2579760"/>
            <a:ext cx="1104840" cy="907920"/>
          </a:xfrm>
          <a:custGeom>
            <a:avLst/>
            <a:gdLst/>
            <a:ahLst/>
            <a:rect l="l" t="t" r="r" b="b"/>
            <a:pathLst>
              <a:path w="1254" h="1200">
                <a:moveTo>
                  <a:pt x="0" y="1200"/>
                </a:moveTo>
                <a:lnTo>
                  <a:pt x="639" y="495"/>
                </a:lnTo>
                <a:lnTo>
                  <a:pt x="610" y="647"/>
                </a:lnTo>
                <a:lnTo>
                  <a:pt x="1254" y="0"/>
                </a:lnTo>
                <a:lnTo>
                  <a:pt x="516" y="836"/>
                </a:lnTo>
                <a:lnTo>
                  <a:pt x="523" y="687"/>
                </a:lnTo>
                <a:lnTo>
                  <a:pt x="0" y="1200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rot="1344000">
            <a:off x="2417400" y="4447800"/>
            <a:ext cx="973080" cy="117468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rot="428400">
            <a:off x="2948040" y="475128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rot="1299600">
            <a:off x="6740280" y="2273400"/>
            <a:ext cx="1333440" cy="15714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rot="3829800">
            <a:off x="6796800" y="3351600"/>
            <a:ext cx="1222560" cy="137952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rot="4023000">
            <a:off x="4493160" y="3632760"/>
            <a:ext cx="938160" cy="110484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2" name="" descr=""/>
          <p:cNvPicPr/>
          <p:nvPr/>
        </p:nvPicPr>
        <p:blipFill>
          <a:blip r:embed="rId11"/>
          <a:stretch/>
        </p:blipFill>
        <p:spPr>
          <a:xfrm>
            <a:off x="1219320" y="3809880"/>
            <a:ext cx="990360" cy="233640"/>
          </a:xfrm>
          <a:prstGeom prst="rect">
            <a:avLst/>
          </a:prstGeom>
          <a:ln w="0">
            <a:noFill/>
          </a:ln>
        </p:spPr>
      </p:pic>
      <p:sp>
        <p:nvSpPr>
          <p:cNvPr id="2083" name=""/>
          <p:cNvSpPr/>
          <p:nvPr/>
        </p:nvSpPr>
        <p:spPr>
          <a:xfrm rot="2428800">
            <a:off x="1904760" y="2971440"/>
            <a:ext cx="822240" cy="982800"/>
          </a:xfrm>
          <a:custGeom>
            <a:avLst/>
            <a:gdLst/>
            <a:ahLst/>
            <a:rect l="l" t="t" r="r" b="b"/>
            <a:pathLst>
              <a:path w="1567" h="1498">
                <a:moveTo>
                  <a:pt x="0" y="1498"/>
                </a:moveTo>
                <a:lnTo>
                  <a:pt x="799" y="618"/>
                </a:lnTo>
                <a:lnTo>
                  <a:pt x="762" y="808"/>
                </a:lnTo>
                <a:lnTo>
                  <a:pt x="1567" y="0"/>
                </a:lnTo>
                <a:lnTo>
                  <a:pt x="645" y="1043"/>
                </a:lnTo>
                <a:lnTo>
                  <a:pt x="653" y="857"/>
                </a:lnTo>
                <a:lnTo>
                  <a:pt x="0" y="1498"/>
                </a:lnTo>
              </a:path>
            </a:pathLst>
          </a:custGeom>
          <a:solidFill>
            <a:srgbClr val="3333cc"/>
          </a:solidFill>
          <a:ln w="0">
            <a:solidFill>
              <a:srgbClr val="33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4" name=""/>
          <p:cNvGrpSpPr/>
          <p:nvPr/>
        </p:nvGrpSpPr>
        <p:grpSpPr>
          <a:xfrm>
            <a:off x="762120" y="3429000"/>
            <a:ext cx="387360" cy="476280"/>
            <a:chOff x="762120" y="3429000"/>
            <a:chExt cx="387360" cy="476280"/>
          </a:xfrm>
        </p:grpSpPr>
        <p:sp>
          <p:nvSpPr>
            <p:cNvPr id="2085" name=""/>
            <p:cNvSpPr/>
            <p:nvPr/>
          </p:nvSpPr>
          <p:spPr>
            <a:xfrm>
              <a:off x="762120" y="36547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114560" y="36370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117440" y="36896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122480" y="37497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084320" y="36370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1104840" y="36133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836640" y="36129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1084320" y="36223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817560" y="36226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050840" y="36086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84080" y="36086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066680" y="361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9920" y="3614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868320" y="36896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969840" y="3691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1050840" y="3624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84080" y="36259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050840" y="36514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84080" y="36529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817560" y="36655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39880" y="36831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01800" y="36910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V="1">
              <a:off x="1042920" y="36651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762120" y="3643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841320" y="37180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847800" y="37324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851040" y="37674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80920" y="38260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80920" y="38498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82720" y="38736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90720" y="3821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90720" y="3845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90720" y="3868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120680" y="38084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120680" y="383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063440" y="34340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97040" y="34290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914400" y="2590920"/>
            <a:ext cx="387360" cy="476280"/>
            <a:chOff x="914400" y="2590920"/>
            <a:chExt cx="387360" cy="476280"/>
          </a:xfrm>
        </p:grpSpPr>
        <p:sp>
          <p:nvSpPr>
            <p:cNvPr id="2123" name=""/>
            <p:cNvSpPr/>
            <p:nvPr/>
          </p:nvSpPr>
          <p:spPr>
            <a:xfrm>
              <a:off x="914400" y="28166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266840" y="27990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269720" y="28515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274760" y="29116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236600" y="27990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1257120" y="27752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988920" y="27748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1236600" y="27842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969840" y="27846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203120" y="27705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936360" y="27705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218960" y="27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952200" y="2776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020600" y="2851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122120" y="28530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203120" y="27864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936360" y="27878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203120" y="28134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936360" y="28148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969840" y="28274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992160" y="28450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054080" y="28530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1195200" y="28270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914400" y="2805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993600" y="28800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000080" y="28944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003320" y="29293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033200" y="29880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33200" y="30117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035000" y="30355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43000" y="2983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143000" y="300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43000" y="3030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272960" y="29703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272960" y="29926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215720" y="25959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949320" y="25909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1676520" y="5486400"/>
            <a:ext cx="387360" cy="476280"/>
            <a:chOff x="1676520" y="5486400"/>
            <a:chExt cx="387360" cy="476280"/>
          </a:xfrm>
        </p:grpSpPr>
        <p:sp>
          <p:nvSpPr>
            <p:cNvPr id="2161" name=""/>
            <p:cNvSpPr/>
            <p:nvPr/>
          </p:nvSpPr>
          <p:spPr>
            <a:xfrm>
              <a:off x="1676520" y="571212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28960" y="569448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31840" y="574704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036880" y="580716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98720" y="569448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2019240" y="567072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1751040" y="5670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1998720" y="567972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1731960" y="56800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965240" y="5666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698480" y="566604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81080" y="567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714320" y="5672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782720" y="5747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884240" y="5748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965240" y="56818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698480" y="568332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965240" y="570888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698480" y="571032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731960" y="572292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754280" y="574056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816200" y="574848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1957320" y="572256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676520" y="5700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755720" y="577548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762200" y="578988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765440" y="582480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795320" y="588348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95320" y="590724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797120" y="593100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905120" y="58788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905120" y="59025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905120" y="59263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035080" y="58658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2035080" y="58881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977840" y="549144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711440" y="548640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8" name=""/>
          <p:cNvGrpSpPr/>
          <p:nvPr/>
        </p:nvGrpSpPr>
        <p:grpSpPr>
          <a:xfrm>
            <a:off x="2438280" y="5791320"/>
            <a:ext cx="387360" cy="476280"/>
            <a:chOff x="2438280" y="5791320"/>
            <a:chExt cx="387360" cy="476280"/>
          </a:xfrm>
        </p:grpSpPr>
        <p:sp>
          <p:nvSpPr>
            <p:cNvPr id="2199" name=""/>
            <p:cNvSpPr/>
            <p:nvPr/>
          </p:nvSpPr>
          <p:spPr>
            <a:xfrm>
              <a:off x="2438280" y="6017040"/>
              <a:ext cx="353880" cy="250560"/>
            </a:xfrm>
            <a:custGeom>
              <a:avLst/>
              <a:gdLst/>
              <a:ahLst/>
              <a:rect l="l" t="t" r="r" b="b"/>
              <a:pathLst>
                <a:path w="223" h="158">
                  <a:moveTo>
                    <a:pt x="222" y="0"/>
                  </a:moveTo>
                  <a:lnTo>
                    <a:pt x="222" y="157"/>
                  </a:lnTo>
                  <a:lnTo>
                    <a:pt x="0" y="157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90720" y="59994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0" y="11"/>
                  </a:moveTo>
                  <a:lnTo>
                    <a:pt x="16" y="0"/>
                  </a:lnTo>
                  <a:lnTo>
                    <a:pt x="16" y="158"/>
                  </a:lnTo>
                  <a:lnTo>
                    <a:pt x="0" y="168"/>
                  </a:lnTo>
                  <a:lnTo>
                    <a:pt x="0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93600" y="6051960"/>
              <a:ext cx="27000" cy="176040"/>
            </a:xfrm>
            <a:custGeom>
              <a:avLst/>
              <a:gdLst/>
              <a:ahLst/>
              <a:rect l="l" t="t" r="r" b="b"/>
              <a:pathLst>
                <a:path w="17" h="111">
                  <a:moveTo>
                    <a:pt x="0" y="6"/>
                  </a:moveTo>
                  <a:lnTo>
                    <a:pt x="16" y="0"/>
                  </a:lnTo>
                  <a:lnTo>
                    <a:pt x="16" y="104"/>
                  </a:lnTo>
                  <a:lnTo>
                    <a:pt x="0" y="110"/>
                  </a:lnTo>
                  <a:lnTo>
                    <a:pt x="0" y="6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798640" y="611208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"/>
                  </a:moveTo>
                  <a:lnTo>
                    <a:pt x="16" y="0"/>
                  </a:lnTo>
                  <a:lnTo>
                    <a:pt x="16" y="25"/>
                  </a:lnTo>
                  <a:lnTo>
                    <a:pt x="0" y="26"/>
                  </a:lnTo>
                  <a:lnTo>
                    <a:pt x="0" y="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760480" y="5999400"/>
              <a:ext cx="48960" cy="2700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19" y="16"/>
                  </a:moveTo>
                  <a:lnTo>
                    <a:pt x="0" y="16"/>
                  </a:lnTo>
                  <a:lnTo>
                    <a:pt x="13" y="0"/>
                  </a:lnTo>
                  <a:lnTo>
                    <a:pt x="3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2781000" y="5975640"/>
              <a:ext cx="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2512800" y="597528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2760480" y="598464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V="1">
              <a:off x="2493720" y="598500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27000" y="597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0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3" y="8"/>
                  </a:lnTo>
                  <a:lnTo>
                    <a:pt x="32" y="8"/>
                  </a:lnTo>
                  <a:lnTo>
                    <a:pt x="30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7" y="16"/>
                  </a:lnTo>
                  <a:lnTo>
                    <a:pt x="10" y="14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60240" y="5970960"/>
              <a:ext cx="5580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7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4" y="16"/>
                  </a:lnTo>
                  <a:lnTo>
                    <a:pt x="17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5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742840" y="597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476080" y="5977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3"/>
                  </a:lnTo>
                  <a:lnTo>
                    <a:pt x="2" y="3"/>
                  </a:lnTo>
                  <a:lnTo>
                    <a:pt x="5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44480" y="60519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4" y="5"/>
                  </a:lnTo>
                  <a:lnTo>
                    <a:pt x="16" y="5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1" y="16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646000" y="60534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5"/>
                  </a:lnTo>
                  <a:lnTo>
                    <a:pt x="13" y="10"/>
                  </a:lnTo>
                  <a:lnTo>
                    <a:pt x="10" y="10"/>
                  </a:lnTo>
                  <a:lnTo>
                    <a:pt x="8" y="16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27000" y="5986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460240" y="5988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27000" y="6013800"/>
              <a:ext cx="34920" cy="6516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5" y="36"/>
                  </a:lnTo>
                  <a:lnTo>
                    <a:pt x="2" y="34"/>
                  </a:lnTo>
                  <a:lnTo>
                    <a:pt x="1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460240" y="6015240"/>
              <a:ext cx="34920" cy="63720"/>
            </a:xfrm>
            <a:custGeom>
              <a:avLst/>
              <a:gdLst/>
              <a:ahLst/>
              <a:rect l="l" t="t" r="r" b="b"/>
              <a:pathLst>
                <a:path w="22" h="40">
                  <a:moveTo>
                    <a:pt x="21" y="0"/>
                  </a:moveTo>
                  <a:lnTo>
                    <a:pt x="21" y="26"/>
                  </a:lnTo>
                  <a:lnTo>
                    <a:pt x="19" y="31"/>
                  </a:lnTo>
                  <a:lnTo>
                    <a:pt x="17" y="34"/>
                  </a:lnTo>
                  <a:lnTo>
                    <a:pt x="15" y="37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6" y="39"/>
                  </a:lnTo>
                  <a:lnTo>
                    <a:pt x="5" y="37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0" y="2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493720" y="6027840"/>
              <a:ext cx="41400" cy="367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4" y="22"/>
                  </a:moveTo>
                  <a:lnTo>
                    <a:pt x="0" y="10"/>
                  </a:lnTo>
                  <a:lnTo>
                    <a:pt x="12" y="0"/>
                  </a:lnTo>
                  <a:lnTo>
                    <a:pt x="25" y="11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516040" y="6045480"/>
              <a:ext cx="198360" cy="27000"/>
            </a:xfrm>
            <a:custGeom>
              <a:avLst/>
              <a:gdLst/>
              <a:ahLst/>
              <a:rect l="l" t="t" r="r" b="b"/>
              <a:pathLst>
                <a:path w="125" h="17">
                  <a:moveTo>
                    <a:pt x="11" y="0"/>
                  </a:moveTo>
                  <a:lnTo>
                    <a:pt x="124" y="0"/>
                  </a:lnTo>
                  <a:lnTo>
                    <a:pt x="112" y="16"/>
                  </a:lnTo>
                  <a:lnTo>
                    <a:pt x="0" y="16"/>
                  </a:lnTo>
                  <a:lnTo>
                    <a:pt x="11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577960" y="6053400"/>
              <a:ext cx="58680" cy="27000"/>
            </a:xfrm>
            <a:custGeom>
              <a:avLst/>
              <a:gdLst/>
              <a:ahLst/>
              <a:rect l="l" t="t" r="r" b="b"/>
              <a:pathLst>
                <a:path w="37" h="17">
                  <a:moveTo>
                    <a:pt x="5" y="0"/>
                  </a:moveTo>
                  <a:lnTo>
                    <a:pt x="36" y="0"/>
                  </a:lnTo>
                  <a:lnTo>
                    <a:pt x="34" y="16"/>
                  </a:lnTo>
                  <a:lnTo>
                    <a:pt x="0" y="16"/>
                  </a:lnTo>
                  <a:lnTo>
                    <a:pt x="5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2719080" y="6027480"/>
              <a:ext cx="180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60058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6"/>
                  </a:moveTo>
                  <a:lnTo>
                    <a:pt x="0" y="16"/>
                  </a:lnTo>
                  <a:lnTo>
                    <a:pt x="6" y="0"/>
                  </a:lnTo>
                  <a:lnTo>
                    <a:pt x="16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517480" y="6080400"/>
              <a:ext cx="177840" cy="69840"/>
            </a:xfrm>
            <a:custGeom>
              <a:avLst/>
              <a:gdLst/>
              <a:ahLst/>
              <a:rect l="l" t="t" r="r" b="b"/>
              <a:pathLst>
                <a:path w="112" h="44">
                  <a:moveTo>
                    <a:pt x="0" y="0"/>
                  </a:moveTo>
                  <a:lnTo>
                    <a:pt x="111" y="0"/>
                  </a:lnTo>
                  <a:lnTo>
                    <a:pt x="111" y="43"/>
                  </a:ln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523960" y="60948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527200" y="6129720"/>
              <a:ext cx="16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557080" y="618840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557080" y="6212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558880" y="6235920"/>
              <a:ext cx="22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66880" y="6183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666880" y="62074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666880" y="62312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6" y="0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796840" y="617076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796840" y="619308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16" y="5"/>
                  </a:lnTo>
                  <a:lnTo>
                    <a:pt x="16" y="7"/>
                  </a:lnTo>
                  <a:lnTo>
                    <a:pt x="16" y="10"/>
                  </a:lnTo>
                  <a:lnTo>
                    <a:pt x="16" y="14"/>
                  </a:lnTo>
                  <a:lnTo>
                    <a:pt x="12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5"/>
                  </a:lnTo>
                  <a:lnTo>
                    <a:pt x="4" y="1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9600" y="5796360"/>
              <a:ext cx="27000" cy="18720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473200" y="5791320"/>
              <a:ext cx="27000" cy="187560"/>
            </a:xfrm>
            <a:custGeom>
              <a:avLst/>
              <a:gdLst/>
              <a:ahLst/>
              <a:rect l="l" t="t" r="r" b="b"/>
              <a:pathLst>
                <a:path w="17" h="118">
                  <a:moveTo>
                    <a:pt x="8" y="0"/>
                  </a:moveTo>
                  <a:lnTo>
                    <a:pt x="16" y="8"/>
                  </a:lnTo>
                  <a:lnTo>
                    <a:pt x="13" y="16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0" y="88"/>
                  </a:lnTo>
                  <a:lnTo>
                    <a:pt x="5" y="82"/>
                  </a:lnTo>
                  <a:lnTo>
                    <a:pt x="5" y="16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solidFill>
              <a:srgbClr val="96969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HiperLAN/2 Protocol Architech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7" name=""/>
          <p:cNvGraphicFramePr/>
          <p:nvPr/>
        </p:nvGraphicFramePr>
        <p:xfrm>
          <a:off x="914400" y="2514600"/>
          <a:ext cx="7467480" cy="38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746748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9" name=""/>
          <p:cNvSpPr/>
          <p:nvPr/>
        </p:nvSpPr>
        <p:spPr>
          <a:xfrm>
            <a:off x="457200" y="14479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ation scope: air interface, service interfaces of the radio access system and the convergence layer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0" name="platta1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2743200"/>
          </a:xfrm>
          <a:prstGeom prst="rect">
            <a:avLst/>
          </a:prstGeom>
          <a:ln w="0">
            <a:noFill/>
          </a:ln>
        </p:spPr>
      </p:pic>
      <p:sp>
        <p:nvSpPr>
          <p:cNvPr id="2241" name=""/>
          <p:cNvSpPr/>
          <p:nvPr/>
        </p:nvSpPr>
        <p:spPr>
          <a:xfrm>
            <a:off x="1066680" y="5867280"/>
            <a:ext cx="1676520" cy="4572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ll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743200" y="5867280"/>
            <a:ext cx="3657600" cy="457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cket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1066680" y="5105520"/>
            <a:ext cx="914400" cy="7617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876920" y="2133720"/>
            <a:ext cx="3774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Segmentation and re-assembly to / from 48 bytes packe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Priority mapping from IEEE 802.1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ddress mapping from IEEE 80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ulticast &amp; broadcast hand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Flexible amount of QoS clas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6576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45720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rew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4864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 flipH="1">
            <a:off x="5943240" y="48006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vergence L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010040" cy="24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nvergence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single convergence layer active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ping between higher layer connections/priorities and DLC connections/prioriti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2743200" y="5105520"/>
            <a:ext cx="9144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C: Medium Access Control -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DMA/TDD with a fixed frame duration of 2 m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transmission possibilities: AP to MT (Downlink), MT to AP (Uplink) and MT to MT (Direct L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scheduling (not specifi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 interface frame creation in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allocation by the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 requests from M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assignment of capacity in uplink and downlink - no fixed slo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consider QoS and link adaptation 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of Data PDU and ARQ PDU without 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 Simon, Bernard Aboba, Tim Moore, Micro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00:06:50Z</dcterms:created>
  <dc:creator>Jamshid Khun-Jush</dc:creator>
  <dc:description/>
  <dc:language>en-US</dc:language>
  <cp:lastModifiedBy>Jamshid Khun-Jush</cp:lastModifiedBy>
  <cp:lastPrinted>1998-07-22T00:48:38Z</cp:lastPrinted>
  <dcterms:modified xsi:type="dcterms:W3CDTF">2000-03-08T13:51:44Z</dcterms:modified>
  <cp:revision>294</cp:revision>
  <dc:subject/>
  <dc:title>Hiperlan2 QoS</dc:title>
</cp:coreProperties>
</file>