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6DDA-646A-4EEF-A954-E9EC62C06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F99F-B32D-4E19-89F7-2159C3E98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00000" y="434196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0CF-3E02-44B9-8BD6-2FE0A860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73EB-D3DE-4FDF-B9BB-097B5463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54E5-DFF8-4BE5-82FE-02B427FF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20D-A147-4927-BC7F-FBD7A017F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8BF-53C2-4107-B48E-DE16592C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292-77FE-4CD0-A0CA-95A0C5E9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A69-063A-46B4-A262-60F0B96D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D89-5F9D-4CBC-9816-74C85C83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34F-2B2C-49C8-9C02-E4FE078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C07-93E9-4B8A-857B-89D84220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A975-64BB-4D93-BCFF-2F39B1DC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046-DAC9-4A55-98EC-46EAFEC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FEBAEA-027E-495A-A770-078C5CB7F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8305920" cy="22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Security and 802.1X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 Simon, Bernard Aboba, Tim Mo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ial of Service: Disassociation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ssociate/disassociate messages unencrypted and unauthent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forging of disassociation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s vulnerability to denial of service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 message integr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nial of Service: Integrity Ver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integrity check typically calculated on encrypted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eceiver to see if payload has been modified before decrypt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802.11, ICV is calculat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yload is encry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uch of an issue for RC4, which is very efficient in hardware and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be an issue for more computationally intensive ciphers such as 3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Dictionary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ome implementations, WEP keys are derived from pass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it much easier to break keys by brute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uses a large list of words to try to guess a password and derive th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types of dictionary attacks: pre-computed and off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-computed assumes fixed mapping between password and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ed password compared against all words in list (also encrypted) until match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nonce is included in the key derivation, then pre-computed attack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s (cont’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assword-based authentication methods vuln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vulnerabilities of Kerberos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Q includes PADATA encrypted with a password-derived client key, no no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rogue access point to mount dictionary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_REP encrypted with password-derived client key, no no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s passive attacker to mount offline at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non-passwor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generate WEP keys from pass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you need password-based key derivation, use E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key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word Entrop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s derived from user passwords are likely to be w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password is poorly chosen, the resulting key will be relatively weak and easy to br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if password is well chosen, if password entropy &lt; key length then effective key strength is redu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 = 1.3 bits of entropy/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character password = 13 bit ke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ary attacks easy on English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s SHOULD mix upper/lower case letters, numbers, punc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passwo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.5 bits entropy/character = log2 (52 alpha + 10 numeric + 30 specia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random characters required for 128 bits of entropy (22 * 6.5 &gt; 12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4080" y="2212920"/>
          <a:ext cx="8986680" cy="310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2212920"/>
                    <a:ext cx="898668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Address Security Issu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 of new  802.11 authentica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changes needed for each new 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s incentive to limit number of authentication methods supported, make new methods 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ult: No upgrade path to extended 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coding” authentication methods makes it difficult to respond to security vulner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s from the school of hard kn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ulnerabilities often found after the f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ck rollout of fixes frequently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wiring” support for particular authentication technique a bad id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ives up cost of 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vents flexible response to security vulner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hibits introduction of new security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X Security Philoso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ution: a flexible securit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 security framework in upper 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plug-in of new authentication, key management methods without changing NIC or Access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 main CPU resources for cryptographic calc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conversation carried out between supplicant and authentication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, Access Point acts as a pass through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reases hardware cost and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customers to choose their own security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implement the latest, most sophisticated authentication and key management techniques with modes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rapid response to secur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802.1X Addresses 802.11 Securit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provides a flexible link layer security frame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encapsulation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dependency on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K/NAK, no wind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ragmentat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w link layer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any link layer (PPP, 802.3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es not assume physically secur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provide securit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es no re-ord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run over lossy or lossless 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ansmission responsibility of authenticator (not needed for 802.1X or 802.1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 methods based on IETF 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port Level Security (TLS) (supported in Windows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net Key Exchange (IK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SS_API (including Kerber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s to provide “privacy of a wi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C4 stream cipher used for encry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nted at RSA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 encryption stream derived from WEP key + initialization v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er-packet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V provides integrity protection, but does not depend on the WEP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P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91880" y="3657600"/>
            <a:ext cx="109260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17000" y="1752480"/>
            <a:ext cx="14468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304812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3360" y="5187960"/>
            <a:ext cx="1647720" cy="984240"/>
          </a:xfrm>
          <a:prstGeom prst="rect">
            <a:avLst/>
          </a:prstGeom>
          <a:gradFill rotWithShape="0">
            <a:gsLst>
              <a:gs pos="0">
                <a:srgbClr val="008d6a"/>
              </a:gs>
              <a:gs pos="50000">
                <a:srgbClr val="00cc99"/>
              </a:gs>
              <a:gs pos="100000">
                <a:srgbClr val="008d6a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200400"/>
            <a:ext cx="6820200" cy="160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8d8db1"/>
              </a:gs>
            </a:gsLst>
            <a:lin ang="5400000"/>
          </a:gradFill>
          <a:ln w="0">
            <a:noFill/>
          </a:ln>
          <a:effectLst>
            <a:outerShdw dist="107932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49560" y="2457360"/>
            <a:ext cx="400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100000">
                <a:srgbClr val="042aa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68560" y="5410080"/>
            <a:ext cx="115056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4572000"/>
            <a:ext cx="1447920" cy="8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D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666880"/>
            <a:ext cx="1143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952880"/>
            <a:ext cx="8219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717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5181480"/>
            <a:ext cx="1648080" cy="9842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6a8db1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5181480"/>
            <a:ext cx="1647720" cy="984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6a8d00"/>
              </a:gs>
              <a:gs pos="100000">
                <a:srgbClr val="99cc00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5486400"/>
            <a:ext cx="83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54864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5486400"/>
            <a:ext cx="1067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962520"/>
            <a:ext cx="0" cy="177156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676520"/>
            <a:ext cx="2133720" cy="1157040"/>
          </a:xfrm>
          <a:prstGeom prst="rect">
            <a:avLst/>
          </a:prstGeom>
          <a:gradFill rotWithShape="0">
            <a:gsLst>
              <a:gs pos="0">
                <a:srgbClr val="993366"/>
              </a:gs>
              <a:gs pos="50000">
                <a:srgbClr val="6a2346"/>
              </a:gs>
              <a:gs pos="100000">
                <a:srgbClr val="993366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1676520"/>
            <a:ext cx="2057400" cy="1157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b16a8d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71785" dir="81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S_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2438280"/>
            <a:ext cx="0" cy="1771920"/>
          </a:xfrm>
          <a:prstGeom prst="line">
            <a:avLst/>
          </a:prstGeom>
          <a:ln w="114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Identification &amp; Strong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users identified by usernames, not MAC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user-based authentication, authorization,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designed to support extended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cus is non-password bas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-key certificates and smart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o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password-based authentication also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-time Pass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GSS_API method (includes Kerber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-User Session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X framework enables secure derivation of per-user session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 supporting dynamic key derivation and mutual authentication: TLS, IKE, GSS_API(Kerbe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per-user WEP keys easy to admin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onger need to store WEP keys on NIC, Acce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improved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key derivation ensures that WEP key varies from session to session, makes attacks much more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ability to securely change global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 keys can be sent from Access Point to client, encrypted in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use with 802.1X, EAP methods supporting mutual authentication are recomm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mutually authenticate to guarantee key is transferred to the right 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ents man-in-the-middle and rogue server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EAP methods support 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: server must supply a certificate, prove possession of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E: server must demonstrate possession of pre-shared key or private key (certificate authent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S_API (Kerberos): server must demonstrate knowledge of th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ctionary Attack Preca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created to support extended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mary focus is non-password base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ken cards, Certificates, smartcards, one-time passwords, biometrics not vulnerable to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text authentication not suppo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P-MD5 included for minimum compatibility, but not useful for 802.11 (need mutual authent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methods supporting password authentication should be carefully de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nonces to increase entropy of key space, provide immunity against pre-computed dictionary atta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tual authentication recomm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KE recommended for maximum security in password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-derived key used to encrypt Diffie-Helman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&amp; Integrity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 methods support per-packet authentication &amp;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LS, IKE derive sess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LS ciphersuite negotiations authenticated &amp;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KE ciphersuite negotiations are encrypted, authenticated,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S_API supports authentication, integrity protection for SPNEGO negotiated methods that support authentication and  integrity pro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rberos tickets are encrypted, authenticated and integrity prot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, Integrity protection not extended to all EAP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, NAK, messages not authenticated, integrity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uthenticated, integrity protected in TLS, IKE (AM), Kerb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, authenticated, integrity protected in IKE (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to encrypt, authenticate and integrity protect Success, Failure messages using derived session key (via WE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ress Spoof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Logoff message from another client’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needs to ensure EAP-Logoff messages come from the MAC address associated with the clien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gue client can send EAP-Request messages to other STAs from Access Point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with a source address of the access point MA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-Point should not forward packets addressed to EAPOL multicast MAC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d by 802.1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should check that unicast and shared keys are being used on the correct messag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messages not encrypted in 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also not encrypted in TLS, Kerb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ty encrypted within IKE(MM) method so pre-method Identity disclosure not necessary in this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flipping” attack on 802.11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2.1X enables per-user session keys, but no keyed message integrity check in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802.11/802.1X Vulner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72960" y="2054160"/>
          <a:ext cx="8367840" cy="33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054160"/>
                    <a:ext cx="8367840" cy="33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es of Atta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ft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erso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ker masquerades as another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tected modific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tended exposure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valid users from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ysical Thre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loses 802.11 NIC, doesn’t repor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er  with physical possession of NIC may be capable of accessing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 could encrypt WEP key on machine, require password to unlock before plum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s problems for machines accessible by more than one user, users who move between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global keys, large scale re-keying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user identification and centralized authentication, accounting and auditing, difficult to detect unusu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don’t log on for periods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s who transfer too much data, stay on too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imultaneous log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ns from the “wrong” machine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 User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does not identify users, only N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may represent more than on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user machines becoming common; which user is logged on with which M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may move between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may allow logins by other users within th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 for wireless kiosks, public use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-user or even machine authorization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ossible to authorize guest and Administrator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sonation: Rogue 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shared authentication not mu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authenticates to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does not authenticate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rogue access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service attack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 both sides to demonstrate knowledge of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: Known Plaintext Att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P supports per-packet encryption, integrity, but not per-packet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V not a keyed M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ects against random “bit flips”, but knowledge of WEP key not required to construct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known packet (ARP, DHCP, TCP ACK, etc.), possible to recover RC4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spoofing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insert a packet, calculate ICV, encrypt with known RC4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be able to insert or modify packets in the 802.11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s decryption of packets until IV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a keyed message integrity 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the IV ever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Passive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monitoring the 802.11 control and data channels information about the Access Point and client can be obta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and Access Point MAC addr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to deliver packets; disclosed by all 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 addresses of internal h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association/disassoc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raffic analysis, long term prof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 IP address, MAC address is st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it easy to attribute traffic to a user, albeit imperf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 3 traffic analysis more interesting than lay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losure: Global K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-user keys enabled by W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ithout dynamic key management, difficult to manage per-user 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with static global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ret shared by more than two is not a sec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rogue Access Point atta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nyone with access to the global key to decrypt other convers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key change requires large scale re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Glen Zorn</dc:creator>
  <dc:description/>
  <dc:language>en-US</dc:language>
  <cp:lastModifiedBy>bernarda</cp:lastModifiedBy>
  <cp:lastPrinted>1998-07-22T00:48:38Z</cp:lastPrinted>
  <dcterms:modified xsi:type="dcterms:W3CDTF">2000-03-07T15:28:52Z</dcterms:modified>
  <cp:revision>227</cp:revision>
  <dc:subject/>
  <dc:title>PPTP  A First Generation VPN</dc:title>
</cp:coreProperties>
</file>