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9409-CDA7-4128-9B96-0FB938173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0EC3-15E1-4EA5-ABBA-B16A2D725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0000" y="434196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127-BC9E-4B31-BB3A-363912E8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E12-AA6D-4AFB-BE6D-77C0416A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241-DB38-4121-AB12-627E4D5A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F5F-A745-4D17-B153-051BF82CB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A3C-50E6-4730-BD68-88C788DF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2C5-95F1-41BC-B4AB-8761BB44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F66-6A26-4FDB-BB97-8FBF4DF9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001-5914-4BAB-89E1-65D3ED5B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C46-FF07-4993-9C2A-3BD3CC21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941-E443-41DE-A78E-83CDB959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FFC-63F4-4E4E-A055-37E9A30C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828B-FF51-4758-B1C6-56FCCEC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5BD746-5988-42C3-B3E7-CB7BCB173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4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dansimon@microsoft.com" TargetMode="External"/><Relationship Id="rId2" Type="http://schemas.openxmlformats.org/officeDocument/2006/relationships/hyperlink" Target="mailto:bernarda@microsoft.com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05920" cy="399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Security and 802.1X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 Simon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ansimon@microsoft.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rnard Aboba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bernarda@microsoft.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moore@microsoft.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ial of Service: Disassociati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associate/disassociate messages unencrypted and unauthent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forging of disassociation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vulnerability to denial of service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 message integrity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nial of Service: Integrity Ve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integrity check typically calculated on encryp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eceiver to see if payload has been modified before decrypt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802.11, ICV is calculat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yload is encry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uch of an issue for RC4, AES which are very efficient in hardware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be an issue for more computationally intensive ciphers such as 3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Dictionary Att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implementations, WEP keys are derived from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it much easier to break keys by brute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 uses a large list of words to try to guess a password and derive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ypes of dictionary attacks: pre-computed and o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computed assumes fixed mapping between password a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ed password compared against all words in list (also encrypted) until match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nonce is included in the key derivation, then pre-computed attack mor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Attack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assword-based authentication methods vuln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vulnerabilities of Kerbero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_REQ includes PADATA encrypted with a password-derived client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rogue access point to mount dictionary at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_REP encrypted with password-derived client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passive attacker to mount online at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non-passwor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generate WEP keys from pass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need password-based key derivation, use E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word-derived key used to encrypt Diffie-Helman key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word Entrop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derived from user passwords are likely to be w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password is poorly chosen, the resulting key will be relatively weak and easy to br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if password is well chosen, if password entropy &lt; key length then effective key strength is 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= 1.3 bits of entropy/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character password = 13 bit ke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ary attacks easy on English pass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ords SHOULD mix upper/lower case letters, numbers, pun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passwo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5 bits entropy/character = log2 (52 alpha + 10 numeric + 30 speci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random characters required for 128 bits of entropy (22 * 6.5 &gt; 1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4080" y="2212920"/>
          <a:ext cx="8986680" cy="31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212920"/>
                    <a:ext cx="898668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Address Security Iss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 of new  802.11 authentica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 changes needed for each new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s incentive to limit number of authentication methods supported, make new methods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: No upgrade path to extended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coding” authentication methods makes it difficult to respond to security vulner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s from the school of hard kn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ulnerabilities often found after the 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ck rollout of fixes frequently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wiring” support for particular authentication technique a bad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ves up cost of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s flexible response to security vulner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ibits introduction of new security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Security Philoso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ution: a flexible secur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 security framework in upper 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plug-in of new authentication, key management methods without changing NIC or 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 main CPU resources for cryptographic calc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conversation carried out between supplicant and 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, Access Point acts as a pass through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eases hardware cost and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customers to choose their own security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implement the latest, most sophisticated authentication and key management techniques with modes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rapid response to security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802.1X Addresses 802.11 Securit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 provides a flexible link layer security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encapsulation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dependency on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K/NAK, no wind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ragmentation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w link layer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run over any link layer (PPP, 802.3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assume physically secur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provide securit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es no re-or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run over lossy or lossless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ansmission responsibility of authenticator (not needed for 802.1X or 802.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 methods based on IETF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port Level Security (TLS) (supported in Windows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Key Exchange (I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S_API (including Kerbe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to provide “privacy of a wi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4 stream cipher used for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ed at RSA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 encryption stream derived from WEP key + initialization 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V provides integrity protection, but does not depend on the WEP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880" y="3657600"/>
            <a:ext cx="10926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7000" y="1752480"/>
            <a:ext cx="1446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812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3360" y="5187960"/>
            <a:ext cx="1647720" cy="984240"/>
          </a:xfrm>
          <a:prstGeom prst="rect">
            <a:avLst/>
          </a:prstGeom>
          <a:gradFill rotWithShape="0">
            <a:gsLst>
              <a:gs pos="0">
                <a:srgbClr val="008d6a"/>
              </a:gs>
              <a:gs pos="50000">
                <a:srgbClr val="00cc99"/>
              </a:gs>
              <a:gs pos="100000">
                <a:srgbClr val="008d6a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200400"/>
            <a:ext cx="6820200" cy="160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d8db1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9560" y="2457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8560" y="5410080"/>
            <a:ext cx="11505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4572000"/>
            <a:ext cx="144792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666880"/>
            <a:ext cx="1143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95288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5181480"/>
            <a:ext cx="1648080" cy="984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a8db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6a8d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54864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4864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676520"/>
            <a:ext cx="2133720" cy="11570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6a2346"/>
              </a:gs>
              <a:gs pos="100000">
                <a:srgbClr val="993366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b16a8d"/>
              </a:gs>
              <a:gs pos="100000">
                <a:srgbClr val="ff99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S_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users identified by usernames, not MAC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user-based authentication, authorization,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designed to support extende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is non-password bas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-key certificates and smart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password-based authentication also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-time Pass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GSS_API method (includes Kerbe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-User Sessio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framework enables secure derivation of per-user sessio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upporting dynamic key derivation and mutual authentication: TLS, IKE, GSS_API(Kerbe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per-user WEP keys easy to admin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nger need to store WEP keys on NIC, Acce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improve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key derivation ensures that WEP key varies from session to session, makes attacks much mor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bility to securely change global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keys can be sent from Access Point to client, encrypted in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 with 802.1X, EAP methods supporting mutual authentication are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mutually authenticate to guarantee key is transferred to the right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s man-in-the-middle and rogue server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AP methods support 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S: server must supply a certificate, prove possession of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E: server must demonstrate possession of pre-shared key or private key (certificate authent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API (Kerberos): server must demonstrate knowledge of the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created to support extend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focus is non-password base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 cards, Certificates, smartcards, one-time passwords, biometrics not vulnerable to dictionary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text authentication not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-MD5 included for minimum compatibility, but not useful for 802.11 (need mutual authentication and key deriv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methods supporting password authentication should be carefully de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nonces to increase entropy of key space, provide immunity against pre-computed dictionary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tual authentication recomm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KE recommended for maximum security in passwor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-derived key used to encrypt Diffie-Helman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&amp; Integrity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methods support per-packet authentication &amp;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S, IKE derive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LS ciphersuite negotiations authenticated &amp;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KE ciphersuite negotiations are encrypted, authenticated,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S_API supports authentication, integrity protection for SPNEGO negotiated methods that support authentication and  integrity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tickets are encrypted, authenticated and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, Integrity protection not extended to all EAP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, NAK, messages not authenticated, integrity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authenticated, integrity protected in TLS, IKE (AM), Ker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encrypted, authenticated, integrity protected in IKE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to encrypt, authenticate and integrity protect Success, Failure messages using derived session key (via W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Spoofing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ue client can send EAP-Logoff message from another client’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packet authentication required to avoid forg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needs to ensure EAP-Logoff messages come from the MAC address associated with the client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ue client can send EAP-Request messages to other STAs from Access Point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should not forward packets with a source address of the access point M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should not forward packets addressed to EAPOL multicast MAC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 by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should check that unicast and shared keys are being used on the correct messa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ing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messages not encrypted in 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also not encrypted in TLS, Kerb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encrypted within IKE(MM) method so pre-method Identity disclosure not necessary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flipping” attack on 802.11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X enables per-user session keys, but no keyed message integrity check in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/802.1X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2960" y="2054160"/>
          <a:ext cx="8367840" cy="31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2054160"/>
                    <a:ext cx="836784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ft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so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 masquerades as another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tected modifica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tended exposure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valid users from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Thr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loses 802.11 NIC, doesn’t repor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er  with physical possession of NIC may be capable of accessing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 could encrypt WEP key on machine, require password to unlock before plum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problems for machines accessible by more than one user, users who move between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global keys, large scale re-keying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user identification and centralized authentication, accounting and auditing, difficult to detect unusu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who don’t log on for periods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who transfer too much data, stay on too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imultaneou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s from the “wrong” machine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sonation:  User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does not identify users, only 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may represent more than on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user machines becoming common; which user is logged on with which M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may move betwe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may allow logins by other users within th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for wireless kiosks, public use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user or even machine authoriz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ossible to authorize guest and Administrator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sonation: Rogue 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shared authentication not mu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uthenticates to Acce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does not authenticate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rogue access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service attack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both sides to demonstrate knowledge of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ity: Known Plaintext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P supports per-packet encryption, integrity, but not per-packet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V not a keyed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ects against random “bit flips”, but knowledge of WEP key not required to construct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known packet (ARP, DHCP, TCP ACK, etc.), possible to recover RC4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spoofing of packets until IV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insert a packet, calculate ICV, encrypt with known RC4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t be able to insert or modify packets in the 802.11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decryption of packets until IV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 keyed message integrity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the IV every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Passiv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onitoring the 802.11 control and data channels information about the Access Point and client can be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nd Access Point MAC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to deliver packets; disclosed by all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 addresses of internal 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of association/dis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traffic analysis, long term prof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 IP address, MAC address is 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s it easy to attribute traffic to a user, albeit imperf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 3 traffic analysis more interesting than lay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Global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 keys enabled by W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ithout dynamic key management, difficult to manage per-user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static glob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ret shared by more than two is not a 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ogue Access Point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nyone with access to the global key to decrypt other conver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key change requires large scale re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00:06:50Z</dcterms:created>
  <dc:creator>Glen Zorn</dc:creator>
  <dc:description/>
  <dc:language>en-US</dc:language>
  <cp:lastModifiedBy>Harry R. Worstell</cp:lastModifiedBy>
  <cp:lastPrinted>1998-07-22T00:48:38Z</cp:lastPrinted>
  <dcterms:modified xsi:type="dcterms:W3CDTF">2000-03-08T02:35:46Z</dcterms:modified>
  <cp:revision>239</cp:revision>
  <dc:subject/>
  <dc:title>PPTP  A First Generation VPN</dc:title>
</cp:coreProperties>
</file>