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BAE-F29B-47E2-9976-6D264732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766B-98DC-429B-AAD8-C7687C7C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58D-761A-4AF2-80FF-B042721C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881C-34DB-4E08-8D37-28F504FC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79AF-3B31-4228-9B84-7F85456D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E129-81F0-4217-8EA8-CB15847E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542-FDA7-4170-926E-CB890639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42AB-E167-4870-9BC9-B241B204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3046-2ECD-40EC-B139-F0B935BC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029-12D1-4318-9166-9D343C5D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0BD-1844-4BF1-A10A-7E20CF8A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C4C-2ABD-4F2A-89D8-740B78FB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5BB98A-6910-46F2-8F61-C3C8D42D5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grouper.ieee.org/groups/802/1/pages/802.1x.html" TargetMode="External"/><Relationship Id="rId2" Type="http://schemas.openxmlformats.org/officeDocument/2006/relationships/hyperlink" Target="http://www.ietf.org/rfc/rfc2138.txt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X For Wireless 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3000"/>
          </a:bodyPr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nard Aboba, Tim Moore, 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Roese, Ravi Nalmati, Cablet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bert Young, 3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 Temme, Bill McFarland T-S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Halasz, Airo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Congdon, 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w Smith, Extreme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ECD5-92E9-4C0F-AF83-58F33E4C702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asso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point configured to allow open and shar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lient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authentication used, since dynamically derived WEP key not yet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associates with access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5D7-9187-441C-9973-FCF71821265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X authentication in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X authentication occurs after 802.11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association, client and access point have an Ethernet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or to authentication, access point filters all non-EAPOL traffic from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802.1X authentication succeeds, access point removes the 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messages sent to destination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, Access Point MAC addresses known after 802.11 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need to use 802.1X multicast MAC address in EAP-Start, EAP-Request/Identity 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or to 802.1X authentication, access point only accepts packets with source = Client and Ethertype = EAP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F5BA-8151-4918-BB36-1F337D3439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/802.1X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996840" y="1219320"/>
          <a:ext cx="7048440" cy="54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1219320"/>
                    <a:ext cx="7048440" cy="54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8857-77EE-4AB7-A93F-213EE02B0A8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X and Per-STA Session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can EAPOL be used to derive per-Station unicast session key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use any EAP method supporting secure dynamic key der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P-TLS (RFC 27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P-G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 Dynam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s derived on client and the RADIUS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US server transmits key to acce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DIUS attribute encrypted on a hop-by-hop basis using shared secret shared by RADIUS client and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cast keys can be used to encrypt subsequent traffic, including EAPOW-key packet (for carrying multicast/global key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ation unicast session keys not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only multicast/global keys are supported, then session key is only used to encrypt the multicast/global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3B9-3506-4952-A5F9-304B476BC6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4582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X and Multicast/Global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EAPOL transfer multicast/global key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w EAPOL packet type can be defined for use in transporting multicast/global keys: EAPOW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OW-Key packet type used to transmit one or more keys from access point to 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OW-Key packets only sent after EAPOW authentication succ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OW-Key packets are encrypted using derived per-STA session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FC0-5B63-4C99-B09B-8BBB68AACA2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09480" y="2895480"/>
            <a:ext cx="4572000" cy="35816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2514600"/>
            <a:ext cx="4572000" cy="38088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1554120"/>
            <a:ext cx="1698840" cy="382680"/>
          </a:xfrm>
          <a:custGeom>
            <a:avLst/>
            <a:gdLst/>
            <a:ahLst/>
            <a:rect l="l" t="t" r="r" b="b"/>
            <a:pathLst>
              <a:path w="1070" h="241">
                <a:moveTo>
                  <a:pt x="1070" y="0"/>
                </a:moveTo>
                <a:lnTo>
                  <a:pt x="1070" y="238"/>
                </a:lnTo>
                <a:lnTo>
                  <a:pt x="0" y="24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6920" y="2514600"/>
            <a:ext cx="3733560" cy="396252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460760" y="1843200"/>
            <a:ext cx="1165320" cy="177840"/>
          </a:xfrm>
          <a:custGeom>
            <a:avLst/>
            <a:gdLst/>
            <a:ahLst/>
            <a:rect l="l" t="t" r="r" b="b"/>
            <a:pathLst>
              <a:path w="1468" h="223">
                <a:moveTo>
                  <a:pt x="60" y="210"/>
                </a:moveTo>
                <a:lnTo>
                  <a:pt x="49" y="207"/>
                </a:lnTo>
                <a:lnTo>
                  <a:pt x="39" y="198"/>
                </a:lnTo>
                <a:lnTo>
                  <a:pt x="31" y="185"/>
                </a:lnTo>
                <a:lnTo>
                  <a:pt x="22" y="167"/>
                </a:lnTo>
                <a:lnTo>
                  <a:pt x="18" y="146"/>
                </a:lnTo>
                <a:lnTo>
                  <a:pt x="14" y="124"/>
                </a:lnTo>
                <a:lnTo>
                  <a:pt x="14" y="100"/>
                </a:lnTo>
                <a:lnTo>
                  <a:pt x="18" y="77"/>
                </a:lnTo>
                <a:lnTo>
                  <a:pt x="22" y="56"/>
                </a:lnTo>
                <a:lnTo>
                  <a:pt x="31" y="39"/>
                </a:lnTo>
                <a:lnTo>
                  <a:pt x="39" y="25"/>
                </a:lnTo>
                <a:lnTo>
                  <a:pt x="49" y="18"/>
                </a:lnTo>
                <a:lnTo>
                  <a:pt x="60" y="15"/>
                </a:lnTo>
                <a:lnTo>
                  <a:pt x="71" y="18"/>
                </a:lnTo>
                <a:lnTo>
                  <a:pt x="81" y="25"/>
                </a:lnTo>
                <a:lnTo>
                  <a:pt x="91" y="39"/>
                </a:lnTo>
                <a:lnTo>
                  <a:pt x="97" y="56"/>
                </a:lnTo>
                <a:lnTo>
                  <a:pt x="104" y="77"/>
                </a:lnTo>
                <a:lnTo>
                  <a:pt x="106" y="100"/>
                </a:lnTo>
                <a:lnTo>
                  <a:pt x="106" y="124"/>
                </a:lnTo>
                <a:lnTo>
                  <a:pt x="104" y="146"/>
                </a:lnTo>
                <a:lnTo>
                  <a:pt x="97" y="167"/>
                </a:lnTo>
                <a:lnTo>
                  <a:pt x="91" y="185"/>
                </a:lnTo>
                <a:lnTo>
                  <a:pt x="81" y="198"/>
                </a:lnTo>
                <a:lnTo>
                  <a:pt x="71" y="207"/>
                </a:lnTo>
                <a:lnTo>
                  <a:pt x="60" y="210"/>
                </a:lnTo>
                <a:close/>
                <a:moveTo>
                  <a:pt x="60" y="0"/>
                </a:moveTo>
                <a:lnTo>
                  <a:pt x="1406" y="0"/>
                </a:lnTo>
                <a:lnTo>
                  <a:pt x="1421" y="3"/>
                </a:lnTo>
                <a:lnTo>
                  <a:pt x="1434" y="12"/>
                </a:lnTo>
                <a:lnTo>
                  <a:pt x="1445" y="25"/>
                </a:lnTo>
                <a:lnTo>
                  <a:pt x="1455" y="41"/>
                </a:lnTo>
                <a:lnTo>
                  <a:pt x="1462" y="64"/>
                </a:lnTo>
                <a:lnTo>
                  <a:pt x="1467" y="88"/>
                </a:lnTo>
                <a:lnTo>
                  <a:pt x="1468" y="112"/>
                </a:lnTo>
                <a:lnTo>
                  <a:pt x="1467" y="137"/>
                </a:lnTo>
                <a:lnTo>
                  <a:pt x="1462" y="161"/>
                </a:lnTo>
                <a:lnTo>
                  <a:pt x="1455" y="182"/>
                </a:lnTo>
                <a:lnTo>
                  <a:pt x="1445" y="200"/>
                </a:lnTo>
                <a:lnTo>
                  <a:pt x="1434" y="213"/>
                </a:lnTo>
                <a:lnTo>
                  <a:pt x="1421" y="220"/>
                </a:lnTo>
                <a:lnTo>
                  <a:pt x="1406" y="223"/>
                </a:lnTo>
                <a:lnTo>
                  <a:pt x="60" y="223"/>
                </a:lnTo>
                <a:lnTo>
                  <a:pt x="47" y="220"/>
                </a:lnTo>
                <a:lnTo>
                  <a:pt x="34" y="213"/>
                </a:lnTo>
                <a:lnTo>
                  <a:pt x="22" y="200"/>
                </a:lnTo>
                <a:lnTo>
                  <a:pt x="13" y="182"/>
                </a:lnTo>
                <a:lnTo>
                  <a:pt x="4" y="161"/>
                </a:lnTo>
                <a:lnTo>
                  <a:pt x="1" y="137"/>
                </a:lnTo>
                <a:lnTo>
                  <a:pt x="0" y="112"/>
                </a:lnTo>
                <a:lnTo>
                  <a:pt x="1" y="88"/>
                </a:lnTo>
                <a:lnTo>
                  <a:pt x="4" y="64"/>
                </a:lnTo>
                <a:lnTo>
                  <a:pt x="13" y="41"/>
                </a:lnTo>
                <a:lnTo>
                  <a:pt x="22" y="25"/>
                </a:lnTo>
                <a:lnTo>
                  <a:pt x="34" y="12"/>
                </a:lnTo>
                <a:lnTo>
                  <a:pt x="47" y="3"/>
                </a:lnTo>
                <a:lnTo>
                  <a:pt x="6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71920" y="1854360"/>
            <a:ext cx="73080" cy="155520"/>
          </a:xfrm>
          <a:custGeom>
            <a:avLst/>
            <a:gdLst/>
            <a:ahLst/>
            <a:rect l="l" t="t" r="r" b="b"/>
            <a:pathLst>
              <a:path w="92" h="195">
                <a:moveTo>
                  <a:pt x="46" y="195"/>
                </a:moveTo>
                <a:lnTo>
                  <a:pt x="35" y="192"/>
                </a:lnTo>
                <a:lnTo>
                  <a:pt x="25" y="183"/>
                </a:lnTo>
                <a:lnTo>
                  <a:pt x="17" y="170"/>
                </a:lnTo>
                <a:lnTo>
                  <a:pt x="8" y="152"/>
                </a:lnTo>
                <a:lnTo>
                  <a:pt x="4" y="131"/>
                </a:lnTo>
                <a:lnTo>
                  <a:pt x="0" y="109"/>
                </a:lnTo>
                <a:lnTo>
                  <a:pt x="0" y="85"/>
                </a:lnTo>
                <a:lnTo>
                  <a:pt x="4" y="62"/>
                </a:lnTo>
                <a:lnTo>
                  <a:pt x="8" y="41"/>
                </a:lnTo>
                <a:lnTo>
                  <a:pt x="17" y="24"/>
                </a:lnTo>
                <a:lnTo>
                  <a:pt x="25" y="10"/>
                </a:lnTo>
                <a:lnTo>
                  <a:pt x="35" y="3"/>
                </a:lnTo>
                <a:lnTo>
                  <a:pt x="46" y="0"/>
                </a:lnTo>
                <a:lnTo>
                  <a:pt x="57" y="3"/>
                </a:lnTo>
                <a:lnTo>
                  <a:pt x="67" y="10"/>
                </a:lnTo>
                <a:lnTo>
                  <a:pt x="77" y="24"/>
                </a:lnTo>
                <a:lnTo>
                  <a:pt x="83" y="41"/>
                </a:lnTo>
                <a:lnTo>
                  <a:pt x="90" y="62"/>
                </a:lnTo>
                <a:lnTo>
                  <a:pt x="92" y="85"/>
                </a:lnTo>
                <a:lnTo>
                  <a:pt x="92" y="109"/>
                </a:lnTo>
                <a:lnTo>
                  <a:pt x="90" y="131"/>
                </a:lnTo>
                <a:lnTo>
                  <a:pt x="83" y="152"/>
                </a:lnTo>
                <a:lnTo>
                  <a:pt x="77" y="170"/>
                </a:lnTo>
                <a:lnTo>
                  <a:pt x="67" y="183"/>
                </a:lnTo>
                <a:lnTo>
                  <a:pt x="57" y="192"/>
                </a:lnTo>
                <a:lnTo>
                  <a:pt x="46" y="1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60760" y="1843200"/>
            <a:ext cx="1165320" cy="177840"/>
          </a:xfrm>
          <a:custGeom>
            <a:avLst/>
            <a:gdLst/>
            <a:ahLst/>
            <a:rect l="l" t="t" r="r" b="b"/>
            <a:pathLst>
              <a:path w="1468" h="223">
                <a:moveTo>
                  <a:pt x="60" y="0"/>
                </a:moveTo>
                <a:lnTo>
                  <a:pt x="1406" y="0"/>
                </a:lnTo>
                <a:lnTo>
                  <a:pt x="1421" y="3"/>
                </a:lnTo>
                <a:lnTo>
                  <a:pt x="1434" y="12"/>
                </a:lnTo>
                <a:lnTo>
                  <a:pt x="1445" y="25"/>
                </a:lnTo>
                <a:lnTo>
                  <a:pt x="1455" y="41"/>
                </a:lnTo>
                <a:lnTo>
                  <a:pt x="1462" y="64"/>
                </a:lnTo>
                <a:lnTo>
                  <a:pt x="1467" y="88"/>
                </a:lnTo>
                <a:lnTo>
                  <a:pt x="1468" y="112"/>
                </a:lnTo>
                <a:lnTo>
                  <a:pt x="1467" y="137"/>
                </a:lnTo>
                <a:lnTo>
                  <a:pt x="1462" y="161"/>
                </a:lnTo>
                <a:lnTo>
                  <a:pt x="1455" y="182"/>
                </a:lnTo>
                <a:lnTo>
                  <a:pt x="1445" y="200"/>
                </a:lnTo>
                <a:lnTo>
                  <a:pt x="1434" y="213"/>
                </a:lnTo>
                <a:lnTo>
                  <a:pt x="1421" y="220"/>
                </a:lnTo>
                <a:lnTo>
                  <a:pt x="1406" y="223"/>
                </a:lnTo>
                <a:lnTo>
                  <a:pt x="60" y="223"/>
                </a:lnTo>
                <a:lnTo>
                  <a:pt x="47" y="220"/>
                </a:lnTo>
                <a:lnTo>
                  <a:pt x="34" y="213"/>
                </a:lnTo>
                <a:lnTo>
                  <a:pt x="22" y="200"/>
                </a:lnTo>
                <a:lnTo>
                  <a:pt x="13" y="182"/>
                </a:lnTo>
                <a:lnTo>
                  <a:pt x="4" y="161"/>
                </a:lnTo>
                <a:lnTo>
                  <a:pt x="1" y="137"/>
                </a:lnTo>
                <a:lnTo>
                  <a:pt x="0" y="112"/>
                </a:lnTo>
                <a:lnTo>
                  <a:pt x="1" y="88"/>
                </a:lnTo>
                <a:lnTo>
                  <a:pt x="4" y="64"/>
                </a:lnTo>
                <a:lnTo>
                  <a:pt x="13" y="41"/>
                </a:lnTo>
                <a:lnTo>
                  <a:pt x="22" y="25"/>
                </a:lnTo>
                <a:lnTo>
                  <a:pt x="34" y="12"/>
                </a:lnTo>
                <a:lnTo>
                  <a:pt x="47" y="3"/>
                </a:lnTo>
                <a:lnTo>
                  <a:pt x="6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54440" y="1665360"/>
            <a:ext cx="389160" cy="266760"/>
          </a:xfrm>
          <a:custGeom>
            <a:avLst/>
            <a:gdLst/>
            <a:ahLst/>
            <a:rect l="l" t="t" r="r" b="b"/>
            <a:pathLst>
              <a:path w="490" h="336">
                <a:moveTo>
                  <a:pt x="0" y="0"/>
                </a:moveTo>
                <a:lnTo>
                  <a:pt x="0" y="336"/>
                </a:lnTo>
                <a:lnTo>
                  <a:pt x="490" y="33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49920" y="1932120"/>
            <a:ext cx="193680" cy="266400"/>
          </a:xfrm>
          <a:custGeom>
            <a:avLst/>
            <a:gdLst/>
            <a:ahLst/>
            <a:rect l="l" t="t" r="r" b="b"/>
            <a:pathLst>
              <a:path w="245" h="335">
                <a:moveTo>
                  <a:pt x="0" y="335"/>
                </a:moveTo>
                <a:lnTo>
                  <a:pt x="0" y="0"/>
                </a:lnTo>
                <a:lnTo>
                  <a:pt x="245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43600" y="1932120"/>
            <a:ext cx="193680" cy="266400"/>
          </a:xfrm>
          <a:custGeom>
            <a:avLst/>
            <a:gdLst/>
            <a:ahLst/>
            <a:rect l="l" t="t" r="r" b="b"/>
            <a:pathLst>
              <a:path w="245" h="335">
                <a:moveTo>
                  <a:pt x="245" y="335"/>
                </a:moveTo>
                <a:lnTo>
                  <a:pt x="245" y="0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43600" y="1665360"/>
            <a:ext cx="1440" cy="266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830840" y="1932120"/>
            <a:ext cx="2127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043240" y="1932120"/>
            <a:ext cx="968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69000" y="1873080"/>
            <a:ext cx="349200" cy="11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876200" y="182880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52440" y="1220760"/>
            <a:ext cx="584280" cy="533520"/>
          </a:xfrm>
          <a:custGeom>
            <a:avLst/>
            <a:gdLst/>
            <a:ahLst/>
            <a:rect l="l" t="t" r="r" b="b"/>
            <a:pathLst>
              <a:path w="734" h="671">
                <a:moveTo>
                  <a:pt x="62" y="392"/>
                </a:moveTo>
                <a:lnTo>
                  <a:pt x="62" y="0"/>
                </a:lnTo>
                <a:lnTo>
                  <a:pt x="674" y="0"/>
                </a:lnTo>
                <a:lnTo>
                  <a:pt x="674" y="392"/>
                </a:lnTo>
                <a:lnTo>
                  <a:pt x="734" y="616"/>
                </a:lnTo>
                <a:lnTo>
                  <a:pt x="734" y="671"/>
                </a:lnTo>
                <a:lnTo>
                  <a:pt x="0" y="671"/>
                </a:lnTo>
                <a:lnTo>
                  <a:pt x="0" y="616"/>
                </a:lnTo>
                <a:lnTo>
                  <a:pt x="62" y="39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01760" y="1533600"/>
            <a:ext cx="485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52440" y="1709640"/>
            <a:ext cx="5842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52440" y="1220760"/>
            <a:ext cx="584280" cy="533520"/>
          </a:xfrm>
          <a:custGeom>
            <a:avLst/>
            <a:gdLst/>
            <a:ahLst/>
            <a:rect l="l" t="t" r="r" b="b"/>
            <a:pathLst>
              <a:path w="734" h="671">
                <a:moveTo>
                  <a:pt x="62" y="392"/>
                </a:moveTo>
                <a:lnTo>
                  <a:pt x="62" y="0"/>
                </a:lnTo>
                <a:lnTo>
                  <a:pt x="674" y="0"/>
                </a:lnTo>
                <a:lnTo>
                  <a:pt x="674" y="392"/>
                </a:lnTo>
                <a:lnTo>
                  <a:pt x="734" y="616"/>
                </a:lnTo>
                <a:lnTo>
                  <a:pt x="734" y="671"/>
                </a:lnTo>
                <a:lnTo>
                  <a:pt x="0" y="671"/>
                </a:lnTo>
                <a:lnTo>
                  <a:pt x="0" y="616"/>
                </a:lnTo>
                <a:lnTo>
                  <a:pt x="62" y="39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78000" y="1565280"/>
            <a:ext cx="534960" cy="122400"/>
          </a:xfrm>
          <a:custGeom>
            <a:avLst/>
            <a:gdLst/>
            <a:ahLst/>
            <a:rect l="l" t="t" r="r" b="b"/>
            <a:pathLst>
              <a:path w="674" h="153">
                <a:moveTo>
                  <a:pt x="34" y="28"/>
                </a:moveTo>
                <a:lnTo>
                  <a:pt x="42" y="0"/>
                </a:lnTo>
                <a:lnTo>
                  <a:pt x="631" y="0"/>
                </a:lnTo>
                <a:lnTo>
                  <a:pt x="638" y="28"/>
                </a:lnTo>
                <a:lnTo>
                  <a:pt x="34" y="28"/>
                </a:lnTo>
                <a:close/>
                <a:moveTo>
                  <a:pt x="0" y="153"/>
                </a:moveTo>
                <a:lnTo>
                  <a:pt x="31" y="42"/>
                </a:lnTo>
                <a:lnTo>
                  <a:pt x="643" y="42"/>
                </a:lnTo>
                <a:lnTo>
                  <a:pt x="674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41600" y="1454040"/>
            <a:ext cx="171360" cy="289080"/>
          </a:xfrm>
          <a:custGeom>
            <a:avLst/>
            <a:gdLst/>
            <a:ahLst/>
            <a:rect l="l" t="t" r="r" b="b"/>
            <a:pathLst>
              <a:path w="215" h="363">
                <a:moveTo>
                  <a:pt x="93" y="13"/>
                </a:moveTo>
                <a:lnTo>
                  <a:pt x="94" y="6"/>
                </a:lnTo>
                <a:lnTo>
                  <a:pt x="102" y="0"/>
                </a:lnTo>
                <a:lnTo>
                  <a:pt x="112" y="0"/>
                </a:lnTo>
                <a:lnTo>
                  <a:pt x="120" y="6"/>
                </a:lnTo>
                <a:lnTo>
                  <a:pt x="122" y="13"/>
                </a:lnTo>
                <a:lnTo>
                  <a:pt x="120" y="22"/>
                </a:lnTo>
                <a:lnTo>
                  <a:pt x="112" y="26"/>
                </a:lnTo>
                <a:lnTo>
                  <a:pt x="102" y="26"/>
                </a:lnTo>
                <a:lnTo>
                  <a:pt x="94" y="22"/>
                </a:lnTo>
                <a:lnTo>
                  <a:pt x="93" y="13"/>
                </a:lnTo>
                <a:close/>
                <a:moveTo>
                  <a:pt x="0" y="363"/>
                </a:moveTo>
                <a:lnTo>
                  <a:pt x="215" y="363"/>
                </a:lnTo>
                <a:lnTo>
                  <a:pt x="215" y="335"/>
                </a:lnTo>
                <a:lnTo>
                  <a:pt x="0" y="335"/>
                </a:lnTo>
                <a:lnTo>
                  <a:pt x="0" y="3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16120" y="1454040"/>
            <a:ext cx="22320" cy="22320"/>
          </a:xfrm>
          <a:custGeom>
            <a:avLst/>
            <a:gdLst/>
            <a:ahLst/>
            <a:rect l="l" t="t" r="r" b="b"/>
            <a:pathLst>
              <a:path w="29" h="26">
                <a:moveTo>
                  <a:pt x="0" y="13"/>
                </a:moveTo>
                <a:lnTo>
                  <a:pt x="1" y="6"/>
                </a:lnTo>
                <a:lnTo>
                  <a:pt x="9" y="0"/>
                </a:lnTo>
                <a:lnTo>
                  <a:pt x="19" y="0"/>
                </a:lnTo>
                <a:lnTo>
                  <a:pt x="27" y="6"/>
                </a:lnTo>
                <a:lnTo>
                  <a:pt x="29" y="13"/>
                </a:lnTo>
                <a:lnTo>
                  <a:pt x="27" y="22"/>
                </a:lnTo>
                <a:lnTo>
                  <a:pt x="19" y="26"/>
                </a:lnTo>
                <a:lnTo>
                  <a:pt x="9" y="26"/>
                </a:lnTo>
                <a:lnTo>
                  <a:pt x="1" y="22"/>
                </a:lnTo>
                <a:lnTo>
                  <a:pt x="0" y="1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03520" y="1444680"/>
            <a:ext cx="48960" cy="4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41600" y="1720800"/>
            <a:ext cx="171360" cy="22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51080" y="1266840"/>
            <a:ext cx="339480" cy="2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51080" y="1266840"/>
            <a:ext cx="339480" cy="22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325520" y="1244520"/>
            <a:ext cx="438120" cy="265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16120" y="1266840"/>
            <a:ext cx="36360" cy="33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68800" y="1487520"/>
            <a:ext cx="608040" cy="2221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76840" y="1487520"/>
            <a:ext cx="363600" cy="2221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68800" y="1523880"/>
            <a:ext cx="971640" cy="149400"/>
          </a:xfrm>
          <a:custGeom>
            <a:avLst/>
            <a:gdLst/>
            <a:ahLst/>
            <a:rect l="l" t="t" r="r" b="b"/>
            <a:pathLst>
              <a:path w="1224" h="186">
                <a:moveTo>
                  <a:pt x="0" y="186"/>
                </a:moveTo>
                <a:lnTo>
                  <a:pt x="727" y="186"/>
                </a:lnTo>
                <a:lnTo>
                  <a:pt x="727" y="0"/>
                </a:lnTo>
                <a:lnTo>
                  <a:pt x="0" y="0"/>
                </a:lnTo>
                <a:lnTo>
                  <a:pt x="0" y="186"/>
                </a:lnTo>
                <a:close/>
                <a:moveTo>
                  <a:pt x="808" y="186"/>
                </a:moveTo>
                <a:lnTo>
                  <a:pt x="1224" y="186"/>
                </a:lnTo>
                <a:lnTo>
                  <a:pt x="1224" y="0"/>
                </a:lnTo>
                <a:lnTo>
                  <a:pt x="808" y="0"/>
                </a:lnTo>
                <a:lnTo>
                  <a:pt x="808" y="186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99040" y="1496880"/>
            <a:ext cx="925560" cy="19080"/>
          </a:xfrm>
          <a:custGeom>
            <a:avLst/>
            <a:gdLst/>
            <a:ahLst/>
            <a:rect l="l" t="t" r="r" b="b"/>
            <a:pathLst>
              <a:path w="1167" h="24">
                <a:moveTo>
                  <a:pt x="1129" y="24"/>
                </a:moveTo>
                <a:lnTo>
                  <a:pt x="1167" y="24"/>
                </a:lnTo>
                <a:lnTo>
                  <a:pt x="1167" y="0"/>
                </a:lnTo>
                <a:lnTo>
                  <a:pt x="1129" y="0"/>
                </a:lnTo>
                <a:lnTo>
                  <a:pt x="1129" y="24"/>
                </a:lnTo>
                <a:close/>
                <a:moveTo>
                  <a:pt x="114" y="18"/>
                </a:moveTo>
                <a:lnTo>
                  <a:pt x="153" y="18"/>
                </a:lnTo>
                <a:lnTo>
                  <a:pt x="153" y="6"/>
                </a:lnTo>
                <a:lnTo>
                  <a:pt x="114" y="6"/>
                </a:lnTo>
                <a:lnTo>
                  <a:pt x="114" y="18"/>
                </a:lnTo>
                <a:close/>
                <a:moveTo>
                  <a:pt x="57" y="18"/>
                </a:moveTo>
                <a:lnTo>
                  <a:pt x="96" y="18"/>
                </a:lnTo>
                <a:lnTo>
                  <a:pt x="96" y="6"/>
                </a:lnTo>
                <a:lnTo>
                  <a:pt x="57" y="6"/>
                </a:lnTo>
                <a:lnTo>
                  <a:pt x="57" y="18"/>
                </a:lnTo>
                <a:close/>
                <a:moveTo>
                  <a:pt x="0" y="18"/>
                </a:moveTo>
                <a:lnTo>
                  <a:pt x="39" y="18"/>
                </a:lnTo>
                <a:lnTo>
                  <a:pt x="39" y="6"/>
                </a:lnTo>
                <a:lnTo>
                  <a:pt x="0" y="6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45160" y="1487520"/>
            <a:ext cx="1440" cy="222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807080" y="1487160"/>
            <a:ext cx="1440" cy="222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095800" y="1496880"/>
            <a:ext cx="28800" cy="19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89400" y="1501920"/>
            <a:ext cx="31680" cy="9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45120" y="1501920"/>
            <a:ext cx="29880" cy="9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99040" y="1501920"/>
            <a:ext cx="31680" cy="9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93160" y="1295280"/>
            <a:ext cx="88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066080" y="888840"/>
            <a:ext cx="909360" cy="665280"/>
          </a:xfrm>
          <a:custGeom>
            <a:avLst/>
            <a:gdLst/>
            <a:ahLst/>
            <a:rect l="l" t="t" r="r" b="b"/>
            <a:pathLst>
              <a:path w="1147" h="838">
                <a:moveTo>
                  <a:pt x="0" y="838"/>
                </a:moveTo>
                <a:lnTo>
                  <a:pt x="0" y="821"/>
                </a:lnTo>
                <a:lnTo>
                  <a:pt x="114" y="768"/>
                </a:lnTo>
                <a:lnTo>
                  <a:pt x="114" y="0"/>
                </a:lnTo>
                <a:lnTo>
                  <a:pt x="421" y="0"/>
                </a:lnTo>
                <a:lnTo>
                  <a:pt x="421" y="768"/>
                </a:lnTo>
                <a:lnTo>
                  <a:pt x="545" y="821"/>
                </a:lnTo>
                <a:lnTo>
                  <a:pt x="545" y="838"/>
                </a:lnTo>
                <a:lnTo>
                  <a:pt x="0" y="838"/>
                </a:lnTo>
                <a:close/>
                <a:moveTo>
                  <a:pt x="458" y="720"/>
                </a:moveTo>
                <a:lnTo>
                  <a:pt x="566" y="720"/>
                </a:lnTo>
                <a:lnTo>
                  <a:pt x="685" y="750"/>
                </a:lnTo>
                <a:lnTo>
                  <a:pt x="685" y="810"/>
                </a:lnTo>
                <a:lnTo>
                  <a:pt x="566" y="810"/>
                </a:lnTo>
                <a:lnTo>
                  <a:pt x="566" y="838"/>
                </a:lnTo>
                <a:lnTo>
                  <a:pt x="1039" y="838"/>
                </a:lnTo>
                <a:lnTo>
                  <a:pt x="1039" y="810"/>
                </a:lnTo>
                <a:lnTo>
                  <a:pt x="922" y="810"/>
                </a:lnTo>
                <a:lnTo>
                  <a:pt x="922" y="750"/>
                </a:lnTo>
                <a:lnTo>
                  <a:pt x="1039" y="720"/>
                </a:lnTo>
                <a:lnTo>
                  <a:pt x="1147" y="720"/>
                </a:lnTo>
                <a:lnTo>
                  <a:pt x="1147" y="209"/>
                </a:lnTo>
                <a:lnTo>
                  <a:pt x="458" y="209"/>
                </a:lnTo>
                <a:lnTo>
                  <a:pt x="458" y="7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56440" y="149868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99440" y="149868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32760" y="1096920"/>
            <a:ext cx="90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216920" y="1027080"/>
            <a:ext cx="122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88120" y="915840"/>
            <a:ext cx="181080" cy="38916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66080" y="888840"/>
            <a:ext cx="431640" cy="665280"/>
          </a:xfrm>
          <a:custGeom>
            <a:avLst/>
            <a:gdLst/>
            <a:ahLst/>
            <a:rect l="l" t="t" r="r" b="b"/>
            <a:pathLst>
              <a:path w="545" h="838">
                <a:moveTo>
                  <a:pt x="0" y="838"/>
                </a:moveTo>
                <a:lnTo>
                  <a:pt x="0" y="821"/>
                </a:lnTo>
                <a:lnTo>
                  <a:pt x="114" y="768"/>
                </a:lnTo>
                <a:lnTo>
                  <a:pt x="114" y="0"/>
                </a:lnTo>
                <a:lnTo>
                  <a:pt x="421" y="0"/>
                </a:lnTo>
                <a:lnTo>
                  <a:pt x="421" y="768"/>
                </a:lnTo>
                <a:lnTo>
                  <a:pt x="545" y="821"/>
                </a:lnTo>
                <a:lnTo>
                  <a:pt x="545" y="838"/>
                </a:lnTo>
                <a:lnTo>
                  <a:pt x="0" y="8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29680" y="1054080"/>
            <a:ext cx="545760" cy="500040"/>
          </a:xfrm>
          <a:custGeom>
            <a:avLst/>
            <a:gdLst/>
            <a:ahLst/>
            <a:rect l="l" t="t" r="r" b="b"/>
            <a:pathLst>
              <a:path w="689" h="629">
                <a:moveTo>
                  <a:pt x="0" y="511"/>
                </a:moveTo>
                <a:lnTo>
                  <a:pt x="108" y="511"/>
                </a:lnTo>
                <a:lnTo>
                  <a:pt x="227" y="541"/>
                </a:lnTo>
                <a:lnTo>
                  <a:pt x="227" y="601"/>
                </a:lnTo>
                <a:lnTo>
                  <a:pt x="108" y="601"/>
                </a:lnTo>
                <a:lnTo>
                  <a:pt x="108" y="629"/>
                </a:lnTo>
                <a:lnTo>
                  <a:pt x="581" y="629"/>
                </a:lnTo>
                <a:lnTo>
                  <a:pt x="581" y="601"/>
                </a:lnTo>
                <a:lnTo>
                  <a:pt x="464" y="601"/>
                </a:lnTo>
                <a:lnTo>
                  <a:pt x="464" y="541"/>
                </a:lnTo>
                <a:lnTo>
                  <a:pt x="581" y="511"/>
                </a:lnTo>
                <a:lnTo>
                  <a:pt x="689" y="511"/>
                </a:lnTo>
                <a:lnTo>
                  <a:pt x="689" y="0"/>
                </a:lnTo>
                <a:lnTo>
                  <a:pt x="0" y="0"/>
                </a:lnTo>
                <a:lnTo>
                  <a:pt x="0" y="51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10400" y="1531800"/>
            <a:ext cx="1875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10400" y="1484280"/>
            <a:ext cx="1875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15360" y="1460520"/>
            <a:ext cx="3762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80200" y="1333440"/>
            <a:ext cx="196920" cy="179280"/>
          </a:xfrm>
          <a:custGeom>
            <a:avLst/>
            <a:gdLst/>
            <a:ahLst/>
            <a:rect l="l" t="t" r="r" b="b"/>
            <a:pathLst>
              <a:path w="248" h="227">
                <a:moveTo>
                  <a:pt x="0" y="140"/>
                </a:moveTo>
                <a:lnTo>
                  <a:pt x="18" y="140"/>
                </a:lnTo>
                <a:lnTo>
                  <a:pt x="18" y="0"/>
                </a:lnTo>
                <a:lnTo>
                  <a:pt x="0" y="0"/>
                </a:lnTo>
                <a:lnTo>
                  <a:pt x="0" y="140"/>
                </a:lnTo>
                <a:close/>
                <a:moveTo>
                  <a:pt x="38" y="140"/>
                </a:moveTo>
                <a:lnTo>
                  <a:pt x="57" y="140"/>
                </a:lnTo>
                <a:lnTo>
                  <a:pt x="57" y="0"/>
                </a:lnTo>
                <a:lnTo>
                  <a:pt x="38" y="0"/>
                </a:lnTo>
                <a:lnTo>
                  <a:pt x="38" y="140"/>
                </a:lnTo>
                <a:close/>
                <a:moveTo>
                  <a:pt x="77" y="140"/>
                </a:moveTo>
                <a:lnTo>
                  <a:pt x="95" y="140"/>
                </a:lnTo>
                <a:lnTo>
                  <a:pt x="95" y="0"/>
                </a:lnTo>
                <a:lnTo>
                  <a:pt x="77" y="0"/>
                </a:lnTo>
                <a:lnTo>
                  <a:pt x="77" y="140"/>
                </a:lnTo>
                <a:close/>
                <a:moveTo>
                  <a:pt x="115" y="140"/>
                </a:moveTo>
                <a:lnTo>
                  <a:pt x="134" y="140"/>
                </a:lnTo>
                <a:lnTo>
                  <a:pt x="134" y="0"/>
                </a:lnTo>
                <a:lnTo>
                  <a:pt x="115" y="0"/>
                </a:lnTo>
                <a:lnTo>
                  <a:pt x="115" y="140"/>
                </a:lnTo>
                <a:close/>
                <a:moveTo>
                  <a:pt x="154" y="140"/>
                </a:moveTo>
                <a:lnTo>
                  <a:pt x="172" y="140"/>
                </a:lnTo>
                <a:lnTo>
                  <a:pt x="172" y="0"/>
                </a:lnTo>
                <a:lnTo>
                  <a:pt x="154" y="0"/>
                </a:lnTo>
                <a:lnTo>
                  <a:pt x="154" y="140"/>
                </a:lnTo>
                <a:close/>
                <a:moveTo>
                  <a:pt x="191" y="140"/>
                </a:moveTo>
                <a:lnTo>
                  <a:pt x="211" y="140"/>
                </a:lnTo>
                <a:lnTo>
                  <a:pt x="211" y="0"/>
                </a:lnTo>
                <a:lnTo>
                  <a:pt x="191" y="0"/>
                </a:lnTo>
                <a:lnTo>
                  <a:pt x="191" y="140"/>
                </a:lnTo>
                <a:close/>
                <a:moveTo>
                  <a:pt x="229" y="140"/>
                </a:moveTo>
                <a:lnTo>
                  <a:pt x="248" y="140"/>
                </a:lnTo>
                <a:lnTo>
                  <a:pt x="248" y="0"/>
                </a:lnTo>
                <a:lnTo>
                  <a:pt x="229" y="0"/>
                </a:lnTo>
                <a:lnTo>
                  <a:pt x="229" y="140"/>
                </a:lnTo>
                <a:close/>
                <a:moveTo>
                  <a:pt x="229" y="227"/>
                </a:moveTo>
                <a:lnTo>
                  <a:pt x="248" y="227"/>
                </a:lnTo>
                <a:lnTo>
                  <a:pt x="248" y="157"/>
                </a:lnTo>
                <a:lnTo>
                  <a:pt x="229" y="157"/>
                </a:lnTo>
                <a:lnTo>
                  <a:pt x="229" y="227"/>
                </a:lnTo>
                <a:close/>
                <a:moveTo>
                  <a:pt x="191" y="227"/>
                </a:moveTo>
                <a:lnTo>
                  <a:pt x="211" y="227"/>
                </a:lnTo>
                <a:lnTo>
                  <a:pt x="211" y="157"/>
                </a:lnTo>
                <a:lnTo>
                  <a:pt x="191" y="157"/>
                </a:lnTo>
                <a:lnTo>
                  <a:pt x="191" y="227"/>
                </a:lnTo>
                <a:close/>
                <a:moveTo>
                  <a:pt x="154" y="227"/>
                </a:moveTo>
                <a:lnTo>
                  <a:pt x="172" y="227"/>
                </a:lnTo>
                <a:lnTo>
                  <a:pt x="172" y="157"/>
                </a:lnTo>
                <a:lnTo>
                  <a:pt x="154" y="157"/>
                </a:lnTo>
                <a:lnTo>
                  <a:pt x="154" y="227"/>
                </a:lnTo>
                <a:close/>
                <a:moveTo>
                  <a:pt x="115" y="227"/>
                </a:moveTo>
                <a:lnTo>
                  <a:pt x="134" y="227"/>
                </a:lnTo>
                <a:lnTo>
                  <a:pt x="134" y="157"/>
                </a:lnTo>
                <a:lnTo>
                  <a:pt x="115" y="157"/>
                </a:lnTo>
                <a:lnTo>
                  <a:pt x="115" y="227"/>
                </a:lnTo>
                <a:close/>
                <a:moveTo>
                  <a:pt x="77" y="227"/>
                </a:moveTo>
                <a:lnTo>
                  <a:pt x="95" y="227"/>
                </a:lnTo>
                <a:lnTo>
                  <a:pt x="95" y="157"/>
                </a:lnTo>
                <a:lnTo>
                  <a:pt x="77" y="157"/>
                </a:lnTo>
                <a:lnTo>
                  <a:pt x="77" y="227"/>
                </a:lnTo>
                <a:close/>
                <a:moveTo>
                  <a:pt x="38" y="227"/>
                </a:moveTo>
                <a:lnTo>
                  <a:pt x="57" y="227"/>
                </a:lnTo>
                <a:lnTo>
                  <a:pt x="57" y="157"/>
                </a:lnTo>
                <a:lnTo>
                  <a:pt x="38" y="157"/>
                </a:lnTo>
                <a:lnTo>
                  <a:pt x="38" y="227"/>
                </a:lnTo>
                <a:close/>
                <a:moveTo>
                  <a:pt x="0" y="227"/>
                </a:moveTo>
                <a:lnTo>
                  <a:pt x="18" y="227"/>
                </a:lnTo>
                <a:lnTo>
                  <a:pt x="18" y="157"/>
                </a:lnTo>
                <a:lnTo>
                  <a:pt x="0" y="157"/>
                </a:lnTo>
                <a:lnTo>
                  <a:pt x="0" y="2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202520" y="930240"/>
            <a:ext cx="15228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02520" y="930240"/>
            <a:ext cx="152280" cy="14400"/>
          </a:xfrm>
          <a:custGeom>
            <a:avLst/>
            <a:gdLst/>
            <a:ahLst/>
            <a:rect l="l" t="t" r="r" b="b"/>
            <a:pathLst>
              <a:path w="193" h="18">
                <a:moveTo>
                  <a:pt x="0" y="0"/>
                </a:moveTo>
                <a:lnTo>
                  <a:pt x="20" y="18"/>
                </a:lnTo>
                <a:lnTo>
                  <a:pt x="173" y="18"/>
                </a:lnTo>
                <a:lnTo>
                  <a:pt x="193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02520" y="1000080"/>
            <a:ext cx="152280" cy="54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202520" y="1068480"/>
            <a:ext cx="15228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202520" y="1138320"/>
            <a:ext cx="15228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202520" y="1206360"/>
            <a:ext cx="152280" cy="57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80200" y="1333440"/>
            <a:ext cx="14400" cy="11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209000" y="1333440"/>
            <a:ext cx="15840" cy="11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40680" y="1333440"/>
            <a:ext cx="14040" cy="11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70920" y="1333440"/>
            <a:ext cx="15840" cy="11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300800" y="1333440"/>
            <a:ext cx="14400" cy="11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31040" y="1333440"/>
            <a:ext cx="15840" cy="11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61280" y="1333440"/>
            <a:ext cx="15840" cy="11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61280" y="1457280"/>
            <a:ext cx="1584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31040" y="1457280"/>
            <a:ext cx="1584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00800" y="1457280"/>
            <a:ext cx="1440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270920" y="1457280"/>
            <a:ext cx="1584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240680" y="1457280"/>
            <a:ext cx="1404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209000" y="1457280"/>
            <a:ext cx="1584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180200" y="1457280"/>
            <a:ext cx="1440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202520" y="944640"/>
            <a:ext cx="14400" cy="41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38960" y="944640"/>
            <a:ext cx="15840" cy="41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209000" y="1187280"/>
            <a:ext cx="982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209000" y="1176480"/>
            <a:ext cx="9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209000" y="1165320"/>
            <a:ext cx="9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09000" y="1155600"/>
            <a:ext cx="982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09000" y="1146240"/>
            <a:ext cx="9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78840" y="1012680"/>
            <a:ext cx="44280" cy="2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19880" y="1106640"/>
            <a:ext cx="22320" cy="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319880" y="1146240"/>
            <a:ext cx="22320" cy="4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19880" y="1160640"/>
            <a:ext cx="22320" cy="6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54720" y="1090440"/>
            <a:ext cx="704880" cy="354240"/>
          </a:xfrm>
          <a:custGeom>
            <a:avLst/>
            <a:gdLst/>
            <a:ahLst/>
            <a:rect l="l" t="t" r="r" b="b"/>
            <a:pathLst>
              <a:path w="888" h="448">
                <a:moveTo>
                  <a:pt x="0" y="17"/>
                </a:moveTo>
                <a:lnTo>
                  <a:pt x="59" y="17"/>
                </a:lnTo>
                <a:lnTo>
                  <a:pt x="59" y="0"/>
                </a:lnTo>
                <a:lnTo>
                  <a:pt x="0" y="0"/>
                </a:lnTo>
                <a:lnTo>
                  <a:pt x="0" y="17"/>
                </a:lnTo>
                <a:close/>
                <a:moveTo>
                  <a:pt x="855" y="448"/>
                </a:moveTo>
                <a:lnTo>
                  <a:pt x="888" y="448"/>
                </a:lnTo>
                <a:lnTo>
                  <a:pt x="888" y="437"/>
                </a:lnTo>
                <a:lnTo>
                  <a:pt x="855" y="437"/>
                </a:lnTo>
                <a:lnTo>
                  <a:pt x="855" y="448"/>
                </a:lnTo>
                <a:close/>
                <a:moveTo>
                  <a:pt x="328" y="349"/>
                </a:moveTo>
                <a:lnTo>
                  <a:pt x="328" y="54"/>
                </a:lnTo>
                <a:lnTo>
                  <a:pt x="801" y="54"/>
                </a:lnTo>
                <a:lnTo>
                  <a:pt x="801" y="349"/>
                </a:lnTo>
                <a:lnTo>
                  <a:pt x="328" y="349"/>
                </a:lnTo>
                <a:close/>
                <a:moveTo>
                  <a:pt x="307" y="369"/>
                </a:moveTo>
                <a:lnTo>
                  <a:pt x="823" y="369"/>
                </a:lnTo>
                <a:lnTo>
                  <a:pt x="823" y="35"/>
                </a:lnTo>
                <a:lnTo>
                  <a:pt x="845" y="35"/>
                </a:lnTo>
                <a:lnTo>
                  <a:pt x="845" y="15"/>
                </a:lnTo>
                <a:lnTo>
                  <a:pt x="286" y="15"/>
                </a:lnTo>
                <a:lnTo>
                  <a:pt x="286" y="390"/>
                </a:lnTo>
                <a:lnTo>
                  <a:pt x="307" y="390"/>
                </a:lnTo>
                <a:lnTo>
                  <a:pt x="307" y="3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54720" y="1090440"/>
            <a:ext cx="46080" cy="12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934400" y="1436760"/>
            <a:ext cx="25200" cy="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15360" y="1133640"/>
            <a:ext cx="376200" cy="233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481880" y="1101600"/>
            <a:ext cx="444600" cy="297000"/>
          </a:xfrm>
          <a:custGeom>
            <a:avLst/>
            <a:gdLst/>
            <a:ahLst/>
            <a:rect l="l" t="t" r="r" b="b"/>
            <a:pathLst>
              <a:path w="559" h="375">
                <a:moveTo>
                  <a:pt x="21" y="354"/>
                </a:moveTo>
                <a:lnTo>
                  <a:pt x="537" y="354"/>
                </a:lnTo>
                <a:lnTo>
                  <a:pt x="537" y="20"/>
                </a:lnTo>
                <a:lnTo>
                  <a:pt x="559" y="20"/>
                </a:lnTo>
                <a:lnTo>
                  <a:pt x="559" y="0"/>
                </a:lnTo>
                <a:lnTo>
                  <a:pt x="0" y="0"/>
                </a:lnTo>
                <a:lnTo>
                  <a:pt x="0" y="375"/>
                </a:lnTo>
                <a:lnTo>
                  <a:pt x="21" y="375"/>
                </a:lnTo>
                <a:lnTo>
                  <a:pt x="21" y="35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429680" y="1436760"/>
            <a:ext cx="272880" cy="23760"/>
          </a:xfrm>
          <a:custGeom>
            <a:avLst/>
            <a:gdLst/>
            <a:ahLst/>
            <a:rect l="l" t="t" r="r" b="b"/>
            <a:pathLst>
              <a:path w="345" h="30">
                <a:moveTo>
                  <a:pt x="0" y="0"/>
                </a:moveTo>
                <a:lnTo>
                  <a:pt x="345" y="0"/>
                </a:lnTo>
                <a:lnTo>
                  <a:pt x="345" y="3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7567560" y="1436760"/>
            <a:ext cx="1800" cy="23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48680" y="1635120"/>
            <a:ext cx="96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X On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761760" y="2895480"/>
            <a:ext cx="2438640" cy="398880"/>
            <a:chOff x="761760" y="2895480"/>
            <a:chExt cx="2438640" cy="398880"/>
          </a:xfrm>
        </p:grpSpPr>
        <p:sp>
          <p:nvSpPr>
            <p:cNvPr id="377" name=""/>
            <p:cNvSpPr/>
            <p:nvPr/>
          </p:nvSpPr>
          <p:spPr>
            <a:xfrm>
              <a:off x="761760" y="2895480"/>
              <a:ext cx="15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OL-St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38080" y="32767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58520" y="3630600"/>
            <a:ext cx="2586960" cy="407880"/>
            <a:chOff x="758520" y="3630600"/>
            <a:chExt cx="2586960" cy="407880"/>
          </a:xfrm>
        </p:grpSpPr>
        <p:sp>
          <p:nvSpPr>
            <p:cNvPr id="380" name=""/>
            <p:cNvSpPr/>
            <p:nvPr/>
          </p:nvSpPr>
          <p:spPr>
            <a:xfrm>
              <a:off x="762120" y="40384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8520" y="3630600"/>
              <a:ext cx="258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-Response/Id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5864400" y="4114800"/>
            <a:ext cx="2811240" cy="407880"/>
            <a:chOff x="5864400" y="4114800"/>
            <a:chExt cx="2811240" cy="407880"/>
          </a:xfrm>
        </p:grpSpPr>
        <p:sp>
          <p:nvSpPr>
            <p:cNvPr id="383" name=""/>
            <p:cNvSpPr/>
            <p:nvPr/>
          </p:nvSpPr>
          <p:spPr>
            <a:xfrm flipH="1">
              <a:off x="5943600" y="452268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64400" y="4114800"/>
              <a:ext cx="281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-Access-Challe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62120" y="4732200"/>
            <a:ext cx="2804040" cy="398880"/>
            <a:chOff x="762120" y="4732200"/>
            <a:chExt cx="2804040" cy="398880"/>
          </a:xfrm>
        </p:grpSpPr>
        <p:sp>
          <p:nvSpPr>
            <p:cNvPr id="386" name=""/>
            <p:cNvSpPr/>
            <p:nvPr/>
          </p:nvSpPr>
          <p:spPr>
            <a:xfrm>
              <a:off x="762120" y="510552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4280" y="4732200"/>
              <a:ext cx="28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-Respon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credential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1940040" y="1828800"/>
            <a:ext cx="4064760" cy="703800"/>
            <a:chOff x="1940040" y="1828800"/>
            <a:chExt cx="4064760" cy="703800"/>
          </a:xfrm>
        </p:grpSpPr>
        <p:sp>
          <p:nvSpPr>
            <p:cNvPr id="389" name=""/>
            <p:cNvSpPr/>
            <p:nvPr/>
          </p:nvSpPr>
          <p:spPr>
            <a:xfrm>
              <a:off x="4190400" y="2133720"/>
              <a:ext cx="18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ccess block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1940040" y="1828800"/>
              <a:ext cx="2361960" cy="407880"/>
              <a:chOff x="1940040" y="1828800"/>
              <a:chExt cx="2361960" cy="407880"/>
            </a:xfrm>
          </p:grpSpPr>
          <p:sp>
            <p:nvSpPr>
              <p:cNvPr id="391" name=""/>
              <p:cNvSpPr/>
              <p:nvPr/>
            </p:nvSpPr>
            <p:spPr>
              <a:xfrm>
                <a:off x="1940040" y="2236680"/>
                <a:ext cx="236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385000" y="1828800"/>
                <a:ext cx="13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Associ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5941440" y="5195880"/>
            <a:ext cx="2500200" cy="407880"/>
            <a:chOff x="5941440" y="5195880"/>
            <a:chExt cx="2500200" cy="407880"/>
          </a:xfrm>
        </p:grpSpPr>
        <p:sp>
          <p:nvSpPr>
            <p:cNvPr id="394" name=""/>
            <p:cNvSpPr/>
            <p:nvPr/>
          </p:nvSpPr>
          <p:spPr>
            <a:xfrm flipH="1">
              <a:off x="5962320" y="560376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41440" y="5195880"/>
              <a:ext cx="25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-Access-Ac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4876920" y="2514600"/>
            <a:ext cx="304560" cy="39625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362320" y="3276720"/>
            <a:ext cx="2666880" cy="398880"/>
            <a:chOff x="2362320" y="3276720"/>
            <a:chExt cx="2666880" cy="398880"/>
          </a:xfrm>
        </p:grpSpPr>
        <p:sp>
          <p:nvSpPr>
            <p:cNvPr id="398" name=""/>
            <p:cNvSpPr/>
            <p:nvPr/>
          </p:nvSpPr>
          <p:spPr>
            <a:xfrm>
              <a:off x="2435400" y="3276720"/>
              <a:ext cx="243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-Request/Id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362320" y="3657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362320" y="4257720"/>
            <a:ext cx="2666880" cy="390600"/>
            <a:chOff x="2362320" y="4257720"/>
            <a:chExt cx="2666880" cy="390600"/>
          </a:xfrm>
        </p:grpSpPr>
        <p:sp>
          <p:nvSpPr>
            <p:cNvPr id="401" name=""/>
            <p:cNvSpPr/>
            <p:nvPr/>
          </p:nvSpPr>
          <p:spPr>
            <a:xfrm>
              <a:off x="2385720" y="425772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AP-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2362320" y="464832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029200" y="3581280"/>
            <a:ext cx="2746080" cy="398880"/>
            <a:chOff x="5029200" y="3581280"/>
            <a:chExt cx="2746080" cy="398880"/>
          </a:xfrm>
        </p:grpSpPr>
        <p:sp>
          <p:nvSpPr>
            <p:cNvPr id="404" name=""/>
            <p:cNvSpPr/>
            <p:nvPr/>
          </p:nvSpPr>
          <p:spPr>
            <a:xfrm>
              <a:off x="5176080" y="3581280"/>
              <a:ext cx="259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-Access-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962520"/>
              <a:ext cx="21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029200" y="4670280"/>
            <a:ext cx="2763360" cy="435240"/>
            <a:chOff x="5029200" y="4670280"/>
            <a:chExt cx="2763360" cy="435240"/>
          </a:xfrm>
        </p:grpSpPr>
        <p:sp>
          <p:nvSpPr>
            <p:cNvPr id="407" name=""/>
            <p:cNvSpPr/>
            <p:nvPr/>
          </p:nvSpPr>
          <p:spPr>
            <a:xfrm>
              <a:off x="5193360" y="4670280"/>
              <a:ext cx="259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-Access-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029200" y="51055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7425720" y="26049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35720" y="28954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AP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740000">
            <a:off x="1898640" y="931680"/>
            <a:ext cx="2133720" cy="106668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796" y="187"/>
                </a:lnTo>
                <a:lnTo>
                  <a:pt x="672" y="331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85680" y="1828800"/>
            <a:ext cx="114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ptop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5280" y="1143000"/>
            <a:ext cx="5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7640" y="251460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838080" y="2438280"/>
            <a:ext cx="2362320" cy="398880"/>
            <a:chOff x="838080" y="2438280"/>
            <a:chExt cx="2362320" cy="398880"/>
          </a:xfrm>
        </p:grpSpPr>
        <p:sp>
          <p:nvSpPr>
            <p:cNvPr id="416" name=""/>
            <p:cNvSpPr/>
            <p:nvPr/>
          </p:nvSpPr>
          <p:spPr>
            <a:xfrm>
              <a:off x="911520" y="2438280"/>
              <a:ext cx="193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1 Associ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38080" y="281952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362320" y="5224320"/>
            <a:ext cx="4009320" cy="889560"/>
            <a:chOff x="2362320" y="5224320"/>
            <a:chExt cx="4009320" cy="889560"/>
          </a:xfrm>
        </p:grpSpPr>
        <p:grpSp>
          <p:nvGrpSpPr>
            <p:cNvPr id="419" name=""/>
            <p:cNvGrpSpPr/>
            <p:nvPr/>
          </p:nvGrpSpPr>
          <p:grpSpPr>
            <a:xfrm>
              <a:off x="2362320" y="5224320"/>
              <a:ext cx="2666880" cy="414360"/>
              <a:chOff x="2362320" y="5224320"/>
              <a:chExt cx="2666880" cy="414360"/>
            </a:xfrm>
          </p:grpSpPr>
          <p:sp>
            <p:nvSpPr>
              <p:cNvPr id="420" name=""/>
              <p:cNvSpPr/>
              <p:nvPr/>
            </p:nvSpPr>
            <p:spPr>
              <a:xfrm>
                <a:off x="2383920" y="5224320"/>
                <a:ext cx="15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AP-Succe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2362320" y="5638680"/>
                <a:ext cx="266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4570920" y="571500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ccess allow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362320" y="5791320"/>
            <a:ext cx="2666880" cy="398880"/>
            <a:chOff x="2362320" y="5791320"/>
            <a:chExt cx="2666880" cy="398880"/>
          </a:xfrm>
        </p:grpSpPr>
        <p:sp>
          <p:nvSpPr>
            <p:cNvPr id="424" name=""/>
            <p:cNvSpPr/>
            <p:nvPr/>
          </p:nvSpPr>
          <p:spPr>
            <a:xfrm flipH="1">
              <a:off x="2362320" y="61722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35760" y="5791320"/>
              <a:ext cx="218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W-Key (WE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38C6-3A3E-49B6-91C7-D13F880FDFD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-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points are allowed to force clients to re-associate at any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is 60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ient responses transparently to the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point sends WEP global key to client using 802.l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POW-Key message used to send global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347-D351-448D-B58F-EECA3D798B6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(no pre-authent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 Re-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X will re-authenticate but network access will be denied during re-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onal support for fast 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-access point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off per client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EAPOW-Key to updat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key pre-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d authentication using global WEP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succeeds then allow immediate access to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.e. 802.1X is put immediately into the authenticated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60D-E1DC-4026-9EF3-462CD2289B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uthenticated” VLAN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tential extension to IEEE 802.1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to enable access to a registration server, enrollment server, etc. prior to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P-Notification message can inform user of location of server to take credit card, enroll user, etc. prior to obtaining network acce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74A-3CE0-47B9-82BE-C3B29682527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X and Ad-Hoc Netwo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ad-hoc network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communicating directly with other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es ad-hoc networking work with 802.l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Stations initiate EAPOL conver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tations authenticate with each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mutual authentication required and algorithm to select authentic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US not used in ad-hoc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 implies that user credentials are stored on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2EF8-7F41-4CFA-839E-541EC186639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ment issues with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ation of IEEE 802.1X to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353-C0A3-4036-95A0-7790EA96F3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Management for  Ad-Hoc Netwo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word-based mutu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 ke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ion of existing EAP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-TLS: supports mutual authentication, keying, but assumes both participants have a 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-GSS: supports mutual authentication, assumes “server” side is in contact with K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X will work in adhoc mode if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d key is better for some user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eed new EAP method for this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3C3C-A516-4E0F-8DF7-DC7B8E34FE8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802.1X Addresses 802.11 Securit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dentification &amp; Stro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key der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-packet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ctionary attack preca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A2A-6EEA-46DD-8311-99F226CD1E0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802.11/802.1X Vulner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72960" y="2054160"/>
          <a:ext cx="8367840" cy="31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2054160"/>
                    <a:ext cx="836784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E71-D0B3-481D-AC41-B76EC5EAFCB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X offers solutions to 802.11 deployment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iden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ralized user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changes required to 802.11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itional MIB parameters for 802.1X/802.11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for dynamically derived WEP keys + mutual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for ad-hoc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-Point functions as RADIUS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s support for RFC 2138, 2139, draft-ietf-radius-ext-07.t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-Point functions as IEEE 802.1X authenticator P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es most WEP security vulner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7C3-13D4-47F5-A310-9A90A3E1BCA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to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changes required for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54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sent to destination MAC address for 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54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EAPOW-Key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 802.1X as an enhanced authentication and key management 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appropriate methods supported by 802.1X to be used for 802.11 authentication and key manag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changes to improve encryption, integrity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APP work needs to consider security impact re STA mobility between A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F0A-F261-4D24-9626-766B00E6118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ore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grouper.ieee.org/groups/802/1/pages/802.1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ietf.org/rfc/rfc2138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rfc/rfc2139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rfc/rfc2548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internet-drafts/draft-ietf-radius-radius-v2-06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internet-drafts/draft-ietf-radius-accounting-v2-05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internet-drafts/draft-ietf-radius-ext-07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internet-drafts/draft-ietf-radius-tunnel-auth-09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internet-drafts/draft-ietf-radius-tunnel-acct-05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rfc/rfc2284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ietf.org/rfc/rfc2716.t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E70-38C0-4BAE-A2DF-D04B384FA3C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ied Insecure Adhoc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, insecure adhoc networking sometimes desi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ren playing g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“plug and go” solution without security com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ppropriate in business sit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this be handled with 802.1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 assume network is un-authent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authenticated network will drop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s drop received EAP-Start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s think they are connected to a non-authenticated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hoc networking just wor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493-86F3-427E-9A21-4DEB77928E1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Incorporate 802.1X into 802.11 authentic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to add 802.1X support in 802.11 authentication 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s additional authentication type for 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s additional of new key management functionality in 802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ly to result in duplication of ef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icants supporting 802.1X need duplicate code for 802.11 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icant operating system sees 802.11 as 802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ires encapsulation/decapsulation in NIC driver to maintain transpar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changes required to 802.11 stat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X state machine needs to be merged with 802.11 state 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additional security over 802.1X over 802.11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ociate/disassociate not encrypted or integrity protected so no additional security provided by doing EAP w/key derivation prior to 802.11 Assoc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-authenticated VLANs cannot be supp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ice either authenticated or unauthenti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F185-7714-403B-B6AF-A20CEDC7778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loyment Issues With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with existing user administration tools required (RADIUS, LDAP-based directo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a Windows group for 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user or machine who is a member of the group has wireless acc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cation via User-Name easier to administer than MAC address iden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ge accounting and auditing desi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keys difficult to manage on clients, access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rietary key management solutions require separate user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C895-02ED-4B4C-9B51-025704C511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Issues With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er-packet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ulnerability to disassociation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ser identification and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entral authentication, authorization, accoun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4 stream cipher vulnerable to known plaintext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mplementations derive WEP keys from pass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upport for extended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ken cards, certificates, smartcards, one-time passwords, biometrics, etc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management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key of global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dynamic per-STA ke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E78-1FBA-4529-B05F-478ABA4E99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IEEE 802.1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standards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s existing standards: EAP (RFC 2284), RADIUS (RFC 2138, 213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interoperable user identification, centralized authentication, ke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-based iden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tion based on Network Access Identifier (RFC 2486) enables support for roaming access in public spaces (RFC 2607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ke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user 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for RADIUS (RFC 2138, 2139) enables centralized authentication, authorization and ac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DIUS/EAP (draft-ietf-radius-ext-07.txt) enables encapsulation of EAP packets within RADI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A74-E217-4F7D-A7E1-6F12061929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IEEE 802.1X,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ble authenticat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 designed to allow additional authentication methods to be deployed with no changes to the access point or client 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 2284 includes support for password authentication (EAP-MD5), One-Time Passwords (O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 2000 supports smartcard authentication (RFC 2716) and Security 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E3D-CD30-4385-888A-AD2AF54917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General 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219320" y="4638600"/>
            <a:ext cx="758520" cy="619200"/>
            <a:chOff x="1219320" y="4638600"/>
            <a:chExt cx="758520" cy="619200"/>
          </a:xfrm>
        </p:grpSpPr>
        <p:grpSp>
          <p:nvGrpSpPr>
            <p:cNvPr id="59" name=""/>
            <p:cNvGrpSpPr/>
            <p:nvPr/>
          </p:nvGrpSpPr>
          <p:grpSpPr>
            <a:xfrm>
              <a:off x="1219320" y="4638600"/>
              <a:ext cx="758520" cy="619200"/>
              <a:chOff x="1219320" y="4638600"/>
              <a:chExt cx="758520" cy="619200"/>
            </a:xfrm>
          </p:grpSpPr>
          <p:sp>
            <p:nvSpPr>
              <p:cNvPr id="60" name=""/>
              <p:cNvSpPr/>
              <p:nvPr/>
            </p:nvSpPr>
            <p:spPr>
              <a:xfrm>
                <a:off x="1222200" y="4680000"/>
                <a:ext cx="88920" cy="357120"/>
              </a:xfrm>
              <a:custGeom>
                <a:avLst/>
                <a:gdLst/>
                <a:ahLst/>
                <a:rect l="l" t="t" r="r" b="b"/>
                <a:pathLst>
                  <a:path w="56" h="225">
                    <a:moveTo>
                      <a:pt x="52" y="10"/>
                    </a:moveTo>
                    <a:lnTo>
                      <a:pt x="55" y="224"/>
                    </a:lnTo>
                    <a:lnTo>
                      <a:pt x="0" y="142"/>
                    </a:lnTo>
                    <a:lnTo>
                      <a:pt x="0" y="0"/>
                    </a:lnTo>
                    <a:lnTo>
                      <a:pt x="52" y="10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219320" y="4680000"/>
                <a:ext cx="412560" cy="27000"/>
              </a:xfrm>
              <a:custGeom>
                <a:avLst/>
                <a:gdLst/>
                <a:ahLst/>
                <a:rect l="l" t="t" r="r" b="b"/>
                <a:pathLst>
                  <a:path w="260" h="17">
                    <a:moveTo>
                      <a:pt x="259" y="16"/>
                    </a:moveTo>
                    <a:lnTo>
                      <a:pt x="53" y="16"/>
                    </a:lnTo>
                    <a:lnTo>
                      <a:pt x="0" y="0"/>
                    </a:lnTo>
                    <a:lnTo>
                      <a:pt x="202" y="0"/>
                    </a:lnTo>
                    <a:lnTo>
                      <a:pt x="259" y="16"/>
                    </a:lnTo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386000" y="5094360"/>
                <a:ext cx="396720" cy="34920"/>
              </a:xfrm>
              <a:custGeom>
                <a:avLst/>
                <a:gdLst/>
                <a:ahLst/>
                <a:rect l="l" t="t" r="r" b="b"/>
                <a:pathLst>
                  <a:path w="250" h="22">
                    <a:moveTo>
                      <a:pt x="0" y="21"/>
                    </a:moveTo>
                    <a:lnTo>
                      <a:pt x="249" y="21"/>
                    </a:lnTo>
                    <a:lnTo>
                      <a:pt x="249" y="0"/>
                    </a:lnTo>
                    <a:lnTo>
                      <a:pt x="0" y="0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14360" y="5024520"/>
                <a:ext cx="459000" cy="74520"/>
              </a:xfrm>
              <a:custGeom>
                <a:avLst/>
                <a:gdLst/>
                <a:ahLst/>
                <a:rect l="l" t="t" r="r" b="b"/>
                <a:pathLst>
                  <a:path w="289" h="47">
                    <a:moveTo>
                      <a:pt x="288" y="46"/>
                    </a:moveTo>
                    <a:lnTo>
                      <a:pt x="49" y="46"/>
                    </a:lnTo>
                    <a:lnTo>
                      <a:pt x="0" y="0"/>
                    </a:lnTo>
                    <a:lnTo>
                      <a:pt x="238" y="0"/>
                    </a:lnTo>
                    <a:lnTo>
                      <a:pt x="288" y="46"/>
                    </a:lnTo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16160" y="5021280"/>
                <a:ext cx="82440" cy="114480"/>
              </a:xfrm>
              <a:custGeom>
                <a:avLst/>
                <a:gdLst/>
                <a:ahLst/>
                <a:rect l="l" t="t" r="r" b="b"/>
                <a:pathLst>
                  <a:path w="52" h="72">
                    <a:moveTo>
                      <a:pt x="51" y="46"/>
                    </a:moveTo>
                    <a:lnTo>
                      <a:pt x="51" y="7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51" y="46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278000" y="4638600"/>
                <a:ext cx="527040" cy="58680"/>
              </a:xfrm>
              <a:custGeom>
                <a:avLst/>
                <a:gdLst/>
                <a:ahLst/>
                <a:rect l="l" t="t" r="r" b="b"/>
                <a:pathLst>
                  <a:path w="332" h="37">
                    <a:moveTo>
                      <a:pt x="331" y="36"/>
                    </a:moveTo>
                    <a:lnTo>
                      <a:pt x="35" y="36"/>
                    </a:lnTo>
                    <a:lnTo>
                      <a:pt x="0" y="0"/>
                    </a:lnTo>
                    <a:lnTo>
                      <a:pt x="291" y="0"/>
                    </a:lnTo>
                    <a:lnTo>
                      <a:pt x="331" y="3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279440" y="4638600"/>
                <a:ext cx="58680" cy="432000"/>
              </a:xfrm>
              <a:custGeom>
                <a:avLst/>
                <a:gdLst/>
                <a:ahLst/>
                <a:rect l="l" t="t" r="r" b="b"/>
                <a:pathLst>
                  <a:path w="37" h="272">
                    <a:moveTo>
                      <a:pt x="36" y="31"/>
                    </a:moveTo>
                    <a:lnTo>
                      <a:pt x="36" y="271"/>
                    </a:lnTo>
                    <a:lnTo>
                      <a:pt x="0" y="236"/>
                    </a:lnTo>
                    <a:lnTo>
                      <a:pt x="0" y="0"/>
                    </a:lnTo>
                    <a:lnTo>
                      <a:pt x="36" y="31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32000" y="4691160"/>
                <a:ext cx="469800" cy="379440"/>
              </a:xfrm>
              <a:custGeom>
                <a:avLst/>
                <a:gdLst/>
                <a:ahLst/>
                <a:rect l="l" t="t" r="r" b="b"/>
                <a:pathLst>
                  <a:path w="296" h="239">
                    <a:moveTo>
                      <a:pt x="0" y="238"/>
                    </a:moveTo>
                    <a:lnTo>
                      <a:pt x="295" y="238"/>
                    </a:lnTo>
                    <a:lnTo>
                      <a:pt x="295" y="0"/>
                    </a:lnTo>
                    <a:lnTo>
                      <a:pt x="0" y="0"/>
                    </a:lnTo>
                    <a:lnTo>
                      <a:pt x="0" y="238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220760" y="5106960"/>
                <a:ext cx="95400" cy="150840"/>
              </a:xfrm>
              <a:custGeom>
                <a:avLst/>
                <a:gdLst/>
                <a:ahLst/>
                <a:rect l="l" t="t" r="r" b="b"/>
                <a:pathLst>
                  <a:path w="60" h="95">
                    <a:moveTo>
                      <a:pt x="59" y="75"/>
                    </a:moveTo>
                    <a:lnTo>
                      <a:pt x="59" y="94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59" y="75"/>
                    </a:lnTo>
                  </a:path>
                </a:pathLst>
              </a:custGeom>
              <a:solidFill>
                <a:srgbClr val="7d7c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09680" y="5224320"/>
                <a:ext cx="668160" cy="30240"/>
              </a:xfrm>
              <a:custGeom>
                <a:avLst/>
                <a:gdLst/>
                <a:ahLst/>
                <a:rect l="l" t="t" r="r" b="b"/>
                <a:pathLst>
                  <a:path w="421" h="19">
                    <a:moveTo>
                      <a:pt x="0" y="18"/>
                    </a:moveTo>
                    <a:lnTo>
                      <a:pt x="420" y="18"/>
                    </a:lnTo>
                    <a:lnTo>
                      <a:pt x="420" y="0"/>
                    </a:lnTo>
                    <a:lnTo>
                      <a:pt x="0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1384200" y="4729320"/>
                <a:ext cx="373320" cy="295200"/>
                <a:chOff x="1384200" y="4729320"/>
                <a:chExt cx="373320" cy="2952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384200" y="4732200"/>
                  <a:ext cx="373320" cy="289080"/>
                </a:xfrm>
                <a:custGeom>
                  <a:avLst/>
                  <a:gdLst/>
                  <a:ahLst/>
                  <a:rect l="l" t="t" r="r" b="b"/>
                  <a:pathLst>
                    <a:path w="235" h="182">
                      <a:moveTo>
                        <a:pt x="0" y="0"/>
                      </a:moveTo>
                      <a:lnTo>
                        <a:pt x="234" y="181"/>
                      </a:lnTo>
                      <a:lnTo>
                        <a:pt x="0" y="18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384200" y="4729320"/>
                  <a:ext cx="373320" cy="295200"/>
                </a:xfrm>
                <a:custGeom>
                  <a:avLst/>
                  <a:gdLst/>
                  <a:ahLst/>
                  <a:rect l="l" t="t" r="r" b="b"/>
                  <a:pathLst>
                    <a:path w="235" h="186">
                      <a:moveTo>
                        <a:pt x="0" y="0"/>
                      </a:moveTo>
                      <a:lnTo>
                        <a:pt x="234" y="0"/>
                      </a:lnTo>
                      <a:lnTo>
                        <a:pt x="234" y="18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594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"/>
              <p:cNvSpPr/>
              <p:nvPr/>
            </p:nvSpPr>
            <p:spPr>
              <a:xfrm>
                <a:off x="1219320" y="5110200"/>
                <a:ext cx="757080" cy="120600"/>
              </a:xfrm>
              <a:custGeom>
                <a:avLst/>
                <a:gdLst/>
                <a:ahLst/>
                <a:rect l="l" t="t" r="r" b="b"/>
                <a:pathLst>
                  <a:path w="477" h="76">
                    <a:moveTo>
                      <a:pt x="476" y="75"/>
                    </a:moveTo>
                    <a:lnTo>
                      <a:pt x="56" y="75"/>
                    </a:lnTo>
                    <a:lnTo>
                      <a:pt x="0" y="0"/>
                    </a:lnTo>
                    <a:lnTo>
                      <a:pt x="418" y="0"/>
                    </a:lnTo>
                    <a:lnTo>
                      <a:pt x="476" y="75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78000" y="4643640"/>
                <a:ext cx="0" cy="3729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400040" y="4743360"/>
              <a:ext cx="341280" cy="266760"/>
            </a:xfrm>
            <a:custGeom>
              <a:avLst/>
              <a:gdLst/>
              <a:ahLst/>
              <a:rect l="l" t="t" r="r" b="b"/>
              <a:pathLst>
                <a:path w="215" h="168">
                  <a:moveTo>
                    <a:pt x="0" y="167"/>
                  </a:moveTo>
                  <a:lnTo>
                    <a:pt x="214" y="167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0" y="167"/>
                  </a:lnTo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7777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038480" y="3537000"/>
            <a:ext cx="1074600" cy="425520"/>
            <a:chOff x="4038480" y="3537000"/>
            <a:chExt cx="1074600" cy="425520"/>
          </a:xfrm>
        </p:grpSpPr>
        <p:grpSp>
          <p:nvGrpSpPr>
            <p:cNvPr id="77" name=""/>
            <p:cNvGrpSpPr/>
            <p:nvPr/>
          </p:nvGrpSpPr>
          <p:grpSpPr>
            <a:xfrm>
              <a:off x="4038480" y="3537000"/>
              <a:ext cx="1074600" cy="425520"/>
              <a:chOff x="4038480" y="3537000"/>
              <a:chExt cx="1074600" cy="425520"/>
            </a:xfrm>
          </p:grpSpPr>
          <p:sp>
            <p:nvSpPr>
              <p:cNvPr id="78" name=""/>
              <p:cNvSpPr/>
              <p:nvPr/>
            </p:nvSpPr>
            <p:spPr>
              <a:xfrm>
                <a:off x="4038480" y="3537000"/>
                <a:ext cx="77760" cy="425520"/>
              </a:xfrm>
              <a:custGeom>
                <a:avLst/>
                <a:gdLst/>
                <a:ahLst/>
                <a:rect l="l" t="t" r="r" b="b"/>
                <a:pathLst>
                  <a:path w="49" h="268">
                    <a:moveTo>
                      <a:pt x="48" y="92"/>
                    </a:moveTo>
                    <a:lnTo>
                      <a:pt x="48" y="267"/>
                    </a:lnTo>
                    <a:lnTo>
                      <a:pt x="0" y="170"/>
                    </a:lnTo>
                    <a:lnTo>
                      <a:pt x="0" y="0"/>
                    </a:lnTo>
                    <a:lnTo>
                      <a:pt x="48" y="92"/>
                    </a:lnTo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109760" y="3699000"/>
                <a:ext cx="1000080" cy="249120"/>
              </a:xfrm>
              <a:custGeom>
                <a:avLst/>
                <a:gdLst/>
                <a:ahLst/>
                <a:rect l="l" t="t" r="r" b="b"/>
                <a:pathLst>
                  <a:path w="630" h="157">
                    <a:moveTo>
                      <a:pt x="0" y="156"/>
                    </a:moveTo>
                    <a:lnTo>
                      <a:pt x="629" y="156"/>
                    </a:lnTo>
                    <a:lnTo>
                      <a:pt x="629" y="0"/>
                    </a:lnTo>
                    <a:lnTo>
                      <a:pt x="0" y="0"/>
                    </a:lnTo>
                    <a:lnTo>
                      <a:pt x="0" y="15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8100000"/>
              </a:gradFill>
              <a:ln cap="rnd" w="12600">
                <a:solidFill>
                  <a:srgbClr val="86868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046400" y="3543480"/>
                <a:ext cx="1066680" cy="153720"/>
              </a:xfrm>
              <a:custGeom>
                <a:avLst/>
                <a:gdLst/>
                <a:ahLst/>
                <a:rect l="l" t="t" r="r" b="b"/>
                <a:pathLst>
                  <a:path w="672" h="97">
                    <a:moveTo>
                      <a:pt x="671" y="96"/>
                    </a:moveTo>
                    <a:lnTo>
                      <a:pt x="40" y="96"/>
                    </a:lnTo>
                    <a:lnTo>
                      <a:pt x="0" y="0"/>
                    </a:lnTo>
                    <a:lnTo>
                      <a:pt x="628" y="0"/>
                    </a:lnTo>
                    <a:lnTo>
                      <a:pt x="671" y="96"/>
                    </a:lnTo>
                  </a:path>
                </a:pathLst>
              </a:custGeom>
              <a:gradFill rotWithShape="0">
                <a:gsLst>
                  <a:gs pos="0">
                    <a:srgbClr val="d6d6d1"/>
                  </a:gs>
                  <a:gs pos="100000">
                    <a:srgbClr val="7d7c6b"/>
                  </a:gs>
                </a:gsLst>
                <a:lin ang="13500000"/>
              </a:gradFill>
              <a:ln cap="rnd" w="12600">
                <a:solidFill>
                  <a:srgbClr val="86868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144680" y="3776760"/>
                <a:ext cx="168120" cy="66600"/>
              </a:xfrm>
              <a:custGeom>
                <a:avLst/>
                <a:gdLst/>
                <a:ahLst/>
                <a:rect l="l" t="t" r="r" b="b"/>
                <a:pathLst>
                  <a:path w="106" h="42">
                    <a:moveTo>
                      <a:pt x="0" y="0"/>
                    </a:moveTo>
                    <a:lnTo>
                      <a:pt x="105" y="0"/>
                    </a:lnTo>
                    <a:lnTo>
                      <a:pt x="105" y="41"/>
                    </a:lnTo>
                    <a:lnTo>
                      <a:pt x="0" y="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32080" y="3745080"/>
                <a:ext cx="50760" cy="88920"/>
              </a:xfrm>
              <a:custGeom>
                <a:avLst/>
                <a:gdLst/>
                <a:ahLst/>
                <a:rect l="l" t="t" r="r" b="b"/>
                <a:pathLst>
                  <a:path w="32" h="56">
                    <a:moveTo>
                      <a:pt x="0" y="0"/>
                    </a:moveTo>
                    <a:lnTo>
                      <a:pt x="31" y="0"/>
                    </a:lnTo>
                    <a:lnTo>
                      <a:pt x="31" y="55"/>
                    </a:lnTo>
                    <a:lnTo>
                      <a:pt x="0" y="5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827240" y="3848040"/>
                <a:ext cx="268200" cy="60480"/>
              </a:xfrm>
              <a:prstGeom prst="rect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4143240" y="3855960"/>
                <a:ext cx="645840" cy="57240"/>
                <a:chOff x="4143240" y="3855960"/>
                <a:chExt cx="645840" cy="572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4143240" y="3855960"/>
                  <a:ext cx="298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21920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296960" y="3855960"/>
                  <a:ext cx="2880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371840" y="3855960"/>
                  <a:ext cx="3312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44960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527360" y="3855960"/>
                  <a:ext cx="316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603320" y="3855960"/>
                  <a:ext cx="334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82880" y="3855960"/>
                  <a:ext cx="3024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759200" y="3855960"/>
                  <a:ext cx="29880" cy="57240"/>
                </a:xfrm>
                <a:prstGeom prst="ellipse">
                  <a:avLst/>
                </a:prstGeom>
                <a:solidFill>
                  <a:srgbClr val="322d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4190760" y="3711600"/>
              <a:ext cx="844560" cy="192240"/>
            </a:xfrm>
            <a:prstGeom prst="roundRect">
              <a:avLst>
                <a:gd name="adj" fmla="val 1249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114800" y="4114800"/>
            <a:ext cx="17845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e.g. Access Po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53244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li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91120" y="205740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43360" y="2057400"/>
            <a:ext cx="2190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79480" y="2057400"/>
            <a:ext cx="24465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i-Public Network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erprise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29320" y="3598920"/>
            <a:ext cx="147168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hentication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273800" y="2286000"/>
            <a:ext cx="345960" cy="812520"/>
            <a:chOff x="7273800" y="2286000"/>
            <a:chExt cx="345960" cy="812520"/>
          </a:xfrm>
        </p:grpSpPr>
        <p:sp>
          <p:nvSpPr>
            <p:cNvPr id="102" name=""/>
            <p:cNvSpPr/>
            <p:nvPr/>
          </p:nvSpPr>
          <p:spPr>
            <a:xfrm>
              <a:off x="7273800" y="2289240"/>
              <a:ext cx="83880" cy="803160"/>
            </a:xfrm>
            <a:custGeom>
              <a:avLst/>
              <a:gdLst/>
              <a:ahLst/>
              <a:rect l="l" t="t" r="r" b="b"/>
              <a:pathLst>
                <a:path w="53" h="506">
                  <a:moveTo>
                    <a:pt x="52" y="41"/>
                  </a:moveTo>
                  <a:lnTo>
                    <a:pt x="52" y="505"/>
                  </a:lnTo>
                  <a:lnTo>
                    <a:pt x="0" y="463"/>
                  </a:lnTo>
                  <a:lnTo>
                    <a:pt x="0" y="0"/>
                  </a:lnTo>
                  <a:lnTo>
                    <a:pt x="52" y="41"/>
                  </a:lnTo>
                </a:path>
              </a:pathLst>
            </a:custGeom>
            <a:solidFill>
              <a:srgbClr val="7d7c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56240" y="2351160"/>
              <a:ext cx="263520" cy="747360"/>
            </a:xfrm>
            <a:custGeom>
              <a:avLst/>
              <a:gdLst/>
              <a:ahLst/>
              <a:rect l="l" t="t" r="r" b="b"/>
              <a:pathLst>
                <a:path w="166" h="471">
                  <a:moveTo>
                    <a:pt x="0" y="470"/>
                  </a:moveTo>
                  <a:lnTo>
                    <a:pt x="165" y="470"/>
                  </a:lnTo>
                  <a:lnTo>
                    <a:pt x="165" y="0"/>
                  </a:lnTo>
                  <a:lnTo>
                    <a:pt x="0" y="0"/>
                  </a:lnTo>
                  <a:lnTo>
                    <a:pt x="0" y="470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81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57836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3876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8800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7441920" y="301464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7399080" y="3016080"/>
              <a:ext cx="0" cy="7776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79920" y="2286000"/>
              <a:ext cx="339840" cy="71280"/>
            </a:xfrm>
            <a:custGeom>
              <a:avLst/>
              <a:gdLst/>
              <a:ahLst/>
              <a:rect l="l" t="t" r="r" b="b"/>
              <a:pathLst>
                <a:path w="214" h="45">
                  <a:moveTo>
                    <a:pt x="213" y="44"/>
                  </a:moveTo>
                  <a:lnTo>
                    <a:pt x="47" y="44"/>
                  </a:lnTo>
                  <a:lnTo>
                    <a:pt x="0" y="0"/>
                  </a:lnTo>
                  <a:lnTo>
                    <a:pt x="165" y="0"/>
                  </a:lnTo>
                  <a:lnTo>
                    <a:pt x="213" y="44"/>
                  </a:lnTo>
                </a:path>
              </a:pathLst>
            </a:custGeom>
            <a:gradFill rotWithShape="0">
              <a:gsLst>
                <a:gs pos="0">
                  <a:srgbClr val="d6d6d1"/>
                </a:gs>
                <a:gs pos="100000">
                  <a:srgbClr val="7d7c6b"/>
                </a:gs>
              </a:gsLst>
              <a:lin ang="13500000"/>
            </a:gradFill>
            <a:ln cap="rnd" w="12600">
              <a:solidFill>
                <a:srgbClr val="8686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381440" y="2419200"/>
              <a:ext cx="98640" cy="190440"/>
              <a:chOff x="7381440" y="2419200"/>
              <a:chExt cx="98640" cy="1904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7386480" y="2423880"/>
                <a:ext cx="93600" cy="185760"/>
                <a:chOff x="7386480" y="2423880"/>
                <a:chExt cx="93600" cy="1857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38648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386480" y="2423880"/>
                  <a:ext cx="93600" cy="185760"/>
                </a:xfrm>
                <a:custGeom>
                  <a:avLst/>
                  <a:gdLst/>
                  <a:ahLst/>
                  <a:rect l="l" t="t" r="r" b="b"/>
                  <a:pathLst>
                    <a:path w="59" h="117">
                      <a:moveTo>
                        <a:pt x="0" y="116"/>
                      </a:moveTo>
                      <a:lnTo>
                        <a:pt x="58" y="116"/>
                      </a:lnTo>
                      <a:lnTo>
                        <a:pt x="58" y="0"/>
                      </a:lnTo>
                      <a:lnTo>
                        <a:pt x="0" y="0"/>
                      </a:lnTo>
                      <a:lnTo>
                        <a:pt x="0" y="116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381440" y="2419200"/>
                <a:ext cx="98640" cy="190440"/>
                <a:chOff x="7381440" y="2419200"/>
                <a:chExt cx="98640" cy="1904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738144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solidFill>
                  <a:srgbClr val="5249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381440" y="2419200"/>
                  <a:ext cx="98640" cy="190440"/>
                </a:xfrm>
                <a:custGeom>
                  <a:avLst/>
                  <a:gdLst/>
                  <a:ahLst/>
                  <a:rect l="l" t="t" r="r" b="b"/>
                  <a:pathLst>
                    <a:path w="62" h="120">
                      <a:moveTo>
                        <a:pt x="0" y="119"/>
                      </a:moveTo>
                      <a:lnTo>
                        <a:pt x="61" y="119"/>
                      </a:lnTo>
                      <a:lnTo>
                        <a:pt x="61" y="0"/>
                      </a:lnTo>
                      <a:lnTo>
                        <a:pt x="0" y="0"/>
                      </a:lnTo>
                      <a:lnTo>
                        <a:pt x="0" y="119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7" name=""/>
            <p:cNvSpPr/>
            <p:nvPr/>
          </p:nvSpPr>
          <p:spPr>
            <a:xfrm>
              <a:off x="7356240" y="26510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6240" y="268272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0920" y="2954160"/>
              <a:ext cx="25704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6240" y="3014640"/>
              <a:ext cx="261720" cy="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248520" y="3048120"/>
            <a:ext cx="865080" cy="279360"/>
            <a:chOff x="6248520" y="3048120"/>
            <a:chExt cx="865080" cy="279360"/>
          </a:xfrm>
        </p:grpSpPr>
        <p:grpSp>
          <p:nvGrpSpPr>
            <p:cNvPr id="122" name=""/>
            <p:cNvGrpSpPr/>
            <p:nvPr/>
          </p:nvGrpSpPr>
          <p:grpSpPr>
            <a:xfrm>
              <a:off x="6248520" y="3048120"/>
              <a:ext cx="865080" cy="279360"/>
              <a:chOff x="6248520" y="3048120"/>
              <a:chExt cx="865080" cy="279360"/>
            </a:xfrm>
          </p:grpSpPr>
          <p:sp>
            <p:nvSpPr>
              <p:cNvPr id="123" name=""/>
              <p:cNvSpPr/>
              <p:nvPr/>
            </p:nvSpPr>
            <p:spPr>
              <a:xfrm flipV="1">
                <a:off x="6629400" y="3048120"/>
                <a:ext cx="48420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248520" y="3098520"/>
                <a:ext cx="5335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H="1">
              <a:off x="6629400" y="309888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V="1">
            <a:off x="1752480" y="3809520"/>
            <a:ext cx="2133720" cy="685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29200" y="2666520"/>
            <a:ext cx="1981080" cy="838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37280" y="2286000"/>
            <a:ext cx="2016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0505000">
            <a:off x="1500120" y="3695400"/>
            <a:ext cx="332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 Over Wireless (EAPO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0350800">
            <a:off x="4952520" y="2819160"/>
            <a:ext cx="1839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P Over RADI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3429000"/>
            <a:ext cx="865080" cy="279360"/>
            <a:chOff x="5105520" y="3429000"/>
            <a:chExt cx="865080" cy="279360"/>
          </a:xfrm>
        </p:grpSpPr>
        <p:grpSp>
          <p:nvGrpSpPr>
            <p:cNvPr id="132" name=""/>
            <p:cNvGrpSpPr/>
            <p:nvPr/>
          </p:nvGrpSpPr>
          <p:grpSpPr>
            <a:xfrm>
              <a:off x="5105520" y="3429000"/>
              <a:ext cx="865080" cy="279360"/>
              <a:chOff x="5105520" y="3429000"/>
              <a:chExt cx="865080" cy="279360"/>
            </a:xfrm>
          </p:grpSpPr>
          <p:sp>
            <p:nvSpPr>
              <p:cNvPr id="133" name=""/>
              <p:cNvSpPr/>
              <p:nvPr/>
            </p:nvSpPr>
            <p:spPr>
              <a:xfrm flipV="1">
                <a:off x="5486400" y="3429000"/>
                <a:ext cx="484200" cy="27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5105520" y="3479400"/>
                <a:ext cx="5335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H="1">
              <a:off x="5486400" y="347976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715000" y="3200400"/>
            <a:ext cx="762120" cy="457200"/>
          </a:xfrm>
          <a:prstGeom prst="cloudCallout">
            <a:avLst>
              <a:gd name="adj1" fmla="val 8541"/>
              <a:gd name="adj2" fmla="val 36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472428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3657600"/>
            <a:ext cx="7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8800" y="4038480"/>
            <a:ext cx="2286000" cy="762120"/>
          </a:xfrm>
          <a:custGeom>
            <a:avLst/>
            <a:gdLst/>
            <a:ahLst/>
            <a:rect l="l" t="t" r="r" b="b"/>
            <a:pathLst>
              <a:path w="1440" h="480">
                <a:moveTo>
                  <a:pt x="0" y="480"/>
                </a:moveTo>
                <a:lnTo>
                  <a:pt x="796" y="187"/>
                </a:lnTo>
                <a:lnTo>
                  <a:pt x="672" y="331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C147-D6EF-496A-BE39-0AB1CD3B36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549760" y="1706400"/>
            <a:ext cx="1698840" cy="382680"/>
          </a:xfrm>
          <a:custGeom>
            <a:avLst/>
            <a:gdLst/>
            <a:ahLst/>
            <a:rect l="l" t="t" r="r" b="b"/>
            <a:pathLst>
              <a:path w="1070" h="241">
                <a:moveTo>
                  <a:pt x="1070" y="0"/>
                </a:moveTo>
                <a:lnTo>
                  <a:pt x="1070" y="238"/>
                </a:lnTo>
                <a:lnTo>
                  <a:pt x="0" y="24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2666880"/>
            <a:ext cx="3733560" cy="33530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2666880"/>
            <a:ext cx="4572000" cy="335304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60760" y="1995480"/>
            <a:ext cx="1165320" cy="177840"/>
          </a:xfrm>
          <a:custGeom>
            <a:avLst/>
            <a:gdLst/>
            <a:ahLst/>
            <a:rect l="l" t="t" r="r" b="b"/>
            <a:pathLst>
              <a:path w="1468" h="223">
                <a:moveTo>
                  <a:pt x="60" y="210"/>
                </a:moveTo>
                <a:lnTo>
                  <a:pt x="49" y="207"/>
                </a:lnTo>
                <a:lnTo>
                  <a:pt x="39" y="198"/>
                </a:lnTo>
                <a:lnTo>
                  <a:pt x="31" y="185"/>
                </a:lnTo>
                <a:lnTo>
                  <a:pt x="22" y="167"/>
                </a:lnTo>
                <a:lnTo>
                  <a:pt x="18" y="146"/>
                </a:lnTo>
                <a:lnTo>
                  <a:pt x="14" y="124"/>
                </a:lnTo>
                <a:lnTo>
                  <a:pt x="14" y="100"/>
                </a:lnTo>
                <a:lnTo>
                  <a:pt x="18" y="77"/>
                </a:lnTo>
                <a:lnTo>
                  <a:pt x="22" y="56"/>
                </a:lnTo>
                <a:lnTo>
                  <a:pt x="31" y="39"/>
                </a:lnTo>
                <a:lnTo>
                  <a:pt x="39" y="25"/>
                </a:lnTo>
                <a:lnTo>
                  <a:pt x="49" y="18"/>
                </a:lnTo>
                <a:lnTo>
                  <a:pt x="60" y="15"/>
                </a:lnTo>
                <a:lnTo>
                  <a:pt x="71" y="18"/>
                </a:lnTo>
                <a:lnTo>
                  <a:pt x="81" y="25"/>
                </a:lnTo>
                <a:lnTo>
                  <a:pt x="91" y="39"/>
                </a:lnTo>
                <a:lnTo>
                  <a:pt x="97" y="56"/>
                </a:lnTo>
                <a:lnTo>
                  <a:pt x="104" y="77"/>
                </a:lnTo>
                <a:lnTo>
                  <a:pt x="106" y="100"/>
                </a:lnTo>
                <a:lnTo>
                  <a:pt x="106" y="124"/>
                </a:lnTo>
                <a:lnTo>
                  <a:pt x="104" y="146"/>
                </a:lnTo>
                <a:lnTo>
                  <a:pt x="97" y="167"/>
                </a:lnTo>
                <a:lnTo>
                  <a:pt x="91" y="185"/>
                </a:lnTo>
                <a:lnTo>
                  <a:pt x="81" y="198"/>
                </a:lnTo>
                <a:lnTo>
                  <a:pt x="71" y="207"/>
                </a:lnTo>
                <a:lnTo>
                  <a:pt x="60" y="210"/>
                </a:lnTo>
                <a:close/>
                <a:moveTo>
                  <a:pt x="60" y="0"/>
                </a:moveTo>
                <a:lnTo>
                  <a:pt x="1406" y="0"/>
                </a:lnTo>
                <a:lnTo>
                  <a:pt x="1421" y="3"/>
                </a:lnTo>
                <a:lnTo>
                  <a:pt x="1434" y="12"/>
                </a:lnTo>
                <a:lnTo>
                  <a:pt x="1445" y="25"/>
                </a:lnTo>
                <a:lnTo>
                  <a:pt x="1455" y="41"/>
                </a:lnTo>
                <a:lnTo>
                  <a:pt x="1462" y="64"/>
                </a:lnTo>
                <a:lnTo>
                  <a:pt x="1467" y="88"/>
                </a:lnTo>
                <a:lnTo>
                  <a:pt x="1468" y="112"/>
                </a:lnTo>
                <a:lnTo>
                  <a:pt x="1467" y="137"/>
                </a:lnTo>
                <a:lnTo>
                  <a:pt x="1462" y="161"/>
                </a:lnTo>
                <a:lnTo>
                  <a:pt x="1455" y="182"/>
                </a:lnTo>
                <a:lnTo>
                  <a:pt x="1445" y="200"/>
                </a:lnTo>
                <a:lnTo>
                  <a:pt x="1434" y="213"/>
                </a:lnTo>
                <a:lnTo>
                  <a:pt x="1421" y="220"/>
                </a:lnTo>
                <a:lnTo>
                  <a:pt x="1406" y="223"/>
                </a:lnTo>
                <a:lnTo>
                  <a:pt x="60" y="223"/>
                </a:lnTo>
                <a:lnTo>
                  <a:pt x="47" y="220"/>
                </a:lnTo>
                <a:lnTo>
                  <a:pt x="34" y="213"/>
                </a:lnTo>
                <a:lnTo>
                  <a:pt x="22" y="200"/>
                </a:lnTo>
                <a:lnTo>
                  <a:pt x="13" y="182"/>
                </a:lnTo>
                <a:lnTo>
                  <a:pt x="4" y="161"/>
                </a:lnTo>
                <a:lnTo>
                  <a:pt x="1" y="137"/>
                </a:lnTo>
                <a:lnTo>
                  <a:pt x="0" y="112"/>
                </a:lnTo>
                <a:lnTo>
                  <a:pt x="1" y="88"/>
                </a:lnTo>
                <a:lnTo>
                  <a:pt x="4" y="64"/>
                </a:lnTo>
                <a:lnTo>
                  <a:pt x="13" y="41"/>
                </a:lnTo>
                <a:lnTo>
                  <a:pt x="22" y="25"/>
                </a:lnTo>
                <a:lnTo>
                  <a:pt x="34" y="12"/>
                </a:lnTo>
                <a:lnTo>
                  <a:pt x="47" y="3"/>
                </a:lnTo>
                <a:lnTo>
                  <a:pt x="6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71920" y="2006640"/>
            <a:ext cx="73080" cy="155520"/>
          </a:xfrm>
          <a:custGeom>
            <a:avLst/>
            <a:gdLst/>
            <a:ahLst/>
            <a:rect l="l" t="t" r="r" b="b"/>
            <a:pathLst>
              <a:path w="92" h="195">
                <a:moveTo>
                  <a:pt x="46" y="195"/>
                </a:moveTo>
                <a:lnTo>
                  <a:pt x="35" y="192"/>
                </a:lnTo>
                <a:lnTo>
                  <a:pt x="25" y="183"/>
                </a:lnTo>
                <a:lnTo>
                  <a:pt x="17" y="170"/>
                </a:lnTo>
                <a:lnTo>
                  <a:pt x="8" y="152"/>
                </a:lnTo>
                <a:lnTo>
                  <a:pt x="4" y="131"/>
                </a:lnTo>
                <a:lnTo>
                  <a:pt x="0" y="109"/>
                </a:lnTo>
                <a:lnTo>
                  <a:pt x="0" y="85"/>
                </a:lnTo>
                <a:lnTo>
                  <a:pt x="4" y="62"/>
                </a:lnTo>
                <a:lnTo>
                  <a:pt x="8" y="41"/>
                </a:lnTo>
                <a:lnTo>
                  <a:pt x="17" y="24"/>
                </a:lnTo>
                <a:lnTo>
                  <a:pt x="25" y="10"/>
                </a:lnTo>
                <a:lnTo>
                  <a:pt x="35" y="3"/>
                </a:lnTo>
                <a:lnTo>
                  <a:pt x="46" y="0"/>
                </a:lnTo>
                <a:lnTo>
                  <a:pt x="57" y="3"/>
                </a:lnTo>
                <a:lnTo>
                  <a:pt x="67" y="10"/>
                </a:lnTo>
                <a:lnTo>
                  <a:pt x="77" y="24"/>
                </a:lnTo>
                <a:lnTo>
                  <a:pt x="83" y="41"/>
                </a:lnTo>
                <a:lnTo>
                  <a:pt x="90" y="62"/>
                </a:lnTo>
                <a:lnTo>
                  <a:pt x="92" y="85"/>
                </a:lnTo>
                <a:lnTo>
                  <a:pt x="92" y="109"/>
                </a:lnTo>
                <a:lnTo>
                  <a:pt x="90" y="131"/>
                </a:lnTo>
                <a:lnTo>
                  <a:pt x="83" y="152"/>
                </a:lnTo>
                <a:lnTo>
                  <a:pt x="77" y="170"/>
                </a:lnTo>
                <a:lnTo>
                  <a:pt x="67" y="183"/>
                </a:lnTo>
                <a:lnTo>
                  <a:pt x="57" y="192"/>
                </a:lnTo>
                <a:lnTo>
                  <a:pt x="46" y="1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60760" y="1995480"/>
            <a:ext cx="1165320" cy="177840"/>
          </a:xfrm>
          <a:custGeom>
            <a:avLst/>
            <a:gdLst/>
            <a:ahLst/>
            <a:rect l="l" t="t" r="r" b="b"/>
            <a:pathLst>
              <a:path w="1468" h="223">
                <a:moveTo>
                  <a:pt x="60" y="0"/>
                </a:moveTo>
                <a:lnTo>
                  <a:pt x="1406" y="0"/>
                </a:lnTo>
                <a:lnTo>
                  <a:pt x="1421" y="3"/>
                </a:lnTo>
                <a:lnTo>
                  <a:pt x="1434" y="12"/>
                </a:lnTo>
                <a:lnTo>
                  <a:pt x="1445" y="25"/>
                </a:lnTo>
                <a:lnTo>
                  <a:pt x="1455" y="41"/>
                </a:lnTo>
                <a:lnTo>
                  <a:pt x="1462" y="64"/>
                </a:lnTo>
                <a:lnTo>
                  <a:pt x="1467" y="88"/>
                </a:lnTo>
                <a:lnTo>
                  <a:pt x="1468" y="112"/>
                </a:lnTo>
                <a:lnTo>
                  <a:pt x="1467" y="137"/>
                </a:lnTo>
                <a:lnTo>
                  <a:pt x="1462" y="161"/>
                </a:lnTo>
                <a:lnTo>
                  <a:pt x="1455" y="182"/>
                </a:lnTo>
                <a:lnTo>
                  <a:pt x="1445" y="200"/>
                </a:lnTo>
                <a:lnTo>
                  <a:pt x="1434" y="213"/>
                </a:lnTo>
                <a:lnTo>
                  <a:pt x="1421" y="220"/>
                </a:lnTo>
                <a:lnTo>
                  <a:pt x="1406" y="223"/>
                </a:lnTo>
                <a:lnTo>
                  <a:pt x="60" y="223"/>
                </a:lnTo>
                <a:lnTo>
                  <a:pt x="47" y="220"/>
                </a:lnTo>
                <a:lnTo>
                  <a:pt x="34" y="213"/>
                </a:lnTo>
                <a:lnTo>
                  <a:pt x="22" y="200"/>
                </a:lnTo>
                <a:lnTo>
                  <a:pt x="13" y="182"/>
                </a:lnTo>
                <a:lnTo>
                  <a:pt x="4" y="161"/>
                </a:lnTo>
                <a:lnTo>
                  <a:pt x="1" y="137"/>
                </a:lnTo>
                <a:lnTo>
                  <a:pt x="0" y="112"/>
                </a:lnTo>
                <a:lnTo>
                  <a:pt x="1" y="88"/>
                </a:lnTo>
                <a:lnTo>
                  <a:pt x="4" y="64"/>
                </a:lnTo>
                <a:lnTo>
                  <a:pt x="13" y="41"/>
                </a:lnTo>
                <a:lnTo>
                  <a:pt x="22" y="25"/>
                </a:lnTo>
                <a:lnTo>
                  <a:pt x="34" y="12"/>
                </a:lnTo>
                <a:lnTo>
                  <a:pt x="47" y="3"/>
                </a:lnTo>
                <a:lnTo>
                  <a:pt x="6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54440" y="1817640"/>
            <a:ext cx="389160" cy="266760"/>
          </a:xfrm>
          <a:custGeom>
            <a:avLst/>
            <a:gdLst/>
            <a:ahLst/>
            <a:rect l="l" t="t" r="r" b="b"/>
            <a:pathLst>
              <a:path w="490" h="336">
                <a:moveTo>
                  <a:pt x="0" y="0"/>
                </a:moveTo>
                <a:lnTo>
                  <a:pt x="0" y="336"/>
                </a:lnTo>
                <a:lnTo>
                  <a:pt x="490" y="33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49920" y="2084400"/>
            <a:ext cx="193680" cy="266760"/>
          </a:xfrm>
          <a:custGeom>
            <a:avLst/>
            <a:gdLst/>
            <a:ahLst/>
            <a:rect l="l" t="t" r="r" b="b"/>
            <a:pathLst>
              <a:path w="245" h="335">
                <a:moveTo>
                  <a:pt x="0" y="335"/>
                </a:moveTo>
                <a:lnTo>
                  <a:pt x="0" y="0"/>
                </a:lnTo>
                <a:lnTo>
                  <a:pt x="245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3600" y="2084400"/>
            <a:ext cx="193680" cy="266760"/>
          </a:xfrm>
          <a:custGeom>
            <a:avLst/>
            <a:gdLst/>
            <a:ahLst/>
            <a:rect l="l" t="t" r="r" b="b"/>
            <a:pathLst>
              <a:path w="245" h="335">
                <a:moveTo>
                  <a:pt x="245" y="335"/>
                </a:moveTo>
                <a:lnTo>
                  <a:pt x="245" y="0"/>
                </a:lnTo>
                <a:lnTo>
                  <a:pt x="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43600" y="1817640"/>
            <a:ext cx="1440" cy="266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30840" y="2084400"/>
            <a:ext cx="21276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043240" y="2084400"/>
            <a:ext cx="9684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69000" y="2025720"/>
            <a:ext cx="349200" cy="110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200" y="1981080"/>
            <a:ext cx="47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52440" y="1373040"/>
            <a:ext cx="584280" cy="533520"/>
          </a:xfrm>
          <a:custGeom>
            <a:avLst/>
            <a:gdLst/>
            <a:ahLst/>
            <a:rect l="l" t="t" r="r" b="b"/>
            <a:pathLst>
              <a:path w="734" h="671">
                <a:moveTo>
                  <a:pt x="62" y="392"/>
                </a:moveTo>
                <a:lnTo>
                  <a:pt x="62" y="0"/>
                </a:lnTo>
                <a:lnTo>
                  <a:pt x="674" y="0"/>
                </a:lnTo>
                <a:lnTo>
                  <a:pt x="674" y="392"/>
                </a:lnTo>
                <a:lnTo>
                  <a:pt x="734" y="616"/>
                </a:lnTo>
                <a:lnTo>
                  <a:pt x="734" y="671"/>
                </a:lnTo>
                <a:lnTo>
                  <a:pt x="0" y="671"/>
                </a:lnTo>
                <a:lnTo>
                  <a:pt x="0" y="616"/>
                </a:lnTo>
                <a:lnTo>
                  <a:pt x="62" y="39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01760" y="1685880"/>
            <a:ext cx="485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52440" y="1862280"/>
            <a:ext cx="5842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52440" y="1373040"/>
            <a:ext cx="584280" cy="533520"/>
          </a:xfrm>
          <a:custGeom>
            <a:avLst/>
            <a:gdLst/>
            <a:ahLst/>
            <a:rect l="l" t="t" r="r" b="b"/>
            <a:pathLst>
              <a:path w="734" h="671">
                <a:moveTo>
                  <a:pt x="62" y="392"/>
                </a:moveTo>
                <a:lnTo>
                  <a:pt x="62" y="0"/>
                </a:lnTo>
                <a:lnTo>
                  <a:pt x="674" y="0"/>
                </a:lnTo>
                <a:lnTo>
                  <a:pt x="674" y="392"/>
                </a:lnTo>
                <a:lnTo>
                  <a:pt x="734" y="616"/>
                </a:lnTo>
                <a:lnTo>
                  <a:pt x="734" y="671"/>
                </a:lnTo>
                <a:lnTo>
                  <a:pt x="0" y="671"/>
                </a:lnTo>
                <a:lnTo>
                  <a:pt x="0" y="616"/>
                </a:lnTo>
                <a:lnTo>
                  <a:pt x="62" y="39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78000" y="1717560"/>
            <a:ext cx="534960" cy="122400"/>
          </a:xfrm>
          <a:custGeom>
            <a:avLst/>
            <a:gdLst/>
            <a:ahLst/>
            <a:rect l="l" t="t" r="r" b="b"/>
            <a:pathLst>
              <a:path w="674" h="153">
                <a:moveTo>
                  <a:pt x="34" y="28"/>
                </a:moveTo>
                <a:lnTo>
                  <a:pt x="42" y="0"/>
                </a:lnTo>
                <a:lnTo>
                  <a:pt x="631" y="0"/>
                </a:lnTo>
                <a:lnTo>
                  <a:pt x="638" y="28"/>
                </a:lnTo>
                <a:lnTo>
                  <a:pt x="34" y="28"/>
                </a:lnTo>
                <a:close/>
                <a:moveTo>
                  <a:pt x="0" y="153"/>
                </a:moveTo>
                <a:lnTo>
                  <a:pt x="31" y="42"/>
                </a:lnTo>
                <a:lnTo>
                  <a:pt x="643" y="42"/>
                </a:lnTo>
                <a:lnTo>
                  <a:pt x="674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41600" y="1606680"/>
            <a:ext cx="171360" cy="288720"/>
          </a:xfrm>
          <a:custGeom>
            <a:avLst/>
            <a:gdLst/>
            <a:ahLst/>
            <a:rect l="l" t="t" r="r" b="b"/>
            <a:pathLst>
              <a:path w="215" h="363">
                <a:moveTo>
                  <a:pt x="93" y="13"/>
                </a:moveTo>
                <a:lnTo>
                  <a:pt x="94" y="6"/>
                </a:lnTo>
                <a:lnTo>
                  <a:pt x="102" y="0"/>
                </a:lnTo>
                <a:lnTo>
                  <a:pt x="112" y="0"/>
                </a:lnTo>
                <a:lnTo>
                  <a:pt x="120" y="6"/>
                </a:lnTo>
                <a:lnTo>
                  <a:pt x="122" y="13"/>
                </a:lnTo>
                <a:lnTo>
                  <a:pt x="120" y="22"/>
                </a:lnTo>
                <a:lnTo>
                  <a:pt x="112" y="26"/>
                </a:lnTo>
                <a:lnTo>
                  <a:pt x="102" y="26"/>
                </a:lnTo>
                <a:lnTo>
                  <a:pt x="94" y="22"/>
                </a:lnTo>
                <a:lnTo>
                  <a:pt x="93" y="13"/>
                </a:lnTo>
                <a:close/>
                <a:moveTo>
                  <a:pt x="0" y="363"/>
                </a:moveTo>
                <a:lnTo>
                  <a:pt x="215" y="363"/>
                </a:lnTo>
                <a:lnTo>
                  <a:pt x="215" y="335"/>
                </a:lnTo>
                <a:lnTo>
                  <a:pt x="0" y="335"/>
                </a:lnTo>
                <a:lnTo>
                  <a:pt x="0" y="3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16120" y="1606680"/>
            <a:ext cx="22320" cy="21960"/>
          </a:xfrm>
          <a:custGeom>
            <a:avLst/>
            <a:gdLst/>
            <a:ahLst/>
            <a:rect l="l" t="t" r="r" b="b"/>
            <a:pathLst>
              <a:path w="29" h="26">
                <a:moveTo>
                  <a:pt x="0" y="13"/>
                </a:moveTo>
                <a:lnTo>
                  <a:pt x="1" y="6"/>
                </a:lnTo>
                <a:lnTo>
                  <a:pt x="9" y="0"/>
                </a:lnTo>
                <a:lnTo>
                  <a:pt x="19" y="0"/>
                </a:lnTo>
                <a:lnTo>
                  <a:pt x="27" y="6"/>
                </a:lnTo>
                <a:lnTo>
                  <a:pt x="29" y="13"/>
                </a:lnTo>
                <a:lnTo>
                  <a:pt x="27" y="22"/>
                </a:lnTo>
                <a:lnTo>
                  <a:pt x="19" y="26"/>
                </a:lnTo>
                <a:lnTo>
                  <a:pt x="9" y="26"/>
                </a:lnTo>
                <a:lnTo>
                  <a:pt x="1" y="22"/>
                </a:lnTo>
                <a:lnTo>
                  <a:pt x="0" y="1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03520" y="1596960"/>
            <a:ext cx="48960" cy="4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41600" y="1873080"/>
            <a:ext cx="171360" cy="22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51080" y="1419120"/>
            <a:ext cx="339480" cy="2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51080" y="1419120"/>
            <a:ext cx="339480" cy="22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25520" y="1397160"/>
            <a:ext cx="438120" cy="264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16120" y="1419120"/>
            <a:ext cx="36360" cy="33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85680" y="1925640"/>
            <a:ext cx="114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ptop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68800" y="1639800"/>
            <a:ext cx="608040" cy="2224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76840" y="1639800"/>
            <a:ext cx="363600" cy="22248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68800" y="1676520"/>
            <a:ext cx="971640" cy="149040"/>
          </a:xfrm>
          <a:custGeom>
            <a:avLst/>
            <a:gdLst/>
            <a:ahLst/>
            <a:rect l="l" t="t" r="r" b="b"/>
            <a:pathLst>
              <a:path w="1224" h="186">
                <a:moveTo>
                  <a:pt x="0" y="186"/>
                </a:moveTo>
                <a:lnTo>
                  <a:pt x="727" y="186"/>
                </a:lnTo>
                <a:lnTo>
                  <a:pt x="727" y="0"/>
                </a:lnTo>
                <a:lnTo>
                  <a:pt x="0" y="0"/>
                </a:lnTo>
                <a:lnTo>
                  <a:pt x="0" y="186"/>
                </a:lnTo>
                <a:close/>
                <a:moveTo>
                  <a:pt x="808" y="186"/>
                </a:moveTo>
                <a:lnTo>
                  <a:pt x="1224" y="186"/>
                </a:lnTo>
                <a:lnTo>
                  <a:pt x="1224" y="0"/>
                </a:lnTo>
                <a:lnTo>
                  <a:pt x="808" y="0"/>
                </a:lnTo>
                <a:lnTo>
                  <a:pt x="808" y="186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9040" y="1649520"/>
            <a:ext cx="925560" cy="19080"/>
          </a:xfrm>
          <a:custGeom>
            <a:avLst/>
            <a:gdLst/>
            <a:ahLst/>
            <a:rect l="l" t="t" r="r" b="b"/>
            <a:pathLst>
              <a:path w="1167" h="24">
                <a:moveTo>
                  <a:pt x="1129" y="24"/>
                </a:moveTo>
                <a:lnTo>
                  <a:pt x="1167" y="24"/>
                </a:lnTo>
                <a:lnTo>
                  <a:pt x="1167" y="0"/>
                </a:lnTo>
                <a:lnTo>
                  <a:pt x="1129" y="0"/>
                </a:lnTo>
                <a:lnTo>
                  <a:pt x="1129" y="24"/>
                </a:lnTo>
                <a:close/>
                <a:moveTo>
                  <a:pt x="114" y="18"/>
                </a:moveTo>
                <a:lnTo>
                  <a:pt x="153" y="18"/>
                </a:lnTo>
                <a:lnTo>
                  <a:pt x="153" y="6"/>
                </a:lnTo>
                <a:lnTo>
                  <a:pt x="114" y="6"/>
                </a:lnTo>
                <a:lnTo>
                  <a:pt x="114" y="18"/>
                </a:lnTo>
                <a:close/>
                <a:moveTo>
                  <a:pt x="57" y="18"/>
                </a:moveTo>
                <a:lnTo>
                  <a:pt x="96" y="18"/>
                </a:lnTo>
                <a:lnTo>
                  <a:pt x="96" y="6"/>
                </a:lnTo>
                <a:lnTo>
                  <a:pt x="57" y="6"/>
                </a:lnTo>
                <a:lnTo>
                  <a:pt x="57" y="18"/>
                </a:lnTo>
                <a:close/>
                <a:moveTo>
                  <a:pt x="0" y="18"/>
                </a:moveTo>
                <a:lnTo>
                  <a:pt x="39" y="18"/>
                </a:lnTo>
                <a:lnTo>
                  <a:pt x="39" y="6"/>
                </a:lnTo>
                <a:lnTo>
                  <a:pt x="0" y="6"/>
                </a:lnTo>
                <a:lnTo>
                  <a:pt x="0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45160" y="1639800"/>
            <a:ext cx="1440" cy="222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7080" y="1639800"/>
            <a:ext cx="1440" cy="222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95800" y="1649520"/>
            <a:ext cx="28800" cy="19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89400" y="1654200"/>
            <a:ext cx="31680" cy="9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45120" y="1654200"/>
            <a:ext cx="29880" cy="9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99040" y="1654200"/>
            <a:ext cx="31680" cy="9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4600" y="144792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66080" y="1041480"/>
            <a:ext cx="909360" cy="664920"/>
          </a:xfrm>
          <a:custGeom>
            <a:avLst/>
            <a:gdLst/>
            <a:ahLst/>
            <a:rect l="l" t="t" r="r" b="b"/>
            <a:pathLst>
              <a:path w="1147" h="838">
                <a:moveTo>
                  <a:pt x="0" y="838"/>
                </a:moveTo>
                <a:lnTo>
                  <a:pt x="0" y="821"/>
                </a:lnTo>
                <a:lnTo>
                  <a:pt x="114" y="768"/>
                </a:lnTo>
                <a:lnTo>
                  <a:pt x="114" y="0"/>
                </a:lnTo>
                <a:lnTo>
                  <a:pt x="421" y="0"/>
                </a:lnTo>
                <a:lnTo>
                  <a:pt x="421" y="768"/>
                </a:lnTo>
                <a:lnTo>
                  <a:pt x="545" y="821"/>
                </a:lnTo>
                <a:lnTo>
                  <a:pt x="545" y="838"/>
                </a:lnTo>
                <a:lnTo>
                  <a:pt x="0" y="838"/>
                </a:lnTo>
                <a:close/>
                <a:moveTo>
                  <a:pt x="458" y="720"/>
                </a:moveTo>
                <a:lnTo>
                  <a:pt x="566" y="720"/>
                </a:lnTo>
                <a:lnTo>
                  <a:pt x="685" y="750"/>
                </a:lnTo>
                <a:lnTo>
                  <a:pt x="685" y="810"/>
                </a:lnTo>
                <a:lnTo>
                  <a:pt x="566" y="810"/>
                </a:lnTo>
                <a:lnTo>
                  <a:pt x="566" y="838"/>
                </a:lnTo>
                <a:lnTo>
                  <a:pt x="1039" y="838"/>
                </a:lnTo>
                <a:lnTo>
                  <a:pt x="1039" y="810"/>
                </a:lnTo>
                <a:lnTo>
                  <a:pt x="922" y="810"/>
                </a:lnTo>
                <a:lnTo>
                  <a:pt x="922" y="750"/>
                </a:lnTo>
                <a:lnTo>
                  <a:pt x="1039" y="720"/>
                </a:lnTo>
                <a:lnTo>
                  <a:pt x="1147" y="720"/>
                </a:lnTo>
                <a:lnTo>
                  <a:pt x="1147" y="209"/>
                </a:lnTo>
                <a:lnTo>
                  <a:pt x="458" y="209"/>
                </a:lnTo>
                <a:lnTo>
                  <a:pt x="458" y="7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56440" y="165096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9440" y="1650960"/>
            <a:ext cx="1440" cy="55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2760" y="1249200"/>
            <a:ext cx="903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16920" y="1179360"/>
            <a:ext cx="1220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88120" y="1068480"/>
            <a:ext cx="181080" cy="38880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66080" y="1041480"/>
            <a:ext cx="431640" cy="664920"/>
          </a:xfrm>
          <a:custGeom>
            <a:avLst/>
            <a:gdLst/>
            <a:ahLst/>
            <a:rect l="l" t="t" r="r" b="b"/>
            <a:pathLst>
              <a:path w="545" h="838">
                <a:moveTo>
                  <a:pt x="0" y="838"/>
                </a:moveTo>
                <a:lnTo>
                  <a:pt x="0" y="821"/>
                </a:lnTo>
                <a:lnTo>
                  <a:pt x="114" y="768"/>
                </a:lnTo>
                <a:lnTo>
                  <a:pt x="114" y="0"/>
                </a:lnTo>
                <a:lnTo>
                  <a:pt x="421" y="0"/>
                </a:lnTo>
                <a:lnTo>
                  <a:pt x="421" y="768"/>
                </a:lnTo>
                <a:lnTo>
                  <a:pt x="545" y="821"/>
                </a:lnTo>
                <a:lnTo>
                  <a:pt x="545" y="838"/>
                </a:lnTo>
                <a:lnTo>
                  <a:pt x="0" y="8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429680" y="1206360"/>
            <a:ext cx="545760" cy="500040"/>
          </a:xfrm>
          <a:custGeom>
            <a:avLst/>
            <a:gdLst/>
            <a:ahLst/>
            <a:rect l="l" t="t" r="r" b="b"/>
            <a:pathLst>
              <a:path w="689" h="629">
                <a:moveTo>
                  <a:pt x="0" y="511"/>
                </a:moveTo>
                <a:lnTo>
                  <a:pt x="108" y="511"/>
                </a:lnTo>
                <a:lnTo>
                  <a:pt x="227" y="541"/>
                </a:lnTo>
                <a:lnTo>
                  <a:pt x="227" y="601"/>
                </a:lnTo>
                <a:lnTo>
                  <a:pt x="108" y="601"/>
                </a:lnTo>
                <a:lnTo>
                  <a:pt x="108" y="629"/>
                </a:lnTo>
                <a:lnTo>
                  <a:pt x="581" y="629"/>
                </a:lnTo>
                <a:lnTo>
                  <a:pt x="581" y="601"/>
                </a:lnTo>
                <a:lnTo>
                  <a:pt x="464" y="601"/>
                </a:lnTo>
                <a:lnTo>
                  <a:pt x="464" y="541"/>
                </a:lnTo>
                <a:lnTo>
                  <a:pt x="581" y="511"/>
                </a:lnTo>
                <a:lnTo>
                  <a:pt x="689" y="511"/>
                </a:lnTo>
                <a:lnTo>
                  <a:pt x="689" y="0"/>
                </a:lnTo>
                <a:lnTo>
                  <a:pt x="0" y="0"/>
                </a:lnTo>
                <a:lnTo>
                  <a:pt x="0" y="51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10400" y="1684440"/>
            <a:ext cx="1875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10400" y="1636560"/>
            <a:ext cx="1875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15360" y="1612800"/>
            <a:ext cx="3762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80200" y="1486080"/>
            <a:ext cx="196920" cy="179280"/>
          </a:xfrm>
          <a:custGeom>
            <a:avLst/>
            <a:gdLst/>
            <a:ahLst/>
            <a:rect l="l" t="t" r="r" b="b"/>
            <a:pathLst>
              <a:path w="248" h="227">
                <a:moveTo>
                  <a:pt x="0" y="140"/>
                </a:moveTo>
                <a:lnTo>
                  <a:pt x="18" y="140"/>
                </a:lnTo>
                <a:lnTo>
                  <a:pt x="18" y="0"/>
                </a:lnTo>
                <a:lnTo>
                  <a:pt x="0" y="0"/>
                </a:lnTo>
                <a:lnTo>
                  <a:pt x="0" y="140"/>
                </a:lnTo>
                <a:close/>
                <a:moveTo>
                  <a:pt x="38" y="140"/>
                </a:moveTo>
                <a:lnTo>
                  <a:pt x="57" y="140"/>
                </a:lnTo>
                <a:lnTo>
                  <a:pt x="57" y="0"/>
                </a:lnTo>
                <a:lnTo>
                  <a:pt x="38" y="0"/>
                </a:lnTo>
                <a:lnTo>
                  <a:pt x="38" y="140"/>
                </a:lnTo>
                <a:close/>
                <a:moveTo>
                  <a:pt x="77" y="140"/>
                </a:moveTo>
                <a:lnTo>
                  <a:pt x="95" y="140"/>
                </a:lnTo>
                <a:lnTo>
                  <a:pt x="95" y="0"/>
                </a:lnTo>
                <a:lnTo>
                  <a:pt x="77" y="0"/>
                </a:lnTo>
                <a:lnTo>
                  <a:pt x="77" y="140"/>
                </a:lnTo>
                <a:close/>
                <a:moveTo>
                  <a:pt x="115" y="140"/>
                </a:moveTo>
                <a:lnTo>
                  <a:pt x="134" y="140"/>
                </a:lnTo>
                <a:lnTo>
                  <a:pt x="134" y="0"/>
                </a:lnTo>
                <a:lnTo>
                  <a:pt x="115" y="0"/>
                </a:lnTo>
                <a:lnTo>
                  <a:pt x="115" y="140"/>
                </a:lnTo>
                <a:close/>
                <a:moveTo>
                  <a:pt x="154" y="140"/>
                </a:moveTo>
                <a:lnTo>
                  <a:pt x="172" y="140"/>
                </a:lnTo>
                <a:lnTo>
                  <a:pt x="172" y="0"/>
                </a:lnTo>
                <a:lnTo>
                  <a:pt x="154" y="0"/>
                </a:lnTo>
                <a:lnTo>
                  <a:pt x="154" y="140"/>
                </a:lnTo>
                <a:close/>
                <a:moveTo>
                  <a:pt x="191" y="140"/>
                </a:moveTo>
                <a:lnTo>
                  <a:pt x="211" y="140"/>
                </a:lnTo>
                <a:lnTo>
                  <a:pt x="211" y="0"/>
                </a:lnTo>
                <a:lnTo>
                  <a:pt x="191" y="0"/>
                </a:lnTo>
                <a:lnTo>
                  <a:pt x="191" y="140"/>
                </a:lnTo>
                <a:close/>
                <a:moveTo>
                  <a:pt x="229" y="140"/>
                </a:moveTo>
                <a:lnTo>
                  <a:pt x="248" y="140"/>
                </a:lnTo>
                <a:lnTo>
                  <a:pt x="248" y="0"/>
                </a:lnTo>
                <a:lnTo>
                  <a:pt x="229" y="0"/>
                </a:lnTo>
                <a:lnTo>
                  <a:pt x="229" y="140"/>
                </a:lnTo>
                <a:close/>
                <a:moveTo>
                  <a:pt x="229" y="227"/>
                </a:moveTo>
                <a:lnTo>
                  <a:pt x="248" y="227"/>
                </a:lnTo>
                <a:lnTo>
                  <a:pt x="248" y="157"/>
                </a:lnTo>
                <a:lnTo>
                  <a:pt x="229" y="157"/>
                </a:lnTo>
                <a:lnTo>
                  <a:pt x="229" y="227"/>
                </a:lnTo>
                <a:close/>
                <a:moveTo>
                  <a:pt x="191" y="227"/>
                </a:moveTo>
                <a:lnTo>
                  <a:pt x="211" y="227"/>
                </a:lnTo>
                <a:lnTo>
                  <a:pt x="211" y="157"/>
                </a:lnTo>
                <a:lnTo>
                  <a:pt x="191" y="157"/>
                </a:lnTo>
                <a:lnTo>
                  <a:pt x="191" y="227"/>
                </a:lnTo>
                <a:close/>
                <a:moveTo>
                  <a:pt x="154" y="227"/>
                </a:moveTo>
                <a:lnTo>
                  <a:pt x="172" y="227"/>
                </a:lnTo>
                <a:lnTo>
                  <a:pt x="172" y="157"/>
                </a:lnTo>
                <a:lnTo>
                  <a:pt x="154" y="157"/>
                </a:lnTo>
                <a:lnTo>
                  <a:pt x="154" y="227"/>
                </a:lnTo>
                <a:close/>
                <a:moveTo>
                  <a:pt x="115" y="227"/>
                </a:moveTo>
                <a:lnTo>
                  <a:pt x="134" y="227"/>
                </a:lnTo>
                <a:lnTo>
                  <a:pt x="134" y="157"/>
                </a:lnTo>
                <a:lnTo>
                  <a:pt x="115" y="157"/>
                </a:lnTo>
                <a:lnTo>
                  <a:pt x="115" y="227"/>
                </a:lnTo>
                <a:close/>
                <a:moveTo>
                  <a:pt x="77" y="227"/>
                </a:moveTo>
                <a:lnTo>
                  <a:pt x="95" y="227"/>
                </a:lnTo>
                <a:lnTo>
                  <a:pt x="95" y="157"/>
                </a:lnTo>
                <a:lnTo>
                  <a:pt x="77" y="157"/>
                </a:lnTo>
                <a:lnTo>
                  <a:pt x="77" y="227"/>
                </a:lnTo>
                <a:close/>
                <a:moveTo>
                  <a:pt x="38" y="227"/>
                </a:moveTo>
                <a:lnTo>
                  <a:pt x="57" y="227"/>
                </a:lnTo>
                <a:lnTo>
                  <a:pt x="57" y="157"/>
                </a:lnTo>
                <a:lnTo>
                  <a:pt x="38" y="157"/>
                </a:lnTo>
                <a:lnTo>
                  <a:pt x="38" y="227"/>
                </a:lnTo>
                <a:close/>
                <a:moveTo>
                  <a:pt x="0" y="227"/>
                </a:moveTo>
                <a:lnTo>
                  <a:pt x="18" y="227"/>
                </a:lnTo>
                <a:lnTo>
                  <a:pt x="18" y="157"/>
                </a:lnTo>
                <a:lnTo>
                  <a:pt x="0" y="157"/>
                </a:lnTo>
                <a:lnTo>
                  <a:pt x="0" y="2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02520" y="1082520"/>
            <a:ext cx="152280" cy="5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02520" y="1082520"/>
            <a:ext cx="152280" cy="14400"/>
          </a:xfrm>
          <a:custGeom>
            <a:avLst/>
            <a:gdLst/>
            <a:ahLst/>
            <a:rect l="l" t="t" r="r" b="b"/>
            <a:pathLst>
              <a:path w="193" h="18">
                <a:moveTo>
                  <a:pt x="0" y="0"/>
                </a:moveTo>
                <a:lnTo>
                  <a:pt x="20" y="18"/>
                </a:lnTo>
                <a:lnTo>
                  <a:pt x="173" y="18"/>
                </a:lnTo>
                <a:lnTo>
                  <a:pt x="193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02520" y="1152360"/>
            <a:ext cx="152280" cy="54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202520" y="1220760"/>
            <a:ext cx="15228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02520" y="1290600"/>
            <a:ext cx="152280" cy="55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02520" y="1359000"/>
            <a:ext cx="152280" cy="56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80200" y="1486080"/>
            <a:ext cx="14400" cy="11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09000" y="1486080"/>
            <a:ext cx="15840" cy="11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40680" y="1486080"/>
            <a:ext cx="14040" cy="11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70920" y="1486080"/>
            <a:ext cx="15840" cy="11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00800" y="1486080"/>
            <a:ext cx="14400" cy="11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331040" y="1486080"/>
            <a:ext cx="15840" cy="11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361280" y="1486080"/>
            <a:ext cx="15840" cy="110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61280" y="1609560"/>
            <a:ext cx="15840" cy="5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31040" y="1609560"/>
            <a:ext cx="15840" cy="5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300800" y="1609560"/>
            <a:ext cx="14400" cy="5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70920" y="1609560"/>
            <a:ext cx="15840" cy="5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40680" y="1609560"/>
            <a:ext cx="14040" cy="5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09000" y="1609560"/>
            <a:ext cx="15840" cy="5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180200" y="1609560"/>
            <a:ext cx="14400" cy="5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202520" y="1096560"/>
            <a:ext cx="14400" cy="41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338960" y="1096920"/>
            <a:ext cx="15840" cy="41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09000" y="1339920"/>
            <a:ext cx="9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09000" y="1328760"/>
            <a:ext cx="9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209000" y="1317600"/>
            <a:ext cx="9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09000" y="1308240"/>
            <a:ext cx="9828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09000" y="1298520"/>
            <a:ext cx="9828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78840" y="1165320"/>
            <a:ext cx="44280" cy="28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19880" y="1258920"/>
            <a:ext cx="22320" cy="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19880" y="1298520"/>
            <a:ext cx="22320" cy="4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19880" y="1312920"/>
            <a:ext cx="22320" cy="6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54720" y="1243080"/>
            <a:ext cx="704880" cy="353880"/>
          </a:xfrm>
          <a:custGeom>
            <a:avLst/>
            <a:gdLst/>
            <a:ahLst/>
            <a:rect l="l" t="t" r="r" b="b"/>
            <a:pathLst>
              <a:path w="888" h="448">
                <a:moveTo>
                  <a:pt x="0" y="17"/>
                </a:moveTo>
                <a:lnTo>
                  <a:pt x="59" y="17"/>
                </a:lnTo>
                <a:lnTo>
                  <a:pt x="59" y="0"/>
                </a:lnTo>
                <a:lnTo>
                  <a:pt x="0" y="0"/>
                </a:lnTo>
                <a:lnTo>
                  <a:pt x="0" y="17"/>
                </a:lnTo>
                <a:close/>
                <a:moveTo>
                  <a:pt x="855" y="448"/>
                </a:moveTo>
                <a:lnTo>
                  <a:pt x="888" y="448"/>
                </a:lnTo>
                <a:lnTo>
                  <a:pt x="888" y="437"/>
                </a:lnTo>
                <a:lnTo>
                  <a:pt x="855" y="437"/>
                </a:lnTo>
                <a:lnTo>
                  <a:pt x="855" y="448"/>
                </a:lnTo>
                <a:close/>
                <a:moveTo>
                  <a:pt x="328" y="349"/>
                </a:moveTo>
                <a:lnTo>
                  <a:pt x="328" y="54"/>
                </a:lnTo>
                <a:lnTo>
                  <a:pt x="801" y="54"/>
                </a:lnTo>
                <a:lnTo>
                  <a:pt x="801" y="349"/>
                </a:lnTo>
                <a:lnTo>
                  <a:pt x="328" y="349"/>
                </a:lnTo>
                <a:close/>
                <a:moveTo>
                  <a:pt x="307" y="369"/>
                </a:moveTo>
                <a:lnTo>
                  <a:pt x="823" y="369"/>
                </a:lnTo>
                <a:lnTo>
                  <a:pt x="823" y="35"/>
                </a:lnTo>
                <a:lnTo>
                  <a:pt x="845" y="35"/>
                </a:lnTo>
                <a:lnTo>
                  <a:pt x="845" y="15"/>
                </a:lnTo>
                <a:lnTo>
                  <a:pt x="286" y="15"/>
                </a:lnTo>
                <a:lnTo>
                  <a:pt x="286" y="390"/>
                </a:lnTo>
                <a:lnTo>
                  <a:pt x="307" y="390"/>
                </a:lnTo>
                <a:lnTo>
                  <a:pt x="307" y="3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54720" y="1243080"/>
            <a:ext cx="46080" cy="1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34400" y="1589040"/>
            <a:ext cx="25200" cy="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15360" y="1285920"/>
            <a:ext cx="376200" cy="233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81880" y="1254240"/>
            <a:ext cx="444600" cy="296640"/>
          </a:xfrm>
          <a:custGeom>
            <a:avLst/>
            <a:gdLst/>
            <a:ahLst/>
            <a:rect l="l" t="t" r="r" b="b"/>
            <a:pathLst>
              <a:path w="559" h="375">
                <a:moveTo>
                  <a:pt x="21" y="354"/>
                </a:moveTo>
                <a:lnTo>
                  <a:pt x="537" y="354"/>
                </a:lnTo>
                <a:lnTo>
                  <a:pt x="537" y="20"/>
                </a:lnTo>
                <a:lnTo>
                  <a:pt x="559" y="20"/>
                </a:lnTo>
                <a:lnTo>
                  <a:pt x="559" y="0"/>
                </a:lnTo>
                <a:lnTo>
                  <a:pt x="0" y="0"/>
                </a:lnTo>
                <a:lnTo>
                  <a:pt x="0" y="375"/>
                </a:lnTo>
                <a:lnTo>
                  <a:pt x="21" y="375"/>
                </a:lnTo>
                <a:lnTo>
                  <a:pt x="21" y="354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29680" y="1589040"/>
            <a:ext cx="272880" cy="23760"/>
          </a:xfrm>
          <a:custGeom>
            <a:avLst/>
            <a:gdLst/>
            <a:ahLst/>
            <a:rect l="l" t="t" r="r" b="b"/>
            <a:pathLst>
              <a:path w="345" h="30">
                <a:moveTo>
                  <a:pt x="0" y="0"/>
                </a:moveTo>
                <a:lnTo>
                  <a:pt x="345" y="0"/>
                </a:lnTo>
                <a:lnTo>
                  <a:pt x="345" y="3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567560" y="1589040"/>
            <a:ext cx="1800" cy="23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48680" y="1787400"/>
            <a:ext cx="968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X Conver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761760" y="2751120"/>
            <a:ext cx="2438640" cy="398880"/>
            <a:chOff x="761760" y="2751120"/>
            <a:chExt cx="2438640" cy="398880"/>
          </a:xfrm>
        </p:grpSpPr>
        <p:sp>
          <p:nvSpPr>
            <p:cNvPr id="232" name=""/>
            <p:cNvSpPr/>
            <p:nvPr/>
          </p:nvSpPr>
          <p:spPr>
            <a:xfrm>
              <a:off x="838080" y="312408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1760" y="2751120"/>
              <a:ext cx="15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OL-Sta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58520" y="3782880"/>
            <a:ext cx="2586960" cy="407880"/>
            <a:chOff x="758520" y="3782880"/>
            <a:chExt cx="2586960" cy="407880"/>
          </a:xfrm>
        </p:grpSpPr>
        <p:sp>
          <p:nvSpPr>
            <p:cNvPr id="235" name=""/>
            <p:cNvSpPr/>
            <p:nvPr/>
          </p:nvSpPr>
          <p:spPr>
            <a:xfrm>
              <a:off x="762120" y="419076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8520" y="3782880"/>
              <a:ext cx="258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-Response/Id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864400" y="4267080"/>
            <a:ext cx="2811240" cy="407880"/>
            <a:chOff x="5864400" y="4267080"/>
            <a:chExt cx="2811240" cy="407880"/>
          </a:xfrm>
        </p:grpSpPr>
        <p:sp>
          <p:nvSpPr>
            <p:cNvPr id="238" name=""/>
            <p:cNvSpPr/>
            <p:nvPr/>
          </p:nvSpPr>
          <p:spPr>
            <a:xfrm flipH="1">
              <a:off x="5943600" y="46749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64400" y="4267080"/>
              <a:ext cx="281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-Access-Challe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762120" y="4876920"/>
            <a:ext cx="2804040" cy="398880"/>
            <a:chOff x="762120" y="4876920"/>
            <a:chExt cx="2804040" cy="398880"/>
          </a:xfrm>
        </p:grpSpPr>
        <p:sp>
          <p:nvSpPr>
            <p:cNvPr id="241" name=""/>
            <p:cNvSpPr/>
            <p:nvPr/>
          </p:nvSpPr>
          <p:spPr>
            <a:xfrm>
              <a:off x="762120" y="5257800"/>
              <a:ext cx="25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4280" y="4876920"/>
              <a:ext cx="280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-Respons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credential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940040" y="1981080"/>
            <a:ext cx="4064760" cy="703800"/>
            <a:chOff x="1940040" y="1981080"/>
            <a:chExt cx="4064760" cy="703800"/>
          </a:xfrm>
        </p:grpSpPr>
        <p:sp>
          <p:nvSpPr>
            <p:cNvPr id="244" name=""/>
            <p:cNvSpPr/>
            <p:nvPr/>
          </p:nvSpPr>
          <p:spPr>
            <a:xfrm>
              <a:off x="4190400" y="2286000"/>
              <a:ext cx="18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ccess block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940040" y="1981080"/>
              <a:ext cx="2361960" cy="407880"/>
              <a:chOff x="1940040" y="1981080"/>
              <a:chExt cx="2361960" cy="407880"/>
            </a:xfrm>
          </p:grpSpPr>
          <p:sp>
            <p:nvSpPr>
              <p:cNvPr id="246" name=""/>
              <p:cNvSpPr/>
              <p:nvPr/>
            </p:nvSpPr>
            <p:spPr>
              <a:xfrm>
                <a:off x="1940040" y="2388960"/>
                <a:ext cx="236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384280" y="1981080"/>
                <a:ext cx="1462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ort connec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1711440" y="17524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941440" y="5348160"/>
            <a:ext cx="2500200" cy="407880"/>
            <a:chOff x="5941440" y="5348160"/>
            <a:chExt cx="2500200" cy="407880"/>
          </a:xfrm>
        </p:grpSpPr>
        <p:sp>
          <p:nvSpPr>
            <p:cNvPr id="250" name=""/>
            <p:cNvSpPr/>
            <p:nvPr/>
          </p:nvSpPr>
          <p:spPr>
            <a:xfrm flipH="1">
              <a:off x="5962320" y="575604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41440" y="5348160"/>
              <a:ext cx="25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-Access-Ac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4876920" y="2666880"/>
            <a:ext cx="304560" cy="33530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362320" y="3249720"/>
            <a:ext cx="2666880" cy="407880"/>
            <a:chOff x="2362320" y="3249720"/>
            <a:chExt cx="2666880" cy="407880"/>
          </a:xfrm>
        </p:grpSpPr>
        <p:sp>
          <p:nvSpPr>
            <p:cNvPr id="254" name=""/>
            <p:cNvSpPr/>
            <p:nvPr/>
          </p:nvSpPr>
          <p:spPr>
            <a:xfrm>
              <a:off x="2435400" y="3249720"/>
              <a:ext cx="243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AP-Request/Id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362320" y="3657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362320" y="4410000"/>
            <a:ext cx="2666880" cy="390600"/>
            <a:chOff x="2362320" y="4410000"/>
            <a:chExt cx="2666880" cy="390600"/>
          </a:xfrm>
        </p:grpSpPr>
        <p:sp>
          <p:nvSpPr>
            <p:cNvPr id="257" name=""/>
            <p:cNvSpPr/>
            <p:nvPr/>
          </p:nvSpPr>
          <p:spPr>
            <a:xfrm>
              <a:off x="2385720" y="4410000"/>
              <a:ext cx="142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AP-Requ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362320" y="480060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362320" y="5376960"/>
            <a:ext cx="3582360" cy="965520"/>
            <a:chOff x="2362320" y="5376960"/>
            <a:chExt cx="3582360" cy="965520"/>
          </a:xfrm>
        </p:grpSpPr>
        <p:sp>
          <p:nvSpPr>
            <p:cNvPr id="260" name=""/>
            <p:cNvSpPr/>
            <p:nvPr/>
          </p:nvSpPr>
          <p:spPr>
            <a:xfrm>
              <a:off x="4143960" y="5943600"/>
              <a:ext cx="180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Access allow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2362320" y="5376960"/>
              <a:ext cx="2666880" cy="414000"/>
              <a:chOff x="2362320" y="5376960"/>
              <a:chExt cx="2666880" cy="414000"/>
            </a:xfrm>
          </p:grpSpPr>
          <p:sp>
            <p:nvSpPr>
              <p:cNvPr id="262" name=""/>
              <p:cNvSpPr/>
              <p:nvPr/>
            </p:nvSpPr>
            <p:spPr>
              <a:xfrm>
                <a:off x="2383920" y="5376960"/>
                <a:ext cx="15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EAP-Succes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362320" y="5790960"/>
                <a:ext cx="266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5029200" y="3733920"/>
            <a:ext cx="2746080" cy="398880"/>
            <a:chOff x="5029200" y="3733920"/>
            <a:chExt cx="2746080" cy="398880"/>
          </a:xfrm>
        </p:grpSpPr>
        <p:sp>
          <p:nvSpPr>
            <p:cNvPr id="265" name=""/>
            <p:cNvSpPr/>
            <p:nvPr/>
          </p:nvSpPr>
          <p:spPr>
            <a:xfrm>
              <a:off x="5176080" y="3733920"/>
              <a:ext cx="259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-Access-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29200" y="4114800"/>
              <a:ext cx="213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029200" y="4822920"/>
            <a:ext cx="2763360" cy="434880"/>
            <a:chOff x="5029200" y="4822920"/>
            <a:chExt cx="2763360" cy="434880"/>
          </a:xfrm>
        </p:grpSpPr>
        <p:sp>
          <p:nvSpPr>
            <p:cNvPr id="268" name=""/>
            <p:cNvSpPr/>
            <p:nvPr/>
          </p:nvSpPr>
          <p:spPr>
            <a:xfrm>
              <a:off x="5193360" y="4822920"/>
              <a:ext cx="259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adius-Access-Requ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29200" y="52578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425720" y="27576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5360" y="274320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AP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1B1-92E4-433A-990A-ED53FB2BF1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for 802.1X 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Wireless 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al changes required to 802.1X and 802.11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X protocol same over 802.3 as 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access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for both user and machine access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zed user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 client support on Access Po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of encryption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ssion of global/multicast keys from access point to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derivation of unicast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am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-hoc network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A37-788E-4F4C-9A88-917B1D8D93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15:22:53Z</dcterms:created>
  <dc:creator>Tim Moore</dc:creator>
  <dc:description/>
  <dc:language>en-US</dc:language>
  <cp:lastModifiedBy>bernard aboba</cp:lastModifiedBy>
  <dcterms:modified xsi:type="dcterms:W3CDTF">2000-03-08T02:28:13Z</dcterms:modified>
  <cp:revision>212</cp:revision>
  <dc:subject/>
  <dc:title>Introduction</dc:title>
</cp:coreProperties>
</file>