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107A-F8FE-4469-ACF2-996D1E4C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4D73-49FF-439C-A00E-80889EBA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04C-2332-4122-B618-F55A1E6E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691-5BEF-4CE2-94BE-1A90A2B1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9979-0CFD-464B-9CD2-B48BD821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00A5-6FA8-41CF-8C14-B1611EDB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040C-519E-4B04-8DFB-ABB7A696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409-513E-4AF3-BF68-D8D4DDED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EA4-5CE6-413F-BC6D-D75D19F4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D7D-B900-4461-84C1-2DD45452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B279-8C9E-4962-B283-5A91AC7A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8795-AE72-4704-AE36-80D8EE23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2193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93D7A91-A277-4ABB-8940-7A04E9125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LAN Q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ncan Kitch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 Wireless LAN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9510-8D1C-44A9-A413-C66458B44EB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have end-to-end sign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of service setup has to include whole network, not just the wireless LAN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nteroperate with all existing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have applica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o work with existing protocol stack &amp;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features in wireless LAN must be transparent - application should not know or care what the underlying transpor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DC8-86F8-46B7-802D-3C540D94EE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provides statistical prioritization based on 802.1p t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 time connection setup handled at higher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SVP in the network layer for end-to-end sign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net bandwidth management (SBM) uses RSVP state to attach 802.1p tags to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D16-0223-4DBE-850F-0A26937550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to end signa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502920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464832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502920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4648320"/>
            <a:ext cx="106668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502920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464832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38880" y="502920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38880" y="4648320"/>
            <a:ext cx="1067040" cy="3808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4267080"/>
            <a:ext cx="106668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W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4267080"/>
            <a:ext cx="228600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W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4267080"/>
            <a:ext cx="1067040" cy="381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W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5410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5410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5410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72400" y="5410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571500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57150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layer doesn’t have the end to end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st layer that can have end to end signalling is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s are established at network layer, with requirements pushed downwards into the MAC using S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4343400"/>
            <a:ext cx="5105520" cy="228600"/>
          </a:xfrm>
          <a:prstGeom prst="rightArrow">
            <a:avLst>
              <a:gd name="adj1" fmla="val 50000"/>
              <a:gd name="adj2" fmla="val 558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4267080"/>
            <a:ext cx="228600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W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5600" y="40384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Se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FC0-E7BA-4CB8-8FF6-7DD675A8D7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, incremental extension to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with existing protocol stack (TCP/I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 defined IETF protocol (RSVP) allows access to QoS services transparently, ensures application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65C2-182F-4B5C-A415-0FAE81866E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19:26:40Z</dcterms:created>
  <dc:creator>Duncan Kitchin</dc:creator>
  <dc:description/>
  <dc:language>en-US</dc:language>
  <cp:lastModifiedBy>Harry R. Worstell</cp:lastModifiedBy>
  <cp:lastPrinted>1998-02-10T13:28:06Z</cp:lastPrinted>
  <dcterms:modified xsi:type="dcterms:W3CDTF">2000-03-08T15:53:00Z</dcterms:modified>
  <cp:revision>11</cp:revision>
  <dc:subject/>
  <dc:title>End to end and up and down</dc:title>
</cp:coreProperties>
</file>