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7EEF-BD72-420E-9085-E1C43602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30D-25E0-45CA-B132-F7A4AB49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6E2-E915-4F2F-B850-ACFC69A7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FD7-3B4C-4A1C-BC8E-CC9F194FA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4E5-8D1D-4454-BFC6-E50020A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130-BCFC-48D3-A93D-75896C9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5DB-05A5-4915-B5D0-BFE9CD84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F23-4D51-49F7-87D8-4949E15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E8A0-4398-4526-95FF-FE599138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2C1-B8D9-4317-B96C-1DAC6751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99E-3561-4686-9D54-FFF05958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6279-D8CB-46F8-B24E-FDDA4BCF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FBA994-867E-4651-9A63-B01812798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for Enhanced Encry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ncan Kitc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 Network Infrastructure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903-34C9-4E00-B36B-BF1F1B64917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 of This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-bit RC4 (WEP) is rapidly becoming inadequ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extension can be made (included in this proposal) to extend WEP to 104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olution will also become inadequate at som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proposal presents a long range solution (starting ~2 years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972-89CC-4E20-9E74-3E98673D6D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wards Compat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avoid an unstructured option space, forcing everybody to implement many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ordered list of encaps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is stronger than the one before it in th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the number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957-5128-4208-9092-9F8EC0BC2C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Encryp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7920" y="1905120"/>
          <a:ext cx="6227640" cy="40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05120"/>
                    <a:ext cx="622764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939-EFE1-40C0-8B2A-3676C5734EE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ice of A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ment for 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not yet se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one of Rijndael, Serpent or Two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128 bit block cipher, supporting key lengths of 128, 196 and 25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4E9-26F1-41C9-B301-CF2355EB20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P-104 will be identical to WEP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104 rather than 40 bit RC4 by mutual agreement of pair of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ining formats use new “AES” data frame sub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906-7A49-4251-9683-06C54CEF79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ES Fram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2514600"/>
            <a:ext cx="12952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2514600"/>
            <a:ext cx="129564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514600"/>
            <a:ext cx="205740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l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514600"/>
            <a:ext cx="68580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514600"/>
            <a:ext cx="990360" cy="5335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MAC-SHA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52880" y="3733920"/>
            <a:ext cx="2438640" cy="732960"/>
            <a:chOff x="4952880" y="3733920"/>
            <a:chExt cx="2438640" cy="732960"/>
          </a:xfrm>
        </p:grpSpPr>
        <p:sp>
          <p:nvSpPr>
            <p:cNvPr id="65" name=""/>
            <p:cNvSpPr/>
            <p:nvPr/>
          </p:nvSpPr>
          <p:spPr>
            <a:xfrm>
              <a:off x="4952880" y="3886200"/>
              <a:ext cx="182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eat interleaving att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05720" y="3733920"/>
              <a:ext cx="685800" cy="457200"/>
            </a:xfrm>
            <a:custGeom>
              <a:avLst/>
              <a:gdLst>
                <a:gd name="textAreaLeft" fmla="*/ 228600 w 685800"/>
                <a:gd name="textAreaRight" fmla="*/ 587520 w 68580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267080" y="3124080"/>
            <a:ext cx="2133360" cy="837720"/>
            <a:chOff x="4267080" y="3124080"/>
            <a:chExt cx="2133360" cy="837720"/>
          </a:xfrm>
        </p:grpSpPr>
        <p:sp>
          <p:nvSpPr>
            <p:cNvPr id="68" name=""/>
            <p:cNvSpPr/>
            <p:nvPr/>
          </p:nvSpPr>
          <p:spPr>
            <a:xfrm>
              <a:off x="4267080" y="338112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eat replay atta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4640" y="3124080"/>
              <a:ext cx="685800" cy="609480"/>
            </a:xfrm>
            <a:custGeom>
              <a:avLst/>
              <a:gdLst>
                <a:gd name="textAreaLeft" fmla="*/ 228600 w 685800"/>
                <a:gd name="textAreaRight" fmla="*/ 587520 w 685800"/>
                <a:gd name="textAreaTop" fmla="*/ 351000 h 609480"/>
                <a:gd name="textAreaBottom" fmla="*/ 52200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90720" y="3352680"/>
            <a:ext cx="2666520" cy="534240"/>
            <a:chOff x="990720" y="3352680"/>
            <a:chExt cx="2666520" cy="534240"/>
          </a:xfrm>
        </p:grpSpPr>
        <p:sp>
          <p:nvSpPr>
            <p:cNvPr id="71" name=""/>
            <p:cNvSpPr/>
            <p:nvPr/>
          </p:nvSpPr>
          <p:spPr>
            <a:xfrm>
              <a:off x="990720" y="3549600"/>
              <a:ext cx="205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eat eavesdro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71800" y="3352680"/>
              <a:ext cx="685440" cy="457200"/>
            </a:xfrm>
            <a:custGeom>
              <a:avLst/>
              <a:gdLst>
                <a:gd name="textAreaLeft" fmla="*/ 228600 w 685440"/>
                <a:gd name="textAreaRight" fmla="*/ 587160 w 685440"/>
                <a:gd name="textAreaTop" fmla="*/ 263520 h 457200"/>
                <a:gd name="textAreaBottom" fmla="*/ 391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DED-DC47-4ECF-A09F-5850F2D937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lgorithms should form an ordered list, each implementation required to support a contiguous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WEP-104 &amp; AES algorithm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 format for AES as describ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Jesse Walker, Intel NI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CB4-AFA7-40CF-8B67-5E2F44EFF9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9T17:20:15Z</dcterms:created>
  <dc:creator>Duncan Kitchin</dc:creator>
  <dc:description/>
  <dc:language>en-US</dc:language>
  <cp:lastModifiedBy>Harry R. Worstell</cp:lastModifiedBy>
  <cp:lastPrinted>2000-02-29T20:01:58Z</cp:lastPrinted>
  <dcterms:modified xsi:type="dcterms:W3CDTF">2000-03-08T22:52:13Z</dcterms:modified>
  <cp:revision>7</cp:revision>
  <dc:subject/>
  <dc:title>Proposal for Enhanced Encryption</dc:title>
</cp:coreProperties>
</file>