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76320"/>
            <a:ext cx="9067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ch 2000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ts val="2999"/>
              </a:lnSpc>
              <a:buClr>
                <a:srgbClr val="0066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ts val="2999"/>
              </a:lnSpc>
              <a:buClr>
                <a:srgbClr val="0066ff"/>
              </a:buClr>
              <a:buFont typeface="Arial"/>
              <a:buChar char="~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ts val="2999"/>
              </a:lnSpc>
              <a:buClr>
                <a:srgbClr val="0066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ts val="2999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ts val="2999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8839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miss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8590CB6B-9AF7-46F4-A714-7AC068E3FB9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Rajugopal Gubbi (Sharewa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094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1981080"/>
            <a:ext cx="8839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99ff"/>
                </a:solidFill>
                <a:latin typeface="Arial"/>
              </a:rPr>
              <a:t>Tutorial on Achieving End-to-end Q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326088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Rajugopal Gubb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Sharewave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5F3590-7FCC-4B27-AD5B-58105EA9605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End-to-end QoS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ts val="29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preserve QoS semantics explicitly carried by a stream from/to the outside connection to/from any device in the B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is it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guarantee the QoS needs of a stream without having to guess at what those need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be able to analyze/pass the QoS request from wired connections between 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2FBE04-CA9D-4D62-AE0C-EB99CA20AC4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371600"/>
            <a:ext cx="7772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Sce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Example-A, Home/Enterprise environ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End-to-end QoS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556080" y="3686040"/>
            <a:ext cx="598680" cy="596520"/>
            <a:chOff x="3556080" y="3686040"/>
            <a:chExt cx="598680" cy="596520"/>
          </a:xfrm>
        </p:grpSpPr>
        <p:sp>
          <p:nvSpPr>
            <p:cNvPr id="51" name=""/>
            <p:cNvSpPr/>
            <p:nvPr/>
          </p:nvSpPr>
          <p:spPr>
            <a:xfrm>
              <a:off x="3613680" y="3686040"/>
              <a:ext cx="289080" cy="297360"/>
            </a:xfrm>
            <a:prstGeom prst="rect">
              <a:avLst/>
            </a:prstGeom>
            <a:noFill/>
            <a:ln w="5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556080" y="4047120"/>
              <a:ext cx="51588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614400" y="4090320"/>
              <a:ext cx="54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atew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60480" y="3744720"/>
              <a:ext cx="1886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17720" y="37890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5802480" y="2979720"/>
            <a:ext cx="288720" cy="297000"/>
          </a:xfrm>
          <a:prstGeom prst="rect">
            <a:avLst/>
          </a:prstGeom>
          <a:noFill/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43440" y="3340080"/>
            <a:ext cx="15606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3124080"/>
            <a:ext cx="128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323 Video Conferencing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50000" y="3038400"/>
            <a:ext cx="1810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09760" y="3081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80320" y="3916440"/>
            <a:ext cx="288720" cy="298440"/>
          </a:xfrm>
          <a:prstGeom prst="rect">
            <a:avLst/>
          </a:prstGeom>
          <a:noFill/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21640" y="4278240"/>
            <a:ext cx="14079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80320" y="4282920"/>
            <a:ext cx="104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tchen WEB browser pa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27840" y="3975120"/>
            <a:ext cx="185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84720" y="40179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135400" y="4684680"/>
            <a:ext cx="1198080" cy="600120"/>
            <a:chOff x="5135400" y="4684680"/>
            <a:chExt cx="1198080" cy="600120"/>
          </a:xfrm>
        </p:grpSpPr>
        <p:sp>
          <p:nvSpPr>
            <p:cNvPr id="67" name=""/>
            <p:cNvSpPr/>
            <p:nvPr/>
          </p:nvSpPr>
          <p:spPr>
            <a:xfrm>
              <a:off x="5193000" y="4684680"/>
              <a:ext cx="291240" cy="298080"/>
            </a:xfrm>
            <a:prstGeom prst="rect">
              <a:avLst/>
            </a:prstGeom>
            <a:noFill/>
            <a:ln w="5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35400" y="5046840"/>
              <a:ext cx="80640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95880" y="5092920"/>
              <a:ext cx="1137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rsonal comp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241240" y="4743360"/>
              <a:ext cx="1828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299920" y="4787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2644920" y="3803760"/>
            <a:ext cx="3952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50200" y="3664080"/>
            <a:ext cx="154440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connections lik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SL and Cable mod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95680" y="3809880"/>
            <a:ext cx="914400" cy="0"/>
          </a:xfrm>
          <a:prstGeom prst="line">
            <a:avLst/>
          </a:prstGeom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408480" y="2743200"/>
            <a:ext cx="4075920" cy="2590560"/>
            <a:chOff x="3408480" y="2743200"/>
            <a:chExt cx="4075920" cy="2590560"/>
          </a:xfrm>
        </p:grpSpPr>
        <p:grpSp>
          <p:nvGrpSpPr>
            <p:cNvPr id="76" name=""/>
            <p:cNvGrpSpPr/>
            <p:nvPr/>
          </p:nvGrpSpPr>
          <p:grpSpPr>
            <a:xfrm>
              <a:off x="3416400" y="2743200"/>
              <a:ext cx="2032560" cy="1180800"/>
              <a:chOff x="3416400" y="2743200"/>
              <a:chExt cx="2032560" cy="1180800"/>
            </a:xfrm>
          </p:grpSpPr>
          <p:sp>
            <p:nvSpPr>
              <p:cNvPr id="77" name=""/>
              <p:cNvSpPr/>
              <p:nvPr/>
            </p:nvSpPr>
            <p:spPr>
              <a:xfrm>
                <a:off x="5443560" y="27432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431680" y="274320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7" y="7"/>
                    </a:moveTo>
                    <a:lnTo>
                      <a:pt x="10" y="5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419800" y="274320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7" y="7"/>
                    </a:moveTo>
                    <a:lnTo>
                      <a:pt x="10" y="5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407560" y="274320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7" y="7"/>
                    </a:moveTo>
                    <a:lnTo>
                      <a:pt x="10" y="5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395680" y="274320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7" y="7"/>
                    </a:moveTo>
                    <a:lnTo>
                      <a:pt x="10" y="5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383800" y="274320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7" y="7"/>
                    </a:moveTo>
                    <a:lnTo>
                      <a:pt x="10" y="5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373000" y="27432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361120" y="2743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49240" y="2743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37000" y="2743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325120" y="2743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312880" y="27450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301000" y="27450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288760" y="2745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276880" y="2745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265000" y="2747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252760" y="2747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240880" y="2747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228640" y="27478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216760" y="27500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204520" y="27500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192640" y="2752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80760" y="2752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168520" y="2752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156640" y="27547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144400" y="27547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132520" y="27576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120640" y="27576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108400" y="2759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096520" y="2759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84280" y="2762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072400" y="2762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060160" y="27648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048280" y="27676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036400" y="27676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024160" y="27694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012280" y="27694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000400" y="27723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988160" y="2774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975920" y="27774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964040" y="27774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952160" y="27795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939920" y="27824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928040" y="27824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16160" y="27842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903920" y="27871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891680" y="27892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882320" y="27921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70080" y="27943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858200" y="27972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846320" y="27990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4080" y="28018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822200" y="2804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10320" y="2806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98080" y="2808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85840" y="28119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773960" y="28137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62080" y="2816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749840" y="28188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739760" y="282168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7520" y="2823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715280" y="2826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703400" y="28317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691520" y="28335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679280" y="28364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667400" y="28382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55520" y="28414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643280" y="28465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633560" y="28483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621680" y="28512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609440" y="28562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97560" y="28584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85680" y="28612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573440" y="28659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563000" y="28681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551120" y="28728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538880" y="28760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527000" y="28807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515120" y="28828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505400" y="28875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493160" y="28904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481280" y="28954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469040" y="28976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457160" y="29023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446720" y="29073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434840" y="29124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22600" y="29152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410720" y="292032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01000" y="292536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388760" y="29271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376880" y="29318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366440" y="2936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354560" y="29419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342680" y="2946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330440" y="29516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321080" y="29566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308840" y="2961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296600" y="29664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286520" y="29714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274280" y="29764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264560" y="29811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252680" y="29862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240800" y="29912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230000" y="29959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218120" y="30009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206240" y="3008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196520" y="30135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184640" y="30186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174200" y="30236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161960" y="30304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152600" y="30351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140360" y="30402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129920" y="30481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118040" y="30531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108320" y="30600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096440" y="3065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086000" y="30697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073760" y="30776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064400" y="30844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053600" y="30895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041720" y="30974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032000" y="31042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020120" y="31093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009680" y="3116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999960" y="31240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988080" y="31287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977640" y="31370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967920" y="31438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957480" y="31514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945600" y="31586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935880" y="31662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925440" y="31734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915720" y="31809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905280" y="31881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893400" y="31957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883680" y="32025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873240" y="32104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63520" y="32173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853440" y="32274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843720" y="323532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833280" y="32421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823560" y="32522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813120" y="32598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03400" y="32666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792960" y="32767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783600" y="32842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775320" y="32943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765240" y="3304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755520" y="33109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744720" y="3321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736800" y="3330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727080" y="3338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717000" y="33483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708720" y="33584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699360" y="33681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688920" y="3377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681000" y="33879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72720" y="33976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663360" y="3407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655080" y="34171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644640" y="3427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636720" y="343728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628800" y="34491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620520" y="34588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611160" y="34686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602880" y="34783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594960" y="34912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588480" y="35031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8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580560" y="35128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572280" y="35254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564360" y="3535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556440" y="35470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550680" y="35600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542760" y="35701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534840" y="35820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528360" y="35946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520440" y="36064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514680" y="36190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508560" y="36309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502800" y="3643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496320" y="36558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490920" y="36705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484080" y="36831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478680" y="3695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472200" y="3707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466440" y="3722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462480" y="37342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458520" y="37490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452400" y="37620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448080" y="37767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444120" y="37886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440160" y="38034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436200" y="38181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432240" y="38307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428280" y="3845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426480" y="3860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422520" y="38750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420360" y="3889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418560" y="39045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416400" y="39164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3408480" y="3931200"/>
              <a:ext cx="1862640" cy="1397880"/>
              <a:chOff x="3408480" y="3931200"/>
              <a:chExt cx="1862640" cy="1397880"/>
            </a:xfrm>
          </p:grpSpPr>
          <p:sp>
            <p:nvSpPr>
              <p:cNvPr id="278" name=""/>
              <p:cNvSpPr/>
              <p:nvPr/>
            </p:nvSpPr>
            <p:spPr>
              <a:xfrm>
                <a:off x="3414960" y="39312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412440" y="39456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411000" y="3960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411000" y="39754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408480" y="39902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408480" y="40050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408480" y="40197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408480" y="4034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408480" y="4049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408480" y="40640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408480" y="40788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411000" y="40935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411000" y="41083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412440" y="41230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414960" y="41378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416400" y="41526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418920" y="41673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420360" y="41821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24320" y="41968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426840" y="42094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430800" y="42242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432600" y="42393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436560" y="42541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440520" y="4266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444480" y="4280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448440" y="4295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454920" y="43081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458880" y="43228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462840" y="43347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468600" y="43495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474720" y="43624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479040" y="43740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484440" y="43869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490920" y="44017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496680" y="44136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503160" y="44262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508560" y="44380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16840" y="4451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522960" y="44629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528720" y="44755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536640" y="44874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543120" y="45000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551040" y="45118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558960" y="45216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64720" y="45345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572640" y="4546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580560" y="4556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588840" y="45691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596760" y="45788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605040" y="45907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612960" y="46004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620880" y="4610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631320" y="46231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639240" y="46328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647520" y="464292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655440" y="465264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665160" y="46627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673080" y="46724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683520" y="46843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691440" y="4694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701160" y="4703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709080" y="47116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719520" y="4721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240" y="47314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737160" y="47412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747600" y="47480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757320" y="47581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765240" y="47678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775680" y="4775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785400" y="47854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95840" y="47926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805200" y="48024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816000" y="48103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825360" y="48200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835800" y="48268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845520" y="4834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855960" y="484488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865680" y="48513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875760" y="4859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885480" y="48664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896280" y="4874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905640" y="48812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916080" y="48891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927960" y="48960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937680" y="49035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948120" y="49107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957840" y="49183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969720" y="4925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980160" y="49330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989880" y="4940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000320" y="494820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012200" y="495324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021920" y="49597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032360" y="4967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044240" y="49726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053960" y="49795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065840" y="49874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076640" y="49924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6000" y="49993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098240" y="50043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108680" y="5011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120560" y="50169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130280" y="50238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142160" y="50288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152600" y="50335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164840" y="50414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174200" y="504648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186440" y="505152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198320" y="50565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208760" y="50630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220640" y="5068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230360" y="50731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242600" y="50781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254480" y="50828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264920" y="50878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276800" y="50929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286520" y="50976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298760" y="51055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310640" y="51105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321080" y="51123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333320" y="51174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345200" y="5122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357080" y="51271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66800" y="51321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78680" y="5137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90920" y="5141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401360" y="5144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413240" y="515016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425480" y="515484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437360" y="515988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447080" y="51616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458960" y="51663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471200" y="51717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483080" y="51746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493520" y="51793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505760" y="51814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517640" y="51865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529520" y="5189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541760" y="51940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551120" y="51962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563360" y="52012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575600" y="52041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587480" y="52088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599360" y="5211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611600" y="5213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621680" y="5218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633920" y="5220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646160" y="52257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658040" y="5228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669920" y="5230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682160" y="52333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694040" y="52354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705920" y="52405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715640" y="52434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727520" y="5245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739760" y="5248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752000" y="52502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763880" y="525348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775760" y="52552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788000" y="52581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799880" y="5259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811760" y="52632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824000" y="52650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834440" y="5270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846320" y="5270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858560" y="5272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870440" y="52750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882320" y="52779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894560" y="52797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906800" y="52830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918680" y="52848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930560" y="52876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942800" y="52876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954680" y="52898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966560" y="52927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978800" y="52945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990680" y="52945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002920" y="5297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014800" y="52995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026680" y="52995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038920" y="53024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051160" y="530460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063040" y="53046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72760" y="53074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84640" y="53074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96520" y="53092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108760" y="53092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120640" y="53121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132880" y="53121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144760" y="53143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157000" y="53143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168880" y="5317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80760" y="5317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193000" y="5317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204880" y="53193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216760" y="53193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229000" y="53222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241240" y="53222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253120" y="53222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265000" y="53222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5277240" y="4344480"/>
              <a:ext cx="2148840" cy="989280"/>
              <a:chOff x="5277240" y="4344480"/>
              <a:chExt cx="2148840" cy="989280"/>
            </a:xfrm>
          </p:grpSpPr>
          <p:sp>
            <p:nvSpPr>
              <p:cNvPr id="479" name=""/>
              <p:cNvSpPr/>
              <p:nvPr/>
            </p:nvSpPr>
            <p:spPr>
              <a:xfrm>
                <a:off x="5277240" y="53240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289120" y="53240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301000" y="53240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313240" y="53240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25120" y="5326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37360" y="5326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49240" y="5326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361120" y="5326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373360" y="53269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385240" y="53269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397480" y="5326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09360" y="5326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421600" y="5326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433480" y="5326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445360" y="5326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457600" y="53269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469480" y="53269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481720" y="5326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493600" y="5326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505840" y="5326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517720" y="5326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529600" y="5326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541840" y="53269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553720" y="53269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565960" y="53240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577840" y="53240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589720" y="53240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601960" y="53240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613840" y="53240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625720" y="53218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637960" y="53218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650200" y="5321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662080" y="5319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673960" y="5319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686200" y="5319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698080" y="53168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709960" y="53168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722200" y="53168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734440" y="5313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746320" y="5313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758200" y="53121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770440" y="53121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782320" y="53092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794200" y="53092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806440" y="53071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818320" y="53071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830560" y="53042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842440" y="5302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854680" y="5302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866560" y="5299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78440" y="52974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890680" y="52974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902560" y="5294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914800" y="52923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926680" y="52923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938560" y="52894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950800" y="52876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961240" y="5284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973120" y="5284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985360" y="5282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997240" y="52797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09120" y="52776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021360" y="5274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033240" y="5272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045480" y="5270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57360" y="52678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069600" y="52646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081480" y="52628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093360" y="52599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105600" y="525816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114960" y="52549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127200" y="52531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139440" y="5249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151320" y="5248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163200" y="52452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175440" y="52430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187320" y="52380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199200" y="52351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211440" y="52333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221880" y="5230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233760" y="52282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246000" y="52236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257880" y="52203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269760" y="52156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282000" y="52135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294240" y="52106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303600" y="5205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315840" y="5203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327720" y="52009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339600" y="51958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351840" y="5194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362280" y="51890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374160" y="51840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386400" y="51811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398280" y="5176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410160" y="51742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419880" y="51692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432120" y="51663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444000" y="51613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455880" y="51566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466680" y="51516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478560" y="514980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490440" y="5144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502680" y="51397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512040" y="51346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524280" y="51300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536160" y="51271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546600" y="51220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558840" y="5117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570720" y="51123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582600" y="51073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592320" y="51022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604200" y="50976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614640" y="50925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626880" y="50878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638760" y="50828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648480" y="50778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660720" y="50731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672600" y="5065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683040" y="50612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694920" y="505620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704640" y="5051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716880" y="50432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726960" y="50382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739200" y="50335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748920" y="50266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760800" y="5021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771240" y="5013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783480" y="5009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792840" y="50018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805080" y="49971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815520" y="49892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827400" y="49842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837120" y="49773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847200" y="49726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859440" y="49644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869160" y="4957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879600" y="495288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891480" y="49449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901200" y="49377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911640" y="49302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923520" y="49230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933240" y="49154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943680" y="49086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953040" y="49035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965280" y="48938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975720" y="48859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985440" y="4879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995880" y="48711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005240" y="48643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015680" y="48560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025400" y="4849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035840" y="48394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045560" y="48315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056000" y="48247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65720" y="48168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075800" y="48070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085520" y="48002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095960" y="47905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105680" y="47826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116120" y="47728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125480" y="47656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133760" y="47559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144200" y="474624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153920" y="47361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161840" y="47282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172280" y="47185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181640" y="47088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189920" y="46987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200360" y="46890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208280" y="46792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218000" y="4669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225920" y="46591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233840" y="46494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244280" y="46396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252560" y="46278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260480" y="46180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268400" y="46080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278120" y="45982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286040" y="45856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294320" y="4575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300440" y="45640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308720" y="45540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316640" y="45410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324560" y="45295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332480" y="45194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338240" y="45068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346160" y="44949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354080" y="44823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360920" y="44704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366320" y="4457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374240" y="4446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380720" y="44330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6480" y="44211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92960" y="44082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398360" y="43966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404840" y="4383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410600" y="4368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416720" y="43570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420680" y="43444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"/>
            <p:cNvGrpSpPr/>
            <p:nvPr/>
          </p:nvGrpSpPr>
          <p:grpSpPr>
            <a:xfrm>
              <a:off x="5786280" y="2759760"/>
              <a:ext cx="1698120" cy="1577880"/>
              <a:chOff x="5786280" y="2759760"/>
              <a:chExt cx="1698120" cy="1577880"/>
            </a:xfrm>
          </p:grpSpPr>
          <p:sp>
            <p:nvSpPr>
              <p:cNvPr id="680" name=""/>
              <p:cNvSpPr/>
              <p:nvPr/>
            </p:nvSpPr>
            <p:spPr>
              <a:xfrm>
                <a:off x="7424640" y="43297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430040" y="43178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434360" y="4303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440480" y="42901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444800" y="42753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448760" y="42609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450200" y="42490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454160" y="42339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458480" y="4219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460640" y="42044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464600" y="41896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466400" y="41770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468920" y="41623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470360" y="41475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472880" y="41328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474320" y="41180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476840" y="41032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476840" y="40885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478280" y="4073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478280" y="4059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478280" y="4043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478280" y="40294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478280" y="40147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478280" y="3999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478280" y="3985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476840" y="3970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476840" y="39556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474320" y="39405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472880" y="39258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470360" y="39114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468920" y="38966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464600" y="3884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462440" y="38700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5"/>
                    </a:move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460640" y="38552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456680" y="384048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452720" y="38253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448760" y="38127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444800" y="37980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440480" y="37832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436520" y="37713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432560" y="37566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428600" y="37436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422120" y="37292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418160" y="37173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5"/>
                    </a:move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412400" y="37026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406280" y="36896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400520" y="36781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394040" y="36651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388640" y="36504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382160" y="363852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5"/>
                    </a:move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376400" y="36255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369920" y="36140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5"/>
                    </a:move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362000" y="36010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356240" y="35892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348320" y="357660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2" y="5"/>
                    </a:moveTo>
                    <a:lnTo>
                      <a:pt x="5" y="8"/>
                    </a:lnTo>
                    <a:lnTo>
                      <a:pt x="7" y="8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341840" y="35668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333920" y="35550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5"/>
                    </a:move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328520" y="35420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320240" y="353052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312320" y="35204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304400" y="35074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296480" y="34977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288200" y="34858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280280" y="34761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272000" y="34635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264080" y="34534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256160" y="34434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245720" y="34336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237800" y="3421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5"/>
                    </a:move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229880" y="3412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220160" y="34023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212240" y="33922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201440" y="33825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193520" y="33728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185600" y="33631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175880" y="33530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165440" y="33454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157520" y="33354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147800" y="33253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137720" y="33156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128000" y="3308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120080" y="32990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109280" y="32911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099920" y="32814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089480" y="3274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079760" y="32644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069320" y="32565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059600" y="32468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049520" y="32400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039800" y="32320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029000" y="3222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019640" y="32151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009200" y="32072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6999480" y="3200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989040" y="31924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979680" y="3185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969240" y="31780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957000" y="31708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947640" y="31633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936840" y="31561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927480" y="31485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915240" y="31413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904800" y="31334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895440" y="312696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885000" y="31186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872760" y="31140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863040" y="31068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851160" y="30992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840720" y="3094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831000" y="30873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819120" y="3079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808680" y="30744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796440" y="30675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787080" y="30628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774840" y="30549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764400" y="30499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752520" y="30452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742800" y="30380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730920" y="303336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720480" y="302832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708240" y="30204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698880" y="30153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686640" y="30103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676200" y="30056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664320" y="2998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652440" y="29937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642720" y="29887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630840" y="29840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620040" y="29790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608160" y="29739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596280" y="29692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586560" y="29642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574680" y="29592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562440" y="29545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552000" y="29494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540120" y="29448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527880" y="29397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518160" y="29347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506280" y="293004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494400" y="29268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482160" y="29217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472080" y="29170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459840" y="29149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447600" y="29098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435720" y="2905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426000" y="29001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414120" y="28972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402240" y="28922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390000" y="28904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378120" y="2885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367680" y="28825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355440" y="28778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343560" y="28728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331680" y="2870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319440" y="28659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309720" y="28630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297840" y="2860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285600" y="28558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273720" y="28530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261840" y="28512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249600" y="28461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239160" y="28432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227280" y="28411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215040" y="2838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203160" y="2833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191280" y="28314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179040" y="28281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167160" y="282672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155280" y="28234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143040" y="28184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133320" y="2816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121440" y="28137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109200" y="28116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097320" y="2808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085440" y="28065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073200" y="28036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061320" y="28018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049440" y="27990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037200" y="27968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024960" y="27939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013080" y="27918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001200" y="27918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990760" y="27889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978520" y="27871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966640" y="27842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954400" y="27820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942520" y="2779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930640" y="2779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918400" y="27770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906520" y="27741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894640" y="27741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882400" y="27723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870160" y="27694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858280" y="27673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846400" y="27673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834160" y="27644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822280" y="27644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810400" y="2762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798160" y="27626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786280" y="27597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0" name=""/>
            <p:cNvSpPr/>
            <p:nvPr/>
          </p:nvSpPr>
          <p:spPr>
            <a:xfrm>
              <a:off x="5774400" y="27576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62520" y="27576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750280" y="27547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738400" y="27547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726520" y="27547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714280" y="2752920"/>
              <a:ext cx="648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702040" y="27529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690160" y="27500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678280" y="27500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666040" y="27500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654160" y="27478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641920" y="2747880"/>
              <a:ext cx="648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630040" y="2747880"/>
              <a:ext cx="648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617800" y="27478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605920" y="27450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594040" y="27450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581800" y="27450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569920" y="27450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557680" y="2743200"/>
              <a:ext cx="648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545800" y="2743200"/>
              <a:ext cx="648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533560" y="27432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521680" y="27432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509800" y="27432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497560" y="27432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485680" y="27432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473440" y="2743200"/>
              <a:ext cx="648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461560" y="2743200"/>
              <a:ext cx="648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449680" y="27432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8" name=""/>
          <p:cNvSpPr/>
          <p:nvPr/>
        </p:nvSpPr>
        <p:spPr>
          <a:xfrm>
            <a:off x="5854680" y="2860560"/>
            <a:ext cx="13064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377240" y="3216240"/>
            <a:ext cx="1303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otiate Q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802.11W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3933720" y="3215880"/>
            <a:ext cx="1828800" cy="590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706908-AF34-465C-9355-270D345FF3C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End-to-end QoS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ts val="29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Scenar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Example-B, SoHo and Enterprise environmen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627280" y="3816360"/>
            <a:ext cx="271440" cy="298440"/>
          </a:xfrm>
          <a:prstGeom prst="rect">
            <a:avLst/>
          </a:prstGeom>
          <a:noFill/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571840" y="4178160"/>
            <a:ext cx="48420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415600" y="4222800"/>
            <a:ext cx="54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670120" y="3875040"/>
            <a:ext cx="17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723760" y="39178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887640" y="3106800"/>
            <a:ext cx="271440" cy="299880"/>
          </a:xfrm>
          <a:prstGeom prst="rect">
            <a:avLst/>
          </a:prstGeom>
          <a:noFill/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833640" y="3470400"/>
            <a:ext cx="14655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327560" y="2911320"/>
            <a:ext cx="1343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323 Video Conferencing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932280" y="3166920"/>
            <a:ext cx="1699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988800" y="32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641920" y="3936960"/>
            <a:ext cx="271440" cy="298440"/>
          </a:xfrm>
          <a:prstGeom prst="rect">
            <a:avLst/>
          </a:prstGeom>
          <a:noFill/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133960" y="4411800"/>
            <a:ext cx="13222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791320" y="4344840"/>
            <a:ext cx="365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688000" y="3995640"/>
            <a:ext cx="1746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741640" y="4038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4057560" y="4818240"/>
            <a:ext cx="1196640" cy="602640"/>
            <a:chOff x="4057560" y="4818240"/>
            <a:chExt cx="1196640" cy="602640"/>
          </a:xfrm>
        </p:grpSpPr>
        <p:sp>
          <p:nvSpPr>
            <p:cNvPr id="929" name=""/>
            <p:cNvSpPr/>
            <p:nvPr/>
          </p:nvSpPr>
          <p:spPr>
            <a:xfrm>
              <a:off x="4111560" y="4818240"/>
              <a:ext cx="273600" cy="299520"/>
            </a:xfrm>
            <a:prstGeom prst="rect">
              <a:avLst/>
            </a:prstGeom>
            <a:noFill/>
            <a:ln w="5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057560" y="5181840"/>
              <a:ext cx="7570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116600" y="5226480"/>
              <a:ext cx="1137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rsonal comp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156920" y="4877280"/>
              <a:ext cx="171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215600" y="4919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4" name=""/>
          <p:cNvSpPr/>
          <p:nvPr/>
        </p:nvSpPr>
        <p:spPr>
          <a:xfrm>
            <a:off x="1716120" y="3933720"/>
            <a:ext cx="3715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31200" y="3816360"/>
            <a:ext cx="154440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connections lik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SL and Cable mod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905120" y="3962520"/>
            <a:ext cx="712800" cy="0"/>
          </a:xfrm>
          <a:prstGeom prst="line">
            <a:avLst/>
          </a:prstGeom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2441520" y="2870280"/>
            <a:ext cx="1910880" cy="1185480"/>
            <a:chOff x="2441520" y="2870280"/>
            <a:chExt cx="1910880" cy="1185480"/>
          </a:xfrm>
        </p:grpSpPr>
        <p:sp>
          <p:nvSpPr>
            <p:cNvPr id="938" name=""/>
            <p:cNvSpPr/>
            <p:nvPr/>
          </p:nvSpPr>
          <p:spPr>
            <a:xfrm>
              <a:off x="4347360" y="28702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336200" y="2870280"/>
              <a:ext cx="7200" cy="68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7" y="7"/>
                  </a:moveTo>
                  <a:lnTo>
                    <a:pt x="10" y="5"/>
                  </a:lnTo>
                  <a:lnTo>
                    <a:pt x="10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325040" y="2870280"/>
              <a:ext cx="7200" cy="68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7" y="7"/>
                  </a:moveTo>
                  <a:lnTo>
                    <a:pt x="10" y="5"/>
                  </a:lnTo>
                  <a:lnTo>
                    <a:pt x="10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313520" y="2870280"/>
              <a:ext cx="7200" cy="68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7" y="7"/>
                  </a:moveTo>
                  <a:lnTo>
                    <a:pt x="10" y="5"/>
                  </a:lnTo>
                  <a:lnTo>
                    <a:pt x="10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302360" y="2870280"/>
              <a:ext cx="7200" cy="68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7" y="7"/>
                  </a:moveTo>
                  <a:lnTo>
                    <a:pt x="10" y="5"/>
                  </a:lnTo>
                  <a:lnTo>
                    <a:pt x="10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291200" y="2870280"/>
              <a:ext cx="7200" cy="68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7" y="7"/>
                  </a:moveTo>
                  <a:lnTo>
                    <a:pt x="10" y="5"/>
                  </a:lnTo>
                  <a:lnTo>
                    <a:pt x="10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281120" y="28702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269960" y="2870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258440" y="2870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247280" y="2870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236120" y="2870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224600" y="28720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213080" y="28720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201920" y="28720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190760" y="28720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179240" y="28749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168080" y="28749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156920" y="28749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145400" y="28749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134240" y="28771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122720" y="28771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111560" y="28800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100040" y="28800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088880" y="28800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077720" y="28818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066200" y="28818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55040" y="28850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043520" y="28850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032360" y="2886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21200" y="2886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009680" y="2889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998520" y="2889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987000" y="28918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975840" y="28947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964320" y="28947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953160" y="28969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942000" y="28969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930480" y="28998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919320" y="29016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907800" y="29044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896640" y="29044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885120" y="29066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873960" y="29095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862800" y="29095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851280" y="29116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840120" y="29145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828600" y="29163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819600" y="2919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808440" y="29214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796920" y="29242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785760" y="2926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774600" y="2929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763080" y="2931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751920" y="2934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740400" y="2936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729240" y="29390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717720" y="294120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706560" y="29440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695400" y="294624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685680" y="294912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674160" y="295092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662640" y="295416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651480" y="295920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640320" y="29610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628800" y="29638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617640" y="29656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606480" y="29689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594960" y="29739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585960" y="2975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574440" y="2978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563280" y="29836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552120" y="29858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540600" y="29887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529440" y="29937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519360" y="29955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508200" y="30006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497040" y="30034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85520" y="30085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474360" y="30103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465360" y="30153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453840" y="3018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442680" y="30232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431160" y="30250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420000" y="3030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410280" y="30351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398760" y="30398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387600" y="30430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376440" y="304812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367440" y="305316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355920" y="30549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344400" y="305964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334680" y="30646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323520" y="30697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312360" y="30747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300840" y="30798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291840" y="3084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280680" y="30895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269160" y="30945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259440" y="30992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248280" y="31042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238920" y="31093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227760" y="31143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216600" y="31190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206520" y="31240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195360" y="31291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183840" y="3136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174840" y="31417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163680" y="31467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153960" y="315180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142440" y="31586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133440" y="31636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121920" y="31683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112200" y="31766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101040" y="3181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092040" y="31885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080880" y="31932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070800" y="31982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059640" y="32061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050640" y="32130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040560" y="32180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029400" y="32259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020400" y="3232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008880" y="32378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999160" y="32454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990160" y="325260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979000" y="32572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968920" y="32655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959920" y="32724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950200" y="3280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939040" y="32871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930040" y="32950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919960" y="33019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910960" y="33098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901240" y="33166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889720" y="33246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880720" y="3331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871000" y="33393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862000" y="33465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852280" y="33562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843280" y="336420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833560" y="33710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824200" y="3381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814480" y="33890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805480" y="33958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795760" y="34059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786760" y="34135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79200" y="34236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769480" y="3433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760120" y="3440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750400" y="345024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742840" y="345996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733840" y="3468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724120" y="34779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716560" y="3487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707560" y="34977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697840" y="35074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690280" y="35175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682720" y="3527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673720" y="35370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666160" y="35470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656080" y="355716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648520" y="356688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640960" y="35787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633400" y="3588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624400" y="35985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616840" y="36082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609280" y="3621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603520" y="3633120"/>
              <a:ext cx="5760" cy="46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5"/>
                  </a:moveTo>
                  <a:lnTo>
                    <a:pt x="5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5"/>
                  </a:lnTo>
                  <a:lnTo>
                    <a:pt x="3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595600" y="36428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588400" y="36558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580840" y="366588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573280" y="36774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567880" y="3690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560320" y="37004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552760" y="37123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547000" y="37249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539440" y="37368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534040" y="37497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527920" y="37616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522880" y="37746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516400" y="37864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511360" y="38012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505240" y="38138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499840" y="38257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494080" y="3838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488680" y="38534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485080" y="38653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481120" y="38800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475360" y="38930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471400" y="39078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467800" y="39196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463840" y="39344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460240" y="39495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456280" y="39621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452680" y="3977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451240" y="39920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447280" y="40068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445120" y="40215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443680" y="4036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441520" y="40482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8" name=""/>
          <p:cNvGrpSpPr/>
          <p:nvPr/>
        </p:nvGrpSpPr>
        <p:grpSpPr>
          <a:xfrm>
            <a:off x="2435400" y="4062240"/>
            <a:ext cx="1750320" cy="1403640"/>
            <a:chOff x="2435400" y="4062240"/>
            <a:chExt cx="1750320" cy="1403640"/>
          </a:xfrm>
        </p:grpSpPr>
        <p:sp>
          <p:nvSpPr>
            <p:cNvPr id="1139" name=""/>
            <p:cNvSpPr/>
            <p:nvPr/>
          </p:nvSpPr>
          <p:spPr>
            <a:xfrm>
              <a:off x="2441520" y="406224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439000" y="407700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437560" y="4091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437560" y="41065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435400" y="41216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435400" y="41364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435400" y="41511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435400" y="416592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435400" y="418068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435400" y="41958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435400" y="42105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437560" y="42253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437560" y="42400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439000" y="42548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441520" y="426960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442960" y="428436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445120" y="4299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446560" y="43142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450520" y="43290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452680" y="43419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456280" y="43567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458080" y="437148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461680" y="43866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465640" y="43984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469240" y="44132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472840" y="44280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478960" y="44406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482560" y="4455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486520" y="446724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491920" y="44820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497680" y="4495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501640" y="45072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506680" y="45198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513160" y="45345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518200" y="45464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524320" y="45594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529720" y="45712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536920" y="458424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543040" y="4596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548440" y="4608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556000" y="46206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561760" y="46335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569320" y="4645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576880" y="4655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582280" y="46681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589840" y="468000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597400" y="468972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604960" y="4702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612520" y="47127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620080" y="47246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627640" y="47343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635200" y="47440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644920" y="47570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652120" y="47667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660040" y="477684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667600" y="478692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676600" y="47966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684160" y="4806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693880" y="48186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701440" y="48283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710440" y="48380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718000" y="48459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727720" y="48556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736720" y="48657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744280" y="48754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754000" y="48826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763360" y="48924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770560" y="49024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780640" y="49104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789640" y="49201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799360" y="49273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808360" y="49370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818080" y="49449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827080" y="49546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837160" y="49615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846160" y="49694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855880" y="497952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864880" y="498636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874600" y="49942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883600" y="50014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893680" y="50090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902680" y="50162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912400" y="50241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923560" y="50310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932920" y="50389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942640" y="5045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951640" y="5053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962800" y="50605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972880" y="50684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981520" y="507528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991600" y="508356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002760" y="508824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011760" y="50950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021480" y="51030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033000" y="51080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042000" y="51148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053160" y="51228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063240" y="51278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072240" y="51346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083400" y="51397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093120" y="5147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104640" y="5152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113640" y="51595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124800" y="51642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134880" y="51692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146040" y="51771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155040" y="518220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166560" y="518724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177720" y="519228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187440" y="51987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198600" y="5204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207600" y="52088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219120" y="52138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230640" y="52189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240360" y="52236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251520" y="52286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260520" y="52336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271680" y="52416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283200" y="52462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292920" y="5248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304440" y="5253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315600" y="5258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326760" y="52632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336120" y="52682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347280" y="52729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358440" y="527796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368520" y="52808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379680" y="528588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390840" y="529092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402360" y="529596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411360" y="529776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422520" y="53028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434040" y="53078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445200" y="53107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454920" y="53157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466440" y="53175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477600" y="53226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488760" y="53254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500280" y="53305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509280" y="53323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520440" y="53373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531960" y="53402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543120" y="5345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554640" y="53470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565800" y="5350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575520" y="53550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586680" y="5357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598200" y="53622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609720" y="53650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620880" y="53668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632040" y="53697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643560" y="53719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654720" y="53769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663720" y="53798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674880" y="538164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686400" y="53845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697920" y="53866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709080" y="538992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720240" y="539172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731760" y="539460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742920" y="539640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754080" y="53996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765600" y="54014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775320" y="5406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786480" y="5406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798000" y="54097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809160" y="54115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820320" y="54144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831840" y="54165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843360" y="54194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854520" y="54216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865680" y="54244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877200" y="54244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888360" y="54262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899520" y="54291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3911040" y="54313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922200" y="54313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933720" y="54342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944880" y="54363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956040" y="54363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967560" y="5439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979080" y="5441040"/>
              <a:ext cx="3600" cy="75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990240" y="54410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999240" y="54439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010400" y="54439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021920" y="54460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033080" y="54460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044240" y="54489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055760" y="54489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066920" y="54511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078440" y="54511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089600" y="54540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101120" y="54540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112280" y="54540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123440" y="54558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134960" y="54558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146120" y="54590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157640" y="54590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168800" y="54590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179960" y="54590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4191120" y="4478400"/>
            <a:ext cx="2020320" cy="992160"/>
            <a:chOff x="4191120" y="4478400"/>
            <a:chExt cx="2020320" cy="992160"/>
          </a:xfrm>
        </p:grpSpPr>
        <p:sp>
          <p:nvSpPr>
            <p:cNvPr id="1340" name=""/>
            <p:cNvSpPr/>
            <p:nvPr/>
          </p:nvSpPr>
          <p:spPr>
            <a:xfrm>
              <a:off x="4191120" y="5460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202280" y="5460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213440" y="54608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224960" y="54608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236120" y="5463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247640" y="5463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258800" y="5463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269960" y="5463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281480" y="54637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292640" y="54637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304160" y="5463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315320" y="5463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326840" y="5463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338000" y="5463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349160" y="5463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360680" y="54637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371840" y="54637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383360" y="5463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394520" y="5463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406040" y="5463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417200" y="5463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428360" y="5463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439880" y="54637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451040" y="54637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462560" y="5460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473720" y="5460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484880" y="5460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496400" y="5460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507560" y="5460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519080" y="54586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530240" y="54586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541760" y="5458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552920" y="54558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564080" y="54558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575600" y="54558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586760" y="54536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597920" y="54536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609440" y="54536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620960" y="54507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632120" y="54507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643280" y="54489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654800" y="54489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665960" y="54457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677120" y="54457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688640" y="54439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700160" y="54439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711320" y="54410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722480" y="54388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734000" y="54388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745160" y="54360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756320" y="54342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767840" y="54342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779000" y="54309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790520" y="54291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801680" y="54291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813200" y="54262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824360" y="54241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834080" y="54212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845600" y="54212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856760" y="54190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867920" y="54162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879440" y="54144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890600" y="54115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902120" y="5409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913280" y="5406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924800" y="5404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935960" y="540144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947120" y="5399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958640" y="539640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969800" y="539460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978800" y="539136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990320" y="538956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001480" y="53866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013000" y="53845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024160" y="53816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035680" y="53794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046840" y="53748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058000" y="53719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069520" y="53697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079240" y="53668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090400" y="53647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101920" y="53600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113080" y="5357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124600" y="5352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135760" y="53499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147280" y="53470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156280" y="53424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167440" y="53402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178960" y="53373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190120" y="53323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201280" y="53305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211000" y="53254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222520" y="53204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234040" y="53175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245200" y="53125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256360" y="53107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265360" y="5305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276880" y="53024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288040" y="529776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299200" y="529272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309280" y="52876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320440" y="528588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331960" y="52808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343120" y="52758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352120" y="52711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363640" y="52660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374800" y="52632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384520" y="5258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396040" y="5253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407200" y="5248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418720" y="52434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427720" y="52387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438880" y="52336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448600" y="52286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460120" y="52239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471280" y="52189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480280" y="52138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491800" y="5208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502960" y="52020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512680" y="5197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524200" y="519228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533200" y="518724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544720" y="517932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554440" y="51742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565600" y="51692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574600" y="51624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5586120" y="51573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5595840" y="5149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607000" y="5144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616000" y="51379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627520" y="51328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637240" y="51249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648400" y="51202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657760" y="51130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667480" y="51084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678640" y="51001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687640" y="509364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697720" y="508860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708880" y="50803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717880" y="50734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727600" y="50655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739120" y="50587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748120" y="50508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757840" y="50439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766840" y="50389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778360" y="50292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788080" y="50212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5797080" y="50144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806800" y="50065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815800" y="4999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825520" y="49917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834880" y="498492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844600" y="49748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853600" y="49669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863320" y="49600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872680" y="49521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882400" y="4942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891400" y="49352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901120" y="49255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910120" y="49176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920200" y="49078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928840" y="4901040"/>
              <a:ext cx="3600" cy="68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936760" y="48909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946480" y="488124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955480" y="48711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963040" y="48632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972760" y="48535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981760" y="48434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989320" y="48337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999400" y="48240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006960" y="48139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015960" y="48042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023520" y="479412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030720" y="47844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040800" y="47743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048000" y="47624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055560" y="47527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063120" y="47430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072120" y="47329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079680" y="47203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087600" y="47102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093360" y="4698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100920" y="4688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108480" y="46756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116040" y="46638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123600" y="46540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129000" y="46411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136560" y="46292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143760" y="46166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150240" y="46047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155280" y="459180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162840" y="457992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168960" y="45669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174360" y="45550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180120" y="4542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185520" y="45306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191640" y="45180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196680" y="45032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202800" y="4491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206400" y="447840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4670280" y="2887560"/>
            <a:ext cx="1595160" cy="1582560"/>
            <a:chOff x="4670280" y="2887560"/>
            <a:chExt cx="1595160" cy="1582560"/>
          </a:xfrm>
        </p:grpSpPr>
        <p:sp>
          <p:nvSpPr>
            <p:cNvPr id="1541" name=""/>
            <p:cNvSpPr/>
            <p:nvPr/>
          </p:nvSpPr>
          <p:spPr>
            <a:xfrm>
              <a:off x="6209280" y="446220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214680" y="4450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218280" y="44355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224400" y="44229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228360" y="44082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231960" y="4393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233400" y="438156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237000" y="43664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240960" y="4351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243120" y="43369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247080" y="43221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248520" y="43095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250680" y="4294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252480" y="42796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254640" y="42649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256080" y="42501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258240" y="42354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258240" y="42206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259680" y="42058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259680" y="41911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259680" y="41760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259680" y="41612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259680" y="41464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259680" y="41317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259680" y="41169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258240" y="41022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258240" y="4087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256080" y="407232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254640" y="40575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252480" y="40428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250680" y="40280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247080" y="40161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244920" y="40014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5"/>
                  </a:move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243120" y="3986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239520" y="397188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235920" y="39567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231960" y="3943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228360" y="39290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224400" y="39142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220440" y="39024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216840" y="3887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212880" y="38746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207120" y="385992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203160" y="38480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5"/>
                  </a:move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198120" y="38332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192000" y="38206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186600" y="38088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180840" y="3795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175440" y="37810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169320" y="376920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5"/>
                  </a:move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164280" y="375624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158160" y="37443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5"/>
                  </a:move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150600" y="37317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145200" y="37198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137640" y="3706920"/>
              <a:ext cx="7200" cy="75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5"/>
                  </a:moveTo>
                  <a:lnTo>
                    <a:pt x="5" y="8"/>
                  </a:lnTo>
                  <a:lnTo>
                    <a:pt x="7" y="8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131520" y="36972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124320" y="3685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5"/>
                  </a:move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118920" y="36723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111360" y="366048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103800" y="36504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096240" y="3637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088680" y="36280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081120" y="36162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073920" y="36061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066000" y="35935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058440" y="3583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050880" y="35737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041160" y="35636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033960" y="35517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5"/>
                  </a:move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026400" y="35420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017400" y="35319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009840" y="3522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5999760" y="35125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992200" y="35024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984640" y="3492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975640" y="34830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965920" y="34750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958360" y="34650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949360" y="34549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939640" y="34452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930640" y="3438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923080" y="34282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913360" y="34207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904000" y="34106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894280" y="34038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885280" y="33940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875560" y="33861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866560" y="33760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5856840" y="33692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847840" y="33613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837760" y="335124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828760" y="33444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819040" y="33364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810040" y="3329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800320" y="33217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791320" y="33148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781600" y="33069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770080" y="33001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5761080" y="32922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751360" y="32853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742000" y="3277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730840" y="32706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721120" y="326232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712120" y="325584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702400" y="324756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690880" y="32428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681880" y="32356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670720" y="3228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661000" y="32230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651640" y="3216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640480" y="32083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630760" y="32032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619240" y="31964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610600" y="31914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599080" y="3183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5589360" y="31788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577840" y="31737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5568840" y="31669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557680" y="316188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547960" y="315684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5536440" y="314892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527440" y="31438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516280" y="31392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506560" y="31341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495040" y="312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483880" y="3122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474880" y="3117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463360" y="31125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453640" y="31075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442480" y="31024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430960" y="30978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421960" y="30927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410800" y="30877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399280" y="30830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389560" y="30780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378400" y="30729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366880" y="30682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357880" y="3063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346720" y="305820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335200" y="30549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324040" y="30502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314320" y="30452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302800" y="30430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291640" y="30384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280480" y="30333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271480" y="3028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259960" y="3025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248800" y="3020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237640" y="30186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226120" y="30135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216400" y="30106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204880" y="30060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193720" y="30009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182560" y="29988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171040" y="29941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162040" y="29912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150880" y="29890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139360" y="29840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128200" y="2981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117040" y="2979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105520" y="2974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095800" y="29714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084640" y="2969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073120" y="296604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061960" y="296136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5050440" y="295956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039280" y="295632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5028120" y="295452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016600" y="29512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005440" y="29466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996440" y="29444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4984920" y="29415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973760" y="29394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962240" y="29365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951080" y="29347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939920" y="29318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928760" y="29296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4917240" y="2926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905720" y="2924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4894560" y="2921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883400" y="29199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871880" y="29199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862160" y="29170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4851000" y="29149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4839480" y="29120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828320" y="29098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817160" y="29070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4805640" y="29070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4794480" y="29052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4783320" y="29023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771800" y="29023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760640" y="29001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749120" y="28972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737960" y="28951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726800" y="28951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715280" y="28922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704120" y="28922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692960" y="28904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681440" y="28904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670280" y="28875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1" name=""/>
          <p:cNvSpPr/>
          <p:nvPr/>
        </p:nvSpPr>
        <p:spPr>
          <a:xfrm>
            <a:off x="4659480" y="2884320"/>
            <a:ext cx="4680" cy="828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4646520" y="2884320"/>
            <a:ext cx="6480" cy="828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4635360" y="2882880"/>
            <a:ext cx="6480" cy="648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624560" y="2882880"/>
            <a:ext cx="6120" cy="648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613400" y="2882880"/>
            <a:ext cx="6120" cy="648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4602240" y="2879640"/>
            <a:ext cx="612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4591080" y="2879640"/>
            <a:ext cx="46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4579920" y="2878200"/>
            <a:ext cx="4680" cy="612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4568760" y="2878200"/>
            <a:ext cx="4680" cy="612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4556160" y="2878200"/>
            <a:ext cx="6480" cy="612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4545000" y="287496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4533840" y="287496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4522680" y="287496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4511520" y="287496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4500720" y="2873520"/>
            <a:ext cx="4680" cy="612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4489560" y="2873520"/>
            <a:ext cx="4680" cy="612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4478400" y="2873520"/>
            <a:ext cx="4680" cy="612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4465800" y="2873520"/>
            <a:ext cx="6120" cy="612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4454640" y="2870280"/>
            <a:ext cx="612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4443480" y="2870280"/>
            <a:ext cx="612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4432320" y="287028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4421160" y="287028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410000" y="2870280"/>
            <a:ext cx="46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4398840" y="2870280"/>
            <a:ext cx="504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4387680" y="2870280"/>
            <a:ext cx="504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4375080" y="287028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4363920" y="287028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4352760" y="287028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4734000" y="2989440"/>
            <a:ext cx="12272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1897200" y="5359320"/>
            <a:ext cx="3711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6554880" y="3968640"/>
            <a:ext cx="173340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connections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of wired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5913360" y="4100400"/>
            <a:ext cx="633600" cy="0"/>
          </a:xfrm>
          <a:prstGeom prst="line">
            <a:avLst/>
          </a:prstGeom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2970360" y="4056120"/>
            <a:ext cx="2622240" cy="117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3332160" y="3719520"/>
            <a:ext cx="20797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otiate Qos within 802.11W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pass the requirements fur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C8A3BD-2DC2-4E60-8197-4CC541581B3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End-to-end QoS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772400" cy="50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ts val="29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it can be achiev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 analyzes and converts the semantics of an outside QoS connection into similar semantics on the 802.11-W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 negotiates the 802.11- WLAN QoS based on requests from an outside connection using the already discussed mechanism within 802.11-W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 reject an outside connection or renegotiate the Qos, if the requested QoS cannot be achieved on 802.11-W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 passes on the QoS requests from an outside connection through the 802.11-WLAN to the rx device for furth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D4A710-F800-4CDD-BCB4-9196F095F6E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End-to-end QoS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533160" y="1584000"/>
            <a:ext cx="8458200" cy="352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ts val="29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SVP type of Layer-3 messages for Q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to 802.11-MAC (at Layer-3) must handle the RSVP type of bandwidth requests and inform the MAC through an interface. 802.11-MAC must not handle/alter RSVP type of Layer-3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C must use the mechanism in our proposal to control the bandwidth usage and achieve Q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MAC can not achieve the required QoS, it should inform the application and also signal the achievable Q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E12D86-ED77-4748-AD12-A6816F011B7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End-to-end QoS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533160" y="1584000"/>
            <a:ext cx="8458200" cy="352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ts val="29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SVP type of Layer-3 messages for QoS (cntd.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pplication must either disconnect the stream or generate RSVP response type of Layer-3 messages to inform the peer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tains the advantages of layering as defined and mandated by 8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ly QoS Interfaces between the Layer-3 and MAC must be made generic so that similar QoS can be achieved on all QoS-aware MA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BA9ED9-050A-4E84-AC19-C3BF8E68E05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2T01:29:48Z</dcterms:created>
  <dc:creator>Dr. Rajugopal Gubbi, Wim Diepstraten and Jin-Meng Ho</dc:creator>
  <dc:description/>
  <cp:keywords>wireless networks architecture whitecap home networks isochronous streams network services</cp:keywords>
  <dc:language>en-US</dc:language>
  <cp:lastModifiedBy>Harry R. Worstell</cp:lastModifiedBy>
  <cp:lastPrinted>2000-03-02T01:29:59Z</cp:lastPrinted>
  <dcterms:modified xsi:type="dcterms:W3CDTF">2000-03-07T17:52:52Z</dcterms:modified>
  <cp:revision>849</cp:revision>
  <dc:subject>Joint proposal by Sharewave, Lucent and AT&amp;T</dc:subject>
  <dc:title>QoS extensions to 802.11 MAC</dc:title>
</cp:coreProperties>
</file>